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B65-5F10-464D-85C0-A0CE512B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DB2-F765-40C0-9B23-783F8110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CDA-113C-4AD4-9EEA-202A6F1C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C81-ACA8-4A43-AF8D-2A6D3B9E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9EC-E580-46D9-B0FF-F2FC50A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B31-707E-4242-95C3-0E5666A5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08B-6CE1-4FCF-A890-66228D0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34D-FB4C-48D2-B307-CBF6A068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B39-14A8-4D9B-8D08-6EF033B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9C8-C33C-46D7-B9AA-767D338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FFF-697C-4BCA-93AA-62A322E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FEA-EE0E-4FF2-BADC-3402069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A2A-36DE-4BBC-B0FB-F051A200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81240" y="269640"/>
            <a:ext cx="44388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ejloshtonoj en mekaniko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n prilaborad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1680" y="0"/>
            <a:ext cx="0" cy="63514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8361360" y="399960"/>
            <a:ext cx="219240" cy="228600"/>
          </a:xfrm>
          <a:custGeom>
            <a:avLst/>
            <a:gdLst>
              <a:gd name="textAreaLeft" fmla="*/ 14040 w 219240"/>
              <a:gd name="textAreaRight" fmla="*/ 205200 w 21924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2521">
                <a:moveTo>
                  <a:pt x="0" y="0"/>
                </a:moveTo>
                <a:lnTo>
                  <a:pt x="21600" y="0"/>
                </a:lnTo>
                <a:lnTo>
                  <a:pt x="21600" y="22521"/>
                </a:lnTo>
                <a:lnTo>
                  <a:pt x="0" y="22521"/>
                </a:lnTo>
                <a:close/>
              </a:path>
              <a:path fill="lightenLess" w="21600" h="225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21">
                <a:moveTo>
                  <a:pt x="21600" y="0"/>
                </a:moveTo>
                <a:lnTo>
                  <a:pt x="21600" y="22521"/>
                </a:lnTo>
                <a:lnTo>
                  <a:pt x="20200" y="21121"/>
                </a:lnTo>
                <a:lnTo>
                  <a:pt x="20200" y="1400"/>
                </a:lnTo>
                <a:close/>
              </a:path>
              <a:path fill="darkenLess" w="21600" h="22521">
                <a:moveTo>
                  <a:pt x="21600" y="22521"/>
                </a:moveTo>
                <a:lnTo>
                  <a:pt x="0" y="22521"/>
                </a:lnTo>
                <a:lnTo>
                  <a:pt x="1400" y="21121"/>
                </a:lnTo>
                <a:lnTo>
                  <a:pt x="20200" y="21121"/>
                </a:lnTo>
                <a:close/>
              </a:path>
              <a:path fill="lighten" w="21600" h="22521">
                <a:moveTo>
                  <a:pt x="0" y="225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21"/>
                </a:lnTo>
                <a:close/>
              </a:path>
              <a:path fill="darken" w="21600" h="22521">
                <a:moveTo>
                  <a:pt x="3794" y="11260"/>
                </a:moveTo>
                <a:lnTo>
                  <a:pt x="17806" y="4254"/>
                </a:lnTo>
                <a:lnTo>
                  <a:pt x="17806" y="1826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71480" y="3651120"/>
            <a:ext cx="6934320" cy="337320"/>
            <a:chOff x="771480" y="3651120"/>
            <a:chExt cx="6934320" cy="337320"/>
          </a:xfrm>
        </p:grpSpPr>
        <p:sp>
          <p:nvSpPr>
            <p:cNvPr id="45" name=""/>
            <p:cNvSpPr/>
            <p:nvPr/>
          </p:nvSpPr>
          <p:spPr>
            <a:xfrm>
              <a:off x="1609920" y="3651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l.C. Navi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785 - 183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1480" y="3651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87320" y="2813040"/>
            <a:ext cx="6934320" cy="459000"/>
            <a:chOff x="787320" y="2813040"/>
            <a:chExt cx="6934320" cy="459000"/>
          </a:xfrm>
        </p:grpSpPr>
        <p:sp>
          <p:nvSpPr>
            <p:cNvPr id="48" name=""/>
            <p:cNvSpPr/>
            <p:nvPr/>
          </p:nvSpPr>
          <p:spPr>
            <a:xfrm>
              <a:off x="1625760" y="281304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. L. de Lagrang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36 - 1813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itika mekanik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7320" y="28130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97040" y="3247920"/>
            <a:ext cx="6933600" cy="337320"/>
            <a:chOff x="797040" y="3247920"/>
            <a:chExt cx="6933600" cy="337320"/>
          </a:xfrm>
        </p:grpSpPr>
        <p:sp>
          <p:nvSpPr>
            <p:cNvPr id="51" name=""/>
            <p:cNvSpPr/>
            <p:nvPr/>
          </p:nvSpPr>
          <p:spPr>
            <a:xfrm>
              <a:off x="1635120" y="324792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. F. Gaus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77 - 185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7040" y="3247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9120" y="2438280"/>
            <a:ext cx="6933600" cy="337320"/>
            <a:chOff x="789120" y="2438280"/>
            <a:chExt cx="6933600" cy="337320"/>
          </a:xfrm>
        </p:grpSpPr>
        <p:sp>
          <p:nvSpPr>
            <p:cNvPr id="54" name=""/>
            <p:cNvSpPr/>
            <p:nvPr/>
          </p:nvSpPr>
          <p:spPr>
            <a:xfrm>
              <a:off x="1627200" y="243828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. Eul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07 - 178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9120" y="24382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08200" y="5541840"/>
            <a:ext cx="6933600" cy="641520"/>
            <a:chOff x="808200" y="5541840"/>
            <a:chExt cx="6933600" cy="641520"/>
          </a:xfrm>
        </p:grpSpPr>
        <p:sp>
          <p:nvSpPr>
            <p:cNvPr id="57" name=""/>
            <p:cNvSpPr/>
            <p:nvPr/>
          </p:nvSpPr>
          <p:spPr>
            <a:xfrm>
              <a:off x="1646280" y="5541840"/>
              <a:ext cx="609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arl Wilhelm Culmann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21 - 1881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grafikaj metodoj de statiko - je devizo: signo estas lingvo de ingheniero.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Die graphische Statik, 1864 Züric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8200" y="55418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09640" y="954000"/>
            <a:ext cx="6934320" cy="337320"/>
            <a:chOff x="809640" y="954000"/>
            <a:chExt cx="6934320" cy="337320"/>
          </a:xfrm>
        </p:grpSpPr>
        <p:sp>
          <p:nvSpPr>
            <p:cNvPr id="60" name=""/>
            <p:cNvSpPr/>
            <p:nvPr/>
          </p:nvSpPr>
          <p:spPr>
            <a:xfrm>
              <a:off x="1648080" y="9540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. Moh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640 - 169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9640" y="9540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03160" y="4765680"/>
            <a:ext cx="6919920" cy="641520"/>
            <a:chOff x="803160" y="4765680"/>
            <a:chExt cx="6919920" cy="641520"/>
          </a:xfrm>
        </p:grpSpPr>
        <p:grpSp>
          <p:nvGrpSpPr>
            <p:cNvPr id="63" name=""/>
            <p:cNvGrpSpPr/>
            <p:nvPr/>
          </p:nvGrpSpPr>
          <p:grpSpPr>
            <a:xfrm>
              <a:off x="803160" y="4765680"/>
              <a:ext cx="6919920" cy="641520"/>
              <a:chOff x="803160" y="4765680"/>
              <a:chExt cx="6919920" cy="641520"/>
            </a:xfrm>
          </p:grpSpPr>
          <p:sp>
            <p:nvSpPr>
              <p:cNvPr id="64" name=""/>
              <p:cNvSpPr/>
              <p:nvPr/>
            </p:nvSpPr>
            <p:spPr>
              <a:xfrm>
                <a:off x="1627200" y="4765680"/>
                <a:ext cx="6095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Thomas Youn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(1773 - 1829)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- enkondukis nocion de energi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-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zuris koeficienton 1/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3160" y="4983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80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366920" y="5154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95240" y="4029120"/>
            <a:ext cx="6934320" cy="824760"/>
            <a:chOff x="795240" y="4029120"/>
            <a:chExt cx="6934320" cy="824760"/>
          </a:xfrm>
        </p:grpSpPr>
        <p:sp>
          <p:nvSpPr>
            <p:cNvPr id="68" name=""/>
            <p:cNvSpPr/>
            <p:nvPr/>
          </p:nvSpPr>
          <p:spPr>
            <a:xfrm>
              <a:off x="1633680" y="4029120"/>
              <a:ext cx="609588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 Clapeyro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799 - 1864)  &amp;  G. Lamé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apeyron was the first to offer a practical solation to the problem of continuous beams over supports. His Three Moment Method was widely  used well into the 20th centur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240" y="4029120"/>
              <a:ext cx="6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819000" y="1419120"/>
            <a:ext cx="6934320" cy="337320"/>
            <a:chOff x="819000" y="1419120"/>
            <a:chExt cx="6934320" cy="337320"/>
          </a:xfrm>
        </p:grpSpPr>
        <p:sp>
          <p:nvSpPr>
            <p:cNvPr id="71" name=""/>
            <p:cNvSpPr/>
            <p:nvPr/>
          </p:nvSpPr>
          <p:spPr>
            <a:xfrm>
              <a:off x="1657440" y="1419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ohann Bernoulli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667 - 174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000" y="1419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50960" y="1801800"/>
            <a:ext cx="6960600" cy="486360"/>
            <a:chOff x="750960" y="1801800"/>
            <a:chExt cx="6960600" cy="486360"/>
          </a:xfrm>
        </p:grpSpPr>
        <p:sp>
          <p:nvSpPr>
            <p:cNvPr id="74" name=""/>
            <p:cNvSpPr/>
            <p:nvPr/>
          </p:nvSpPr>
          <p:spPr>
            <a:xfrm>
              <a:off x="1330200" y="2120760"/>
              <a:ext cx="228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16040" y="1801800"/>
              <a:ext cx="609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bert Hook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635 - 1703)</a:t>
              </a:r>
              <a:br>
                <a:rPr sz="1200"/>
              </a:b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is rilaton inter strecho kaj defor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0960" y="19508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6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60440" y="5688000"/>
            <a:ext cx="23184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81040" y="0"/>
            <a:ext cx="14400" cy="6119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01720" y="4226040"/>
            <a:ext cx="7994520" cy="469080"/>
            <a:chOff x="801720" y="4226040"/>
            <a:chExt cx="7994520" cy="469080"/>
          </a:xfrm>
        </p:grpSpPr>
        <p:sp>
          <p:nvSpPr>
            <p:cNvPr id="80" name=""/>
            <p:cNvSpPr/>
            <p:nvPr/>
          </p:nvSpPr>
          <p:spPr>
            <a:xfrm>
              <a:off x="1652760" y="4226040"/>
              <a:ext cx="714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O. C. Zienkiewicz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 (1921 - ):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he Finite Element Method in Structural and Continuum Mechanics, McGraw-Hill, 1967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1720" y="43578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09640" y="2771640"/>
            <a:ext cx="6934320" cy="459000"/>
            <a:chOff x="809640" y="2771640"/>
            <a:chExt cx="6934320" cy="459000"/>
          </a:xfrm>
        </p:grpSpPr>
        <p:sp>
          <p:nvSpPr>
            <p:cNvPr id="83" name=""/>
            <p:cNvSpPr/>
            <p:nvPr/>
          </p:nvSpPr>
          <p:spPr>
            <a:xfrm>
              <a:off x="1648080" y="277164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üller - Breslau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51 - 1925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influo-linio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9640" y="2771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97040" y="2236680"/>
            <a:ext cx="6933600" cy="337320"/>
            <a:chOff x="797040" y="2236680"/>
            <a:chExt cx="6933600" cy="337320"/>
          </a:xfrm>
        </p:grpSpPr>
        <p:sp>
          <p:nvSpPr>
            <p:cNvPr id="86" name=""/>
            <p:cNvSpPr/>
            <p:nvPr/>
          </p:nvSpPr>
          <p:spPr>
            <a:xfrm>
              <a:off x="1635120" y="223668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rlo Alberto Castigliano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47 - 188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" y="22366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352000" y="399960"/>
            <a:ext cx="228600" cy="238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8320"/>
              <a:gd name="textAreaBottom" fmla="*/ 223560 h 238320"/>
            </a:gdLst>
            <a:ahLst/>
            <a:rect l="textAreaLeft" t="textAreaTop" r="textAreaRight" b="textAreaBottom"/>
            <a:pathLst>
              <a:path w="21600" h="22517">
                <a:moveTo>
                  <a:pt x="0" y="0"/>
                </a:moveTo>
                <a:lnTo>
                  <a:pt x="21600" y="0"/>
                </a:lnTo>
                <a:lnTo>
                  <a:pt x="21600" y="22517"/>
                </a:lnTo>
                <a:lnTo>
                  <a:pt x="0" y="22517"/>
                </a:lnTo>
                <a:close/>
              </a:path>
              <a:path fill="lightenLess" w="21600" h="22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17">
                <a:moveTo>
                  <a:pt x="21600" y="0"/>
                </a:moveTo>
                <a:lnTo>
                  <a:pt x="21600" y="22517"/>
                </a:lnTo>
                <a:lnTo>
                  <a:pt x="20200" y="21117"/>
                </a:lnTo>
                <a:lnTo>
                  <a:pt x="20200" y="1400"/>
                </a:lnTo>
                <a:close/>
              </a:path>
              <a:path fill="darkenLess" w="21600" h="22517">
                <a:moveTo>
                  <a:pt x="21600" y="22517"/>
                </a:moveTo>
                <a:lnTo>
                  <a:pt x="0" y="22517"/>
                </a:lnTo>
                <a:lnTo>
                  <a:pt x="1400" y="21117"/>
                </a:lnTo>
                <a:lnTo>
                  <a:pt x="20200" y="21117"/>
                </a:lnTo>
                <a:close/>
              </a:path>
              <a:path fill="lighten" w="21600" h="22517">
                <a:moveTo>
                  <a:pt x="0" y="22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17"/>
                </a:lnTo>
                <a:close/>
              </a:path>
              <a:path fill="darken" w="21600" h="22517">
                <a:moveTo>
                  <a:pt x="3794" y="11258"/>
                </a:moveTo>
                <a:lnTo>
                  <a:pt x="17806" y="4252"/>
                </a:lnTo>
                <a:lnTo>
                  <a:pt x="17806" y="182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3560" y="655560"/>
            <a:ext cx="6924600" cy="489960"/>
            <a:chOff x="763560" y="655560"/>
            <a:chExt cx="6924600" cy="489960"/>
          </a:xfrm>
        </p:grpSpPr>
        <p:sp>
          <p:nvSpPr>
            <p:cNvPr id="90" name=""/>
            <p:cNvSpPr/>
            <p:nvPr/>
          </p:nvSpPr>
          <p:spPr>
            <a:xfrm>
              <a:off x="1592280" y="65556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. Cremon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30 - 1903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roduzione ad una teoria geometrica delle curve piane, Bologna 18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3560" y="808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370160" y="977760"/>
            <a:ext cx="23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5000" y="1406520"/>
            <a:ext cx="8229600" cy="576720"/>
            <a:chOff x="765000" y="1406520"/>
            <a:chExt cx="8229600" cy="576720"/>
          </a:xfrm>
        </p:grpSpPr>
        <p:grpSp>
          <p:nvGrpSpPr>
            <p:cNvPr id="94" name=""/>
            <p:cNvGrpSpPr/>
            <p:nvPr/>
          </p:nvGrpSpPr>
          <p:grpSpPr>
            <a:xfrm>
              <a:off x="765000" y="1406520"/>
              <a:ext cx="8229600" cy="576720"/>
              <a:chOff x="765000" y="1406520"/>
              <a:chExt cx="8229600" cy="576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765000" y="1645920"/>
                <a:ext cx="8229600" cy="337320"/>
                <a:chOff x="765000" y="1645920"/>
                <a:chExt cx="8229600" cy="3373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679400" y="1645920"/>
                  <a:ext cx="7315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On the calculation of the equilibrium and stifnes of frames. Phil. Mag. (4) 27, 1864,  p.29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65000" y="1645920"/>
                  <a:ext cx="704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86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803160" y="1406520"/>
                <a:ext cx="6934320" cy="336240"/>
                <a:chOff x="803160" y="1406520"/>
                <a:chExt cx="6934320" cy="33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641600" y="1406520"/>
                  <a:ext cx="6095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. Cl. Maxwell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(1831 - 18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3160" y="1406520"/>
                  <a:ext cx="609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" name=""/>
            <p:cNvSpPr/>
            <p:nvPr/>
          </p:nvSpPr>
          <p:spPr>
            <a:xfrm>
              <a:off x="1388880" y="1801800"/>
              <a:ext cx="23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1480" y="4829040"/>
            <a:ext cx="7985160" cy="498960"/>
            <a:chOff x="771480" y="4829040"/>
            <a:chExt cx="7985160" cy="498960"/>
          </a:xfrm>
        </p:grpSpPr>
        <p:sp>
          <p:nvSpPr>
            <p:cNvPr id="103" name=""/>
            <p:cNvSpPr/>
            <p:nvPr/>
          </p:nvSpPr>
          <p:spPr>
            <a:xfrm>
              <a:off x="1612800" y="486900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ielak St.: Powloki prostokreslne,  ZNWSI Opole 1976,   (Pol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ielak St.: Teoria powlok, Politechnika Slaska Gliwice, 1983,  (Pol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480" y="48290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7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36560" y="5541840"/>
            <a:ext cx="714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1240" y="5318280"/>
            <a:ext cx="7985160" cy="337320"/>
            <a:chOff x="741240" y="5318280"/>
            <a:chExt cx="7985160" cy="337320"/>
          </a:xfrm>
        </p:grpSpPr>
        <p:sp>
          <p:nvSpPr>
            <p:cNvPr id="107" name=""/>
            <p:cNvSpPr/>
            <p:nvPr/>
          </p:nvSpPr>
          <p:spPr>
            <a:xfrm>
              <a:off x="1582560" y="5357880"/>
              <a:ext cx="71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Szabo J., Roller B.: Anwendung der Matrizenrechnung auf Stabwerke,  Akademiai Kiado, Budapest 19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1240" y="53182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97040" y="3362400"/>
            <a:ext cx="6933600" cy="642240"/>
            <a:chOff x="797040" y="3362400"/>
            <a:chExt cx="6933600" cy="642240"/>
          </a:xfrm>
        </p:grpSpPr>
        <p:grpSp>
          <p:nvGrpSpPr>
            <p:cNvPr id="110" name=""/>
            <p:cNvGrpSpPr/>
            <p:nvPr/>
          </p:nvGrpSpPr>
          <p:grpSpPr>
            <a:xfrm>
              <a:off x="797040" y="3362400"/>
              <a:ext cx="6933600" cy="642240"/>
              <a:chOff x="797040" y="3362400"/>
              <a:chExt cx="6933600" cy="64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635120" y="3362400"/>
                <a:ext cx="609552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rdy Cros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(1885 - 1959)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nalysis of  Continuous Frames by Distributing Fixed-End Moments, 1930, Univ. of Illino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7040" y="33624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360440" y="3532320"/>
              <a:ext cx="244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82640" y="3805200"/>
            <a:ext cx="7985160" cy="337320"/>
            <a:chOff x="782640" y="3805200"/>
            <a:chExt cx="7985160" cy="337320"/>
          </a:xfrm>
        </p:grpSpPr>
        <p:sp>
          <p:nvSpPr>
            <p:cNvPr id="115" name=""/>
            <p:cNvSpPr/>
            <p:nvPr/>
          </p:nvSpPr>
          <p:spPr>
            <a:xfrm>
              <a:off x="1623960" y="3845160"/>
              <a:ext cx="71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imoshenko, S.P. : Young, D.H.: Theory of Structures, Second Edition, McGraw-Hill, Inc., New York, 196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640" y="38052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71600" y="45435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81040" y="0"/>
            <a:ext cx="14400" cy="6119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57080" y="2776680"/>
            <a:ext cx="8035200" cy="337320"/>
            <a:chOff x="757080" y="2776680"/>
            <a:chExt cx="8035200" cy="337320"/>
          </a:xfrm>
        </p:grpSpPr>
        <p:sp>
          <p:nvSpPr>
            <p:cNvPr id="120" name=""/>
            <p:cNvSpPr/>
            <p:nvPr/>
          </p:nvSpPr>
          <p:spPr>
            <a:xfrm>
              <a:off x="757080" y="27766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45200" y="2795400"/>
              <a:ext cx="714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eddy, J.N.: An Introduction to the Finite Element Method, Second Edition, McGraw-Hill, Inc., New York, 1993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23960" y="129384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sa, Frank L.: Applied Finite Element Analysis for Engineers, Harcourt Brace Jovanovich , Inc., Orlando, Florida,198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47720" y="608040"/>
            <a:ext cx="7985160" cy="498600"/>
            <a:chOff x="747720" y="608040"/>
            <a:chExt cx="7985160" cy="498600"/>
          </a:xfrm>
        </p:grpSpPr>
        <p:sp>
          <p:nvSpPr>
            <p:cNvPr id="124" name=""/>
            <p:cNvSpPr/>
            <p:nvPr/>
          </p:nvSpPr>
          <p:spPr>
            <a:xfrm>
              <a:off x="1589040" y="64764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Przemieniecki, J.S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heory of Matrix Structural Analysis, McGraw-Hill, 1968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7720" y="6080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62120" y="1952640"/>
            <a:ext cx="7985160" cy="681120"/>
            <a:chOff x="762120" y="1952640"/>
            <a:chExt cx="7985160" cy="681120"/>
          </a:xfrm>
        </p:grpSpPr>
        <p:sp>
          <p:nvSpPr>
            <p:cNvPr id="127" name=""/>
            <p:cNvSpPr/>
            <p:nvPr/>
          </p:nvSpPr>
          <p:spPr>
            <a:xfrm>
              <a:off x="1603440" y="1992240"/>
              <a:ext cx="7143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Argyris J. H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icevis honorajhojn:  „Timoshenko Medal“ -1981;  „Royal Medal“ 1985 pro kontribuoj al teorio de finitaj elementoj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19526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01720" y="3860640"/>
            <a:ext cx="7985160" cy="498960"/>
            <a:chOff x="801720" y="3860640"/>
            <a:chExt cx="7985160" cy="498960"/>
          </a:xfrm>
        </p:grpSpPr>
        <p:sp>
          <p:nvSpPr>
            <p:cNvPr id="130" name=""/>
            <p:cNvSpPr/>
            <p:nvPr/>
          </p:nvSpPr>
          <p:spPr>
            <a:xfrm>
              <a:off x="1643040" y="390060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Oden J.T.: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icevis honorajhojn: „John von Neumann Medal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1720" y="38606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981000" y="2057400"/>
            <a:ext cx="6934320" cy="337320"/>
            <a:chOff x="981000" y="2057400"/>
            <a:chExt cx="6934320" cy="337320"/>
          </a:xfrm>
        </p:grpSpPr>
        <p:sp>
          <p:nvSpPr>
            <p:cNvPr id="133" name=""/>
            <p:cNvSpPr/>
            <p:nvPr/>
          </p:nvSpPr>
          <p:spPr>
            <a:xfrm>
              <a:off x="1819440" y="20574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uerre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1000" y="20574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15840" y="3570120"/>
            <a:ext cx="6934320" cy="337320"/>
            <a:chOff x="915840" y="3570120"/>
            <a:chExt cx="6934320" cy="337320"/>
          </a:xfrm>
        </p:grpSpPr>
        <p:sp>
          <p:nvSpPr>
            <p:cNvPr id="136" name=""/>
            <p:cNvSpPr/>
            <p:nvPr/>
          </p:nvSpPr>
          <p:spPr>
            <a:xfrm>
              <a:off x="1754280" y="3570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tel 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5840" y="3570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27080" y="1504800"/>
            <a:ext cx="6934320" cy="337320"/>
            <a:chOff x="1027080" y="1504800"/>
            <a:chExt cx="6934320" cy="337320"/>
          </a:xfrm>
        </p:grpSpPr>
        <p:sp>
          <p:nvSpPr>
            <p:cNvPr id="139" name=""/>
            <p:cNvSpPr/>
            <p:nvPr/>
          </p:nvSpPr>
          <p:spPr>
            <a:xfrm>
              <a:off x="1865520" y="15048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gyris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27080" y="1504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95400" y="2573280"/>
            <a:ext cx="6934320" cy="337320"/>
            <a:chOff x="995400" y="2573280"/>
            <a:chExt cx="6934320" cy="337320"/>
          </a:xfrm>
        </p:grpSpPr>
        <p:sp>
          <p:nvSpPr>
            <p:cNvPr id="142" name=""/>
            <p:cNvSpPr/>
            <p:nvPr/>
          </p:nvSpPr>
          <p:spPr>
            <a:xfrm>
              <a:off x="1833840" y="257328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mirnow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5400" y="25732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28800" y="3090960"/>
            <a:ext cx="6933600" cy="337320"/>
            <a:chOff x="928800" y="3090960"/>
            <a:chExt cx="6933600" cy="337320"/>
          </a:xfrm>
        </p:grpSpPr>
        <p:sp>
          <p:nvSpPr>
            <p:cNvPr id="145" name=""/>
            <p:cNvSpPr/>
            <p:nvPr/>
          </p:nvSpPr>
          <p:spPr>
            <a:xfrm>
              <a:off x="1766880" y="309096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urawski 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8800" y="30909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00000" y="4070520"/>
            <a:ext cx="6934320" cy="337320"/>
            <a:chOff x="900000" y="4070520"/>
            <a:chExt cx="6934320" cy="337320"/>
          </a:xfrm>
        </p:grpSpPr>
        <p:sp>
          <p:nvSpPr>
            <p:cNvPr id="148" name=""/>
            <p:cNvSpPr/>
            <p:nvPr/>
          </p:nvSpPr>
          <p:spPr>
            <a:xfrm>
              <a:off x="1738440" y="40705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stenfeld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0000" y="40705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7:01:39Z</dcterms:created>
  <dc:creator>Rudolf</dc:creator>
  <dc:description/>
  <dc:language>en-US</dc:language>
  <cp:lastModifiedBy>Rudolf</cp:lastModifiedBy>
  <dcterms:modified xsi:type="dcterms:W3CDTF">2004-03-08T12:07:01Z</dcterms:modified>
  <cp:revision>17</cp:revision>
  <dc:subject/>
  <dc:title>Kein Folientitel</dc:title>
</cp:coreProperties>
</file>