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AB4-99FB-424D-B99F-30BD8FDA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261-B6E8-4F23-A051-7566876D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45B-1AAD-408C-8242-D45DC1B2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A1F-6C44-466C-88C1-18A925BD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27A-8EF8-4748-85AA-4DA6668B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6EC-A94B-40AD-A665-E2E485D6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51D-DC71-4D45-8DE9-F1F20987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ECC-B3FA-447D-B9AA-9B092338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F96-F25E-4AE2-BC8F-96EF521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F58-3589-4564-817F-B47C715F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5B6-AB7D-4D36-AE0F-4610610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D67-6F8B-452A-BED6-DACE1476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A1C5-04D1-4E39-952D-62B7F1E3D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219320"/>
            <a:ext cx="80010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eknikaj mezurunuoj lau  DIN 1301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arto 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omoj kaj simboloj de mezur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hi-tiu normo kongruas laufakte vaste kun la internacia normo ISO 1000-1981;  vidu la komentarioj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hi konsideras kun la rezolucioj de la 17a Ghenerala Konferenco pri Mezuro kaj Pezo (CGPM), 198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plikosfero kaj c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n tiu normo estas listigitaj la mezurunuoj de la Sistemo Internacia de Unuoj (SI) kaj kelka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luaj rekomenditaj mezurunuoj kaj prefiksoj por decimalaj frakcioj kaj obloj de mezurunu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henerale aplikataj partoj kaj obloj de la SI-unuoj kaj pluraj rekomenditaj mezurunuoj estas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unmetitaj en   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302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rto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rilatoj de transkalkulo por ne plu aplikeblaj mezurunuoj, vidu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0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parto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omoj kaj simboloj aplikataj simile kiel mezurunuoj, vidu suplementa folio al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0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par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762520"/>
            <a:ext cx="739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sperantigita germana normo 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IN 130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parto 1, eldono 12.8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radukis:  Rudolf Koppel  - kun afabla tradukpermeso de  Germana Instituto por Normigado 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i-tiu traduko ne estis kontrolita pere  "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- Germana  Instituto  por Normigado",  Berli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Originala titolo: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Deutsche Norm DIN 1301-1,  Einheiten, Einheitennamen, Einheitenzeichen, Dez. 19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57913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35040" y="482760"/>
          <a:ext cx="6072120" cy="58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482760"/>
                    <a:ext cx="6072120" cy="58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495440" y="333360"/>
          <a:ext cx="764856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333360"/>
                    <a:ext cx="76485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09480" y="0"/>
          <a:ext cx="6686640" cy="88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6686640" cy="88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086600" y="5181480"/>
            <a:ext cx="1905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3)  Ne apliki kun prefiks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5)  Tiu simbolo ne est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nternacie normig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6)  Ne ekzistas internac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ormigita unuo-simbo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Ghis nun estis aplikata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384200" y="762120"/>
          <a:ext cx="7759800" cy="45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762120"/>
                    <a:ext cx="77598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533520"/>
            <a:ext cx="7848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oci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ezurunuoj kaj sistemoj de mezurunuoj - vidu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1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I-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SI-bazounuoj kaj la derivitajn SI-unuojn oni nomas SI-unuoj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imarko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:   La nomo  "Sistemo Internacia de Unuoj"  (France: "Systeme International d' Unites") ka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mallongigo SI estis determinitaj en 1960 sur la 11a Ghenerala Konferenco pri Mezuro kaj Pezo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CGPM). Klaran informacio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 la internacia sistemo de unuoj oni trovas en la publikajho d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nacia Buroo por Mezuro kaj Pezo, sub titolo: La sistemo internacia de unuoj (France: "L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ysteme International d' Unites"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I-bazo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SI-bazounuoj estas prezentataj en tabelo 1. El ili oni povas derivigi chiujn aliajn unuojn de l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istemo. Difinoj de  SI-bazo-unuoj vidu suplementon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ivitaj SI-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ivitaj SI-unuoj estas koherentaj (kun nombrofaktoro 1) produtoj, kvocientoj au potenco-produto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 SI-bazounu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j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g/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por trafluo de m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por elektra kva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/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por f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ivitaj SI-unuoj kun aparta nomo kaj aparta unuosimbolo vidu tabelon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533520"/>
            <a:ext cx="8153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Prezentado de derivitaj SI-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ivita SI-unuo povas esti esprimata per nomoj de SI-bazounuoj au plurmaniere kun apartaj nomo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 derivitaj SI-unu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r pli bona diferencigo inter samdimensiaj grandoj, oni povas preferi certajn nomojn au kombinoj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 por fortomomanto: njutenmetro (N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) anstatau la jul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 por frekvenco de perioda procezo: herco (Hz), kaj por aktiveco de radiumaktiv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substanco la  bekerelon (Bq) anstatau reciprokan sekundon 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nuoj ekstere de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 vidu tabe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09480"/>
            <a:ext cx="85345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Decimalaj partoj kaj obloj de 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cimalaj partoj kaj obloj de unuoj estas formataj helpe de prefiksoj kaj prefikso-simboloj lau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abelo 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prefiksoj kaj prefikso-simboloj estas aplikataj nur kune kun unuonomoj kaj  -simbol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efikso-simbolo estas skribata sen interspaco antau la unuosimbolo. La prefikso-simbolo ku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uosimbolo formas la simbolon de nova mezurunu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sponento che unuosimbolo validas ankau por la prefiksosimbolo ekzemple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 c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 = 1/(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) = 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Hz = 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stas malpermesite kunmeti plurajn prefiksoj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e, por  1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oni povas skribi 1 nm (nanometro) - sed ne 1 m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 (milimikromet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efiksojn oni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rajtas uzadi al SI-bazounuo kilogramo (kg), sed  nur al unuo gramo (g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iligramo (mg),  sed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ikrokilogramo (kg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09480"/>
            <a:ext cx="80010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plikado de unuoj kun prefiks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omunikante mezurgrandojn, oni povas celkonforme elekti prefiksojn tiel, ke l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ombrovaloroj estu inter 0,1 kaj 1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j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vas esti skribota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 k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,94 m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0,00394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,401 kPa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401 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 n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,1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6 aL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/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ne de valortabelo devas esti aplikata nur unu prefikso che la unuo, ankau tiam, kiam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kve de tio kelkaj nombrovaloroj estos ekster de aro ( 0,1 ... 100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85800"/>
            <a:ext cx="78487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rtikolo de unuonomoj kaj skribmaniero de unuosimbol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rtikoloj de unuonomoj koncernas nur la germanan lingv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uosimboloj estas skribataj per grandaj literoj, se la unuonomo estas devenigita d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opra nomo, alikaze per malgranda litero (escepto:  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uosimboloj estas skribataj orte (rekte) sendepende de la titer-tipo en cetera teksto;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idu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38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 Gi estas skribata en grando-donitajhoj post la nombrovaloro, aplikant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spacon inter nombrovaloro kaj unuosimbolo (esceptoj:  °,  ',  "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odutojn de unuoj oni prezentas lau unu el la sekvantaj manieroj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,  N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plikante unuosimbolon, kiu egalas kun prefikso-simbolo, oni devas skribi la faktoroj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iel, ke erara intershango ne estu ebl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unuo njutenmetro por la fortomomento devas esti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kribita  Nm  au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,  sed ne mN, por ke ne intershangi ghin kun mili-njuteno (m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85800"/>
            <a:ext cx="80769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vocientojn de unuoj oni prezentas lau unu el sekvantaj manieroj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zu frakciostrekon (klinita au horizontala) -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/s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u potencoproduton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 oni aplikas klinitan frakciostrekon kaj en la nomanto aperas pluraj unuosimboloj,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iam la plursenso devas esti evitita per uzuado de kramp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I-unuo de varmokondutivo devas esti skrib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e   W/K/m ,    sed    W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au      W/(K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 la unuo posedas formon de potenco kun negativa eksponento, oni povas skribi ghi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iel frakcio kun  1  en numera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1  devas esti forlasita se la unuo estas multiplikata per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ombro,  ekzemple:   3000 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3000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7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 permashina redono de unuonomoj kaj prefiksoj pere de komputilo kun limigit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ovizo de presliteroj - vidu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 DIN 66030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09480"/>
            <a:ext cx="8077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uplemento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ifinoj de bazounuoj de „Sistemo Internacia de Unuoj“, fiksitaj pere de „Ghenerala Konferenco por Mezuro kaj Pezo” (France: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Conférence Génerale des Poids et Mesures  -  CGP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1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etro estas longo de distanco, kiun trakuras la lumo en vakuo dum dauro da  1/299 792 458 sekundo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7. CGPM (1983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2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ilogr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ilogramo estas unuo de maso; ghi egalas al maso de internacia kilogramo-specimeno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. CGPM (1889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kaj 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3. CGPM (1901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3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eku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kundo estas dauro da 9 192 631 770 radiado-periodoj de nuklido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3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s, se giaj atomoj transiras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 du superfajnaj strukturniveloj de elementa stato. 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3. CGPM (1967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4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m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mpero estas intenso de konstanta kurento, kiu trapasante du paralelajn, rektoliniajn, senfine longaj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onduktilojn de neglektebla tratrancho, trovighantaj en vakuo je distanco da  1 metro, generas inter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hi-tiuj konduktiloj forton da 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7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njutenoj po metro de konduktil-lon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CGPM (1946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, akceptita fare de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9. CGOM (1948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533520"/>
            <a:ext cx="822960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5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elv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elvino, la unuo de termodinamika temperaturo, estas la 273,16ona parto da termodinamik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emperaturo de triobla punkto de akvo.  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3. CGPM (1967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imarko 1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3. CGPM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cidis, ke la unuo Kelvino kaj ghia unuosimbolo  K  povas esti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plikata por esprimi temperatur-diferenc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imarko 2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 indikado de celsius-temperaturo t = T -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kun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273,15 K, oni aplikas l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uonomon Celsius-grado (unuosimbolo:  °C) kiel aparta nomo por la Kelv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diferencon de du celsius-temperaturoj oni povas ankau esprimi per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elsiusgradoj. Vidu ankau 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3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6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olo estas kvanto da materio de sistemo, kiu entenas tiom da unuopaj  partikloj, kiom da atomo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ntenas 0,012 kg da karbo-nuklido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. Che uzado de molo oni devas specifi unuopaj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rtiklojn, kiuj povas esti atomoj, molekuloj, jonoj, elektronoj, same kiel aliaj partikloj au grupo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 tiuj partikloj kun precize indikita kunmeto.  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4. CGPM (1971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6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an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andelo estas intenso de lumo en fiksita direkto de radiad-fonto, elsendanta monokromata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adiadon je frekvenco da 54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Hz, kaj kies energiofonto en chi-tiu direkto egalas  (1/683) vato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 steradiano. 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6. CGPM (1979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13:07:49Z</dcterms:created>
  <dc:creator>Rudolf</dc:creator>
  <dc:description/>
  <dc:language>en-US</dc:language>
  <cp:lastModifiedBy>Rudolf</cp:lastModifiedBy>
  <dcterms:modified xsi:type="dcterms:W3CDTF">2004-02-08T11:31:26Z</dcterms:modified>
  <cp:revision>9</cp:revision>
  <dc:subject/>
  <dc:title>Kein Folientitel</dc:title>
</cp:coreProperties>
</file>