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13F-1549-44F9-ACCC-55B8C92B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461-14D5-4159-A454-FEB16385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E42-1528-40AE-ABF2-4C98FB04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2D1-840A-435D-A91B-13088FD4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A3D-EC9F-41E4-B393-E7DEE5DE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390-8110-4413-8776-E778F2C7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48C-E424-4903-A462-DBF58C32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48F-3941-403F-8C9F-59B8AC43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D92-DD12-4CC8-9647-4B6CBB4D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6F4-69B3-4690-8B34-5269302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347-2EB1-4ACF-B04A-EEF717F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A0B-6734-42C0-86CD-601976BD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8A57-B40C-4E90-86CB-939EEAF6E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7772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ortoplano </a:t>
            </a:r>
            <a:br>
              <a:rPr sz="4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initaj element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809880"/>
            <a:ext cx="35053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lektitaj partoj de shelo-teori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nkonduko al elastec-teo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lato-disko-probl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eometria priskribo de plato-sh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838080" y="45720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838080" y="487692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52117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kzemplo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Kuplografo de shelo-teorio lau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t. Bielak (19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838080" y="52578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4008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io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38080" y="4267080"/>
            <a:ext cx="152640" cy="15264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sheloteorioB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816520" y="2911320"/>
            <a:ext cx="1351080" cy="862200"/>
          </a:xfrm>
          <a:custGeom>
            <a:avLst/>
            <a:gdLst/>
            <a:ahLst/>
            <a:rect l="l" t="t" r="r" b="b"/>
            <a:pathLst>
              <a:path w="851" h="543">
                <a:moveTo>
                  <a:pt x="368" y="2"/>
                </a:moveTo>
                <a:cubicBezTo>
                  <a:pt x="323" y="7"/>
                  <a:pt x="285" y="15"/>
                  <a:pt x="242" y="26"/>
                </a:cubicBezTo>
                <a:cubicBezTo>
                  <a:pt x="214" y="45"/>
                  <a:pt x="184" y="46"/>
                  <a:pt x="152" y="56"/>
                </a:cubicBezTo>
                <a:cubicBezTo>
                  <a:pt x="121" y="65"/>
                  <a:pt x="99" y="84"/>
                  <a:pt x="68" y="92"/>
                </a:cubicBezTo>
                <a:cubicBezTo>
                  <a:pt x="45" y="107"/>
                  <a:pt x="31" y="110"/>
                  <a:pt x="20" y="134"/>
                </a:cubicBezTo>
                <a:cubicBezTo>
                  <a:pt x="15" y="146"/>
                  <a:pt x="8" y="170"/>
                  <a:pt x="8" y="170"/>
                </a:cubicBezTo>
                <a:cubicBezTo>
                  <a:pt x="10" y="214"/>
                  <a:pt x="0" y="262"/>
                  <a:pt x="20" y="302"/>
                </a:cubicBezTo>
                <a:cubicBezTo>
                  <a:pt x="46" y="353"/>
                  <a:pt x="96" y="378"/>
                  <a:pt x="140" y="410"/>
                </a:cubicBezTo>
                <a:cubicBezTo>
                  <a:pt x="167" y="429"/>
                  <a:pt x="195" y="436"/>
                  <a:pt x="224" y="452"/>
                </a:cubicBezTo>
                <a:cubicBezTo>
                  <a:pt x="314" y="502"/>
                  <a:pt x="415" y="533"/>
                  <a:pt x="518" y="542"/>
                </a:cubicBezTo>
                <a:cubicBezTo>
                  <a:pt x="627" y="534"/>
                  <a:pt x="575" y="543"/>
                  <a:pt x="674" y="518"/>
                </a:cubicBezTo>
                <a:cubicBezTo>
                  <a:pt x="686" y="515"/>
                  <a:pt x="699" y="513"/>
                  <a:pt x="710" y="506"/>
                </a:cubicBezTo>
                <a:cubicBezTo>
                  <a:pt x="722" y="498"/>
                  <a:pt x="746" y="482"/>
                  <a:pt x="746" y="482"/>
                </a:cubicBezTo>
                <a:cubicBezTo>
                  <a:pt x="760" y="461"/>
                  <a:pt x="778" y="453"/>
                  <a:pt x="794" y="434"/>
                </a:cubicBezTo>
                <a:cubicBezTo>
                  <a:pt x="809" y="416"/>
                  <a:pt x="817" y="393"/>
                  <a:pt x="830" y="374"/>
                </a:cubicBezTo>
                <a:cubicBezTo>
                  <a:pt x="851" y="289"/>
                  <a:pt x="841" y="180"/>
                  <a:pt x="764" y="128"/>
                </a:cubicBezTo>
                <a:cubicBezTo>
                  <a:pt x="712" y="50"/>
                  <a:pt x="644" y="31"/>
                  <a:pt x="554" y="20"/>
                </a:cubicBezTo>
                <a:cubicBezTo>
                  <a:pt x="494" y="0"/>
                  <a:pt x="431" y="2"/>
                  <a:pt x="368" y="2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040" y="3267000"/>
            <a:ext cx="96192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428760"/>
            <a:ext cx="33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nkonduko al elastec-te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4280" y="78120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.    Deformo de kontinuajho /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ometriaj rila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440" y="2228760"/>
            <a:ext cx="117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lobala 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ordinatsistemo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ektita ku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tinuajho 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533760"/>
            <a:ext cx="22860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52240" y="3552840"/>
            <a:ext cx="114120" cy="16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76440" y="331488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640" y="35053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000240"/>
            <a:ext cx="69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 =1, 2,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0600" y="3819600"/>
            <a:ext cx="1104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oroj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760" y="402912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ordinatoj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43040" y="4514760"/>
            <a:ext cx="7632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114560" y="1333440"/>
            <a:ext cx="2219040" cy="4105440"/>
            <a:chOff x="1114560" y="1333440"/>
            <a:chExt cx="2219040" cy="4105440"/>
          </a:xfrm>
        </p:grpSpPr>
        <p:sp>
          <p:nvSpPr>
            <p:cNvPr id="64" name=""/>
            <p:cNvSpPr/>
            <p:nvPr/>
          </p:nvSpPr>
          <p:spPr>
            <a:xfrm>
              <a:off x="1876320" y="3448080"/>
              <a:ext cx="1457280" cy="1857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66960" y="1533600"/>
              <a:ext cx="1457280" cy="1857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14560" y="3362400"/>
              <a:ext cx="3142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de-DE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19120" y="3486240"/>
              <a:ext cx="7632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57360" y="2371680"/>
              <a:ext cx="7632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68960" y="1333440"/>
              <a:ext cx="100692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edeformi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7120" y="5162400"/>
              <a:ext cx="866880" cy="276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deformi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57280" y="3581280"/>
              <a:ext cx="1076400" cy="962280"/>
            </a:xfrm>
            <a:custGeom>
              <a:avLst/>
              <a:gdLst/>
              <a:ahLst/>
              <a:rect l="l" t="t" r="r" b="b"/>
              <a:pathLst>
                <a:path w="678" h="564">
                  <a:moveTo>
                    <a:pt x="0" y="0"/>
                  </a:moveTo>
                  <a:cubicBezTo>
                    <a:pt x="60" y="163"/>
                    <a:pt x="121" y="326"/>
                    <a:pt x="234" y="420"/>
                  </a:cubicBezTo>
                  <a:cubicBezTo>
                    <a:pt x="347" y="514"/>
                    <a:pt x="512" y="539"/>
                    <a:pt x="678" y="5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67000" y="2438280"/>
              <a:ext cx="981000" cy="1057320"/>
            </a:xfrm>
            <a:custGeom>
              <a:avLst/>
              <a:gdLst/>
              <a:ahLst/>
              <a:rect l="l" t="t" r="r" b="b"/>
              <a:pathLst>
                <a:path w="618" h="666">
                  <a:moveTo>
                    <a:pt x="0" y="666"/>
                  </a:moveTo>
                  <a:cubicBezTo>
                    <a:pt x="65" y="493"/>
                    <a:pt x="131" y="321"/>
                    <a:pt x="234" y="210"/>
                  </a:cubicBezTo>
                  <a:cubicBezTo>
                    <a:pt x="337" y="99"/>
                    <a:pt x="477" y="49"/>
                    <a:pt x="61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14480" y="41432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de-DE" sz="12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47880" y="26384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de-DE" sz="12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48000" y="456264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81400" y="21240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657520" y="3114720"/>
            <a:ext cx="10954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ktora funkcio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 gvidantvekt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45840" y="3286080"/>
            <a:ext cx="135756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ita st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86480" y="3971880"/>
            <a:ext cx="7045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00760" y="4257720"/>
            <a:ext cx="228600" cy="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010120" y="401904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95640" y="4238640"/>
            <a:ext cx="114120" cy="16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971960" y="2406600"/>
            <a:ext cx="1751040" cy="1878120"/>
            <a:chOff x="4971960" y="2406600"/>
            <a:chExt cx="1751040" cy="1878120"/>
          </a:xfrm>
        </p:grpSpPr>
        <p:sp>
          <p:nvSpPr>
            <p:cNvPr id="84" name=""/>
            <p:cNvSpPr/>
            <p:nvPr/>
          </p:nvSpPr>
          <p:spPr>
            <a:xfrm>
              <a:off x="5349960" y="2406600"/>
              <a:ext cx="1350720" cy="862200"/>
            </a:xfrm>
            <a:custGeom>
              <a:avLst/>
              <a:gdLst/>
              <a:ahLst/>
              <a:rect l="l" t="t" r="r" b="b"/>
              <a:pathLst>
                <a:path w="851" h="543">
                  <a:moveTo>
                    <a:pt x="368" y="2"/>
                  </a:moveTo>
                  <a:cubicBezTo>
                    <a:pt x="323" y="7"/>
                    <a:pt x="285" y="15"/>
                    <a:pt x="242" y="26"/>
                  </a:cubicBezTo>
                  <a:cubicBezTo>
                    <a:pt x="214" y="45"/>
                    <a:pt x="184" y="46"/>
                    <a:pt x="152" y="56"/>
                  </a:cubicBezTo>
                  <a:cubicBezTo>
                    <a:pt x="121" y="65"/>
                    <a:pt x="99" y="84"/>
                    <a:pt x="68" y="92"/>
                  </a:cubicBezTo>
                  <a:cubicBezTo>
                    <a:pt x="45" y="107"/>
                    <a:pt x="31" y="110"/>
                    <a:pt x="20" y="134"/>
                  </a:cubicBezTo>
                  <a:cubicBezTo>
                    <a:pt x="15" y="146"/>
                    <a:pt x="8" y="170"/>
                    <a:pt x="8" y="170"/>
                  </a:cubicBezTo>
                  <a:cubicBezTo>
                    <a:pt x="10" y="214"/>
                    <a:pt x="0" y="262"/>
                    <a:pt x="20" y="302"/>
                  </a:cubicBezTo>
                  <a:cubicBezTo>
                    <a:pt x="46" y="353"/>
                    <a:pt x="96" y="378"/>
                    <a:pt x="140" y="410"/>
                  </a:cubicBezTo>
                  <a:cubicBezTo>
                    <a:pt x="167" y="429"/>
                    <a:pt x="195" y="436"/>
                    <a:pt x="224" y="452"/>
                  </a:cubicBezTo>
                  <a:cubicBezTo>
                    <a:pt x="314" y="502"/>
                    <a:pt x="415" y="533"/>
                    <a:pt x="518" y="542"/>
                  </a:cubicBezTo>
                  <a:cubicBezTo>
                    <a:pt x="627" y="534"/>
                    <a:pt x="575" y="543"/>
                    <a:pt x="674" y="518"/>
                  </a:cubicBezTo>
                  <a:cubicBezTo>
                    <a:pt x="686" y="515"/>
                    <a:pt x="699" y="513"/>
                    <a:pt x="710" y="506"/>
                  </a:cubicBezTo>
                  <a:cubicBezTo>
                    <a:pt x="722" y="498"/>
                    <a:pt x="746" y="482"/>
                    <a:pt x="746" y="482"/>
                  </a:cubicBezTo>
                  <a:cubicBezTo>
                    <a:pt x="760" y="461"/>
                    <a:pt x="778" y="453"/>
                    <a:pt x="794" y="434"/>
                  </a:cubicBezTo>
                  <a:cubicBezTo>
                    <a:pt x="809" y="416"/>
                    <a:pt x="817" y="393"/>
                    <a:pt x="830" y="374"/>
                  </a:cubicBezTo>
                  <a:cubicBezTo>
                    <a:pt x="851" y="289"/>
                    <a:pt x="841" y="180"/>
                    <a:pt x="764" y="128"/>
                  </a:cubicBezTo>
                  <a:cubicBezTo>
                    <a:pt x="712" y="50"/>
                    <a:pt x="644" y="31"/>
                    <a:pt x="554" y="20"/>
                  </a:cubicBezTo>
                  <a:cubicBezTo>
                    <a:pt x="494" y="0"/>
                    <a:pt x="431" y="2"/>
                    <a:pt x="368" y="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71960" y="4210200"/>
              <a:ext cx="7488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95880" y="2838600"/>
              <a:ext cx="7488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48480" y="3457440"/>
              <a:ext cx="74520" cy="7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029200" y="2923920"/>
              <a:ext cx="1076400" cy="13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029200" y="3524400"/>
              <a:ext cx="160956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05440" y="37720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0720" y="32958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174360" y="2371680"/>
            <a:ext cx="149760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deformita st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72280" y="3666960"/>
            <a:ext cx="1990440" cy="100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1000" y="5000760"/>
            <a:ext cx="1981440" cy="1038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240" y="3676680"/>
            <a:ext cx="2714400" cy="2333520"/>
          </a:xfrm>
          <a:prstGeom prst="wedgeEllipseCallout">
            <a:avLst>
              <a:gd name="adj1" fmla="val 63800"/>
              <a:gd name="adj2" fmla="val -6850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72040" y="561960"/>
            <a:ext cx="2552760" cy="2324160"/>
          </a:xfrm>
          <a:prstGeom prst="wedgeEllipseCallout">
            <a:avLst>
              <a:gd name="adj1" fmla="val -108273"/>
              <a:gd name="adj2" fmla="val 124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26280" y="1327320"/>
            <a:ext cx="969840" cy="633240"/>
          </a:xfrm>
          <a:custGeom>
            <a:avLst/>
            <a:gdLst/>
            <a:ahLst/>
            <a:rect l="l" t="t" r="r" b="b"/>
            <a:pathLst>
              <a:path w="851" h="543">
                <a:moveTo>
                  <a:pt x="368" y="2"/>
                </a:moveTo>
                <a:cubicBezTo>
                  <a:pt x="323" y="7"/>
                  <a:pt x="285" y="15"/>
                  <a:pt x="242" y="26"/>
                </a:cubicBezTo>
                <a:cubicBezTo>
                  <a:pt x="214" y="45"/>
                  <a:pt x="184" y="46"/>
                  <a:pt x="152" y="56"/>
                </a:cubicBezTo>
                <a:cubicBezTo>
                  <a:pt x="121" y="65"/>
                  <a:pt x="99" y="84"/>
                  <a:pt x="68" y="92"/>
                </a:cubicBezTo>
                <a:cubicBezTo>
                  <a:pt x="45" y="107"/>
                  <a:pt x="31" y="110"/>
                  <a:pt x="20" y="134"/>
                </a:cubicBezTo>
                <a:cubicBezTo>
                  <a:pt x="15" y="146"/>
                  <a:pt x="8" y="170"/>
                  <a:pt x="8" y="170"/>
                </a:cubicBezTo>
                <a:cubicBezTo>
                  <a:pt x="10" y="214"/>
                  <a:pt x="0" y="262"/>
                  <a:pt x="20" y="302"/>
                </a:cubicBezTo>
                <a:cubicBezTo>
                  <a:pt x="46" y="353"/>
                  <a:pt x="96" y="378"/>
                  <a:pt x="140" y="410"/>
                </a:cubicBezTo>
                <a:cubicBezTo>
                  <a:pt x="167" y="429"/>
                  <a:pt x="195" y="436"/>
                  <a:pt x="224" y="452"/>
                </a:cubicBezTo>
                <a:cubicBezTo>
                  <a:pt x="314" y="502"/>
                  <a:pt x="415" y="533"/>
                  <a:pt x="518" y="542"/>
                </a:cubicBezTo>
                <a:cubicBezTo>
                  <a:pt x="627" y="534"/>
                  <a:pt x="575" y="543"/>
                  <a:pt x="674" y="518"/>
                </a:cubicBezTo>
                <a:cubicBezTo>
                  <a:pt x="686" y="515"/>
                  <a:pt x="699" y="513"/>
                  <a:pt x="710" y="506"/>
                </a:cubicBezTo>
                <a:cubicBezTo>
                  <a:pt x="722" y="498"/>
                  <a:pt x="746" y="482"/>
                  <a:pt x="746" y="482"/>
                </a:cubicBezTo>
                <a:cubicBezTo>
                  <a:pt x="760" y="461"/>
                  <a:pt x="778" y="453"/>
                  <a:pt x="794" y="434"/>
                </a:cubicBezTo>
                <a:cubicBezTo>
                  <a:pt x="809" y="416"/>
                  <a:pt x="817" y="393"/>
                  <a:pt x="830" y="374"/>
                </a:cubicBezTo>
                <a:cubicBezTo>
                  <a:pt x="851" y="289"/>
                  <a:pt x="841" y="180"/>
                  <a:pt x="764" y="128"/>
                </a:cubicBezTo>
                <a:cubicBezTo>
                  <a:pt x="712" y="50"/>
                  <a:pt x="644" y="31"/>
                  <a:pt x="554" y="20"/>
                </a:cubicBezTo>
                <a:cubicBezTo>
                  <a:pt x="494" y="0"/>
                  <a:pt x="431" y="2"/>
                  <a:pt x="368" y="2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8560" y="3657600"/>
            <a:ext cx="1047600" cy="112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440" y="466560"/>
            <a:ext cx="18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eformo de kontinuaj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2440" y="4410000"/>
            <a:ext cx="138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nkonduko de 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j koordinatoj: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90640" y="4219560"/>
            <a:ext cx="694800" cy="609480"/>
            <a:chOff x="1790640" y="4219560"/>
            <a:chExt cx="694800" cy="609480"/>
          </a:xfrm>
        </p:grpSpPr>
        <p:sp>
          <p:nvSpPr>
            <p:cNvPr id="103" name=""/>
            <p:cNvSpPr/>
            <p:nvPr/>
          </p:nvSpPr>
          <p:spPr>
            <a:xfrm flipH="1">
              <a:off x="1857240" y="4295880"/>
              <a:ext cx="4284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951920" y="4390920"/>
              <a:ext cx="43812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99800" y="4552920"/>
              <a:ext cx="4856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6320" y="4495680"/>
              <a:ext cx="50472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0160" y="4362480"/>
              <a:ext cx="39996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61800" y="4276800"/>
              <a:ext cx="29556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90640" y="421956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0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62320" y="42577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933800"/>
            <a:ext cx="6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 =1, 2,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33760" y="40575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14760" y="3828960"/>
            <a:ext cx="304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2040" y="50482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62040" y="525780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76480" y="2152800"/>
            <a:ext cx="1057320" cy="1104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5840" y="981000"/>
            <a:ext cx="1047960" cy="112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99080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28640" y="2114640"/>
            <a:ext cx="7632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6160" y="1504800"/>
            <a:ext cx="75960" cy="86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9400" y="809640"/>
            <a:ext cx="100692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0960" y="3124080"/>
            <a:ext cx="86688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66800" y="2190600"/>
            <a:ext cx="847800" cy="590760"/>
          </a:xfrm>
          <a:custGeom>
            <a:avLst/>
            <a:gdLst/>
            <a:ahLst/>
            <a:rect l="l" t="t" r="r" b="b"/>
            <a:pathLst>
              <a:path w="678" h="564">
                <a:moveTo>
                  <a:pt x="0" y="0"/>
                </a:moveTo>
                <a:cubicBezTo>
                  <a:pt x="60" y="163"/>
                  <a:pt x="121" y="326"/>
                  <a:pt x="234" y="420"/>
                </a:cubicBezTo>
                <a:cubicBezTo>
                  <a:pt x="347" y="514"/>
                  <a:pt x="512" y="539"/>
                  <a:pt x="678" y="5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57440" y="1562040"/>
            <a:ext cx="828720" cy="571680"/>
          </a:xfrm>
          <a:custGeom>
            <a:avLst/>
            <a:gdLst/>
            <a:ahLst/>
            <a:rect l="l" t="t" r="r" b="b"/>
            <a:pathLst>
              <a:path w="618" h="666">
                <a:moveTo>
                  <a:pt x="0" y="666"/>
                </a:moveTo>
                <a:cubicBezTo>
                  <a:pt x="65" y="493"/>
                  <a:pt x="131" y="321"/>
                  <a:pt x="234" y="210"/>
                </a:cubicBezTo>
                <a:cubicBezTo>
                  <a:pt x="337" y="99"/>
                  <a:pt x="477" y="49"/>
                  <a:pt x="61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48040" y="24480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28960" y="16002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81400" y="28288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86160" y="1276200"/>
            <a:ext cx="628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09960" y="3305160"/>
            <a:ext cx="30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33680" y="276228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57640" y="4848120"/>
            <a:ext cx="1057320" cy="1104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2840" y="5410080"/>
            <a:ext cx="7452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9680" y="1447920"/>
            <a:ext cx="85680" cy="85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6280" y="1362240"/>
            <a:ext cx="84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nata st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86240" y="3762360"/>
            <a:ext cx="628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33600" y="5505480"/>
            <a:ext cx="62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38560" y="5722920"/>
            <a:ext cx="1009800" cy="246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konata st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90920" y="4421160"/>
            <a:ext cx="297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86320" y="4648320"/>
            <a:ext cx="745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56280" y="996840"/>
            <a:ext cx="928800" cy="559080"/>
          </a:xfrm>
          <a:custGeom>
            <a:avLst/>
            <a:gdLst/>
            <a:ahLst/>
            <a:rect l="l" t="t" r="r" b="b"/>
            <a:pathLst>
              <a:path w="851" h="543">
                <a:moveTo>
                  <a:pt x="368" y="2"/>
                </a:moveTo>
                <a:cubicBezTo>
                  <a:pt x="323" y="7"/>
                  <a:pt x="285" y="15"/>
                  <a:pt x="242" y="26"/>
                </a:cubicBezTo>
                <a:cubicBezTo>
                  <a:pt x="214" y="45"/>
                  <a:pt x="184" y="46"/>
                  <a:pt x="152" y="56"/>
                </a:cubicBezTo>
                <a:cubicBezTo>
                  <a:pt x="121" y="65"/>
                  <a:pt x="99" y="84"/>
                  <a:pt x="68" y="92"/>
                </a:cubicBezTo>
                <a:cubicBezTo>
                  <a:pt x="45" y="107"/>
                  <a:pt x="31" y="110"/>
                  <a:pt x="20" y="134"/>
                </a:cubicBezTo>
                <a:cubicBezTo>
                  <a:pt x="15" y="146"/>
                  <a:pt x="8" y="170"/>
                  <a:pt x="8" y="170"/>
                </a:cubicBezTo>
                <a:cubicBezTo>
                  <a:pt x="10" y="214"/>
                  <a:pt x="0" y="262"/>
                  <a:pt x="20" y="302"/>
                </a:cubicBezTo>
                <a:cubicBezTo>
                  <a:pt x="46" y="353"/>
                  <a:pt x="96" y="378"/>
                  <a:pt x="140" y="410"/>
                </a:cubicBezTo>
                <a:cubicBezTo>
                  <a:pt x="167" y="429"/>
                  <a:pt x="195" y="436"/>
                  <a:pt x="224" y="452"/>
                </a:cubicBezTo>
                <a:cubicBezTo>
                  <a:pt x="314" y="502"/>
                  <a:pt x="415" y="533"/>
                  <a:pt x="518" y="542"/>
                </a:cubicBezTo>
                <a:cubicBezTo>
                  <a:pt x="627" y="534"/>
                  <a:pt x="575" y="543"/>
                  <a:pt x="674" y="518"/>
                </a:cubicBezTo>
                <a:cubicBezTo>
                  <a:pt x="686" y="515"/>
                  <a:pt x="699" y="513"/>
                  <a:pt x="710" y="506"/>
                </a:cubicBezTo>
                <a:cubicBezTo>
                  <a:pt x="722" y="498"/>
                  <a:pt x="746" y="482"/>
                  <a:pt x="746" y="482"/>
                </a:cubicBezTo>
                <a:cubicBezTo>
                  <a:pt x="760" y="461"/>
                  <a:pt x="778" y="453"/>
                  <a:pt x="794" y="434"/>
                </a:cubicBezTo>
                <a:cubicBezTo>
                  <a:pt x="809" y="416"/>
                  <a:pt x="817" y="393"/>
                  <a:pt x="830" y="374"/>
                </a:cubicBezTo>
                <a:cubicBezTo>
                  <a:pt x="851" y="289"/>
                  <a:pt x="841" y="180"/>
                  <a:pt x="764" y="128"/>
                </a:cubicBezTo>
                <a:cubicBezTo>
                  <a:pt x="712" y="50"/>
                  <a:pt x="644" y="31"/>
                  <a:pt x="554" y="20"/>
                </a:cubicBezTo>
                <a:cubicBezTo>
                  <a:pt x="494" y="0"/>
                  <a:pt x="431" y="2"/>
                  <a:pt x="368" y="2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96000" y="2166840"/>
            <a:ext cx="5076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9280" y="1276200"/>
            <a:ext cx="5220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50160" y="1677960"/>
            <a:ext cx="5076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35600" y="1332000"/>
            <a:ext cx="739800" cy="8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5600" y="1720800"/>
            <a:ext cx="11080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38960" y="1882800"/>
            <a:ext cx="2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9000" y="1522440"/>
            <a:ext cx="2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18240" y="1333440"/>
            <a:ext cx="3430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94560" y="1257480"/>
            <a:ext cx="3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104840"/>
            <a:ext cx="3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48720" y="1549440"/>
            <a:ext cx="35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38960" y="197172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6920" y="846000"/>
            <a:ext cx="14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rchata transloko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53400" y="2208240"/>
            <a:ext cx="850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R -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48240" y="4791240"/>
            <a:ext cx="866520" cy="637920"/>
          </a:xfrm>
          <a:custGeom>
            <a:avLst/>
            <a:gdLst/>
            <a:ahLst/>
            <a:rect l="l" t="t" r="r" b="b"/>
            <a:pathLst>
              <a:path w="624" h="414">
                <a:moveTo>
                  <a:pt x="624" y="0"/>
                </a:moveTo>
                <a:cubicBezTo>
                  <a:pt x="544" y="82"/>
                  <a:pt x="464" y="165"/>
                  <a:pt x="360" y="234"/>
                </a:cubicBezTo>
                <a:cubicBezTo>
                  <a:pt x="256" y="303"/>
                  <a:pt x="128" y="358"/>
                  <a:pt x="0" y="41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00360" y="4133880"/>
            <a:ext cx="176400" cy="1266840"/>
          </a:xfrm>
          <a:custGeom>
            <a:avLst/>
            <a:gdLst/>
            <a:ahLst/>
            <a:rect l="l" t="t" r="r" b="b"/>
            <a:pathLst>
              <a:path w="111" h="798">
                <a:moveTo>
                  <a:pt x="0" y="0"/>
                </a:moveTo>
                <a:cubicBezTo>
                  <a:pt x="18" y="60"/>
                  <a:pt x="105" y="227"/>
                  <a:pt x="108" y="360"/>
                </a:cubicBezTo>
                <a:cubicBezTo>
                  <a:pt x="111" y="493"/>
                  <a:pt x="36" y="707"/>
                  <a:pt x="17" y="79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38560" y="607680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variantaj, kontravariantaj bazovektor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607680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variantaj, kontravariantaj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trik-tensor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8640" y="391464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39080" y="42102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00880" y="5648400"/>
            <a:ext cx="8388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00680" y="52578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42102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00880" y="38955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2847960"/>
            <a:ext cx="952560" cy="255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43040" y="1600200"/>
            <a:ext cx="981360" cy="24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571920"/>
            <a:ext cx="8210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360" y="2943360"/>
            <a:ext cx="31428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876840"/>
            <a:ext cx="31428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0600" y="3219480"/>
            <a:ext cx="0" cy="657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64824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43440" y="4238640"/>
            <a:ext cx="3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501984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14840" y="5743440"/>
            <a:ext cx="390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3676680"/>
            <a:ext cx="3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6386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7000" y="4160880"/>
            <a:ext cx="1162080" cy="96840"/>
          </a:xfrm>
          <a:custGeom>
            <a:avLst/>
            <a:gdLst/>
            <a:ahLst/>
            <a:rect l="l" t="t" r="r" b="b"/>
            <a:pathLst>
              <a:path w="732" h="61">
                <a:moveTo>
                  <a:pt x="0" y="55"/>
                </a:moveTo>
                <a:cubicBezTo>
                  <a:pt x="58" y="46"/>
                  <a:pt x="226" y="0"/>
                  <a:pt x="348" y="1"/>
                </a:cubicBezTo>
                <a:cubicBezTo>
                  <a:pt x="470" y="2"/>
                  <a:pt x="652" y="48"/>
                  <a:pt x="732" y="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248000"/>
            <a:ext cx="1162080" cy="87480"/>
          </a:xfrm>
          <a:custGeom>
            <a:avLst/>
            <a:gdLst/>
            <a:ahLst/>
            <a:rect l="l" t="t" r="r" b="b"/>
            <a:pathLst>
              <a:path w="732" h="55">
                <a:moveTo>
                  <a:pt x="0" y="0"/>
                </a:moveTo>
                <a:cubicBezTo>
                  <a:pt x="60" y="9"/>
                  <a:pt x="238" y="53"/>
                  <a:pt x="360" y="54"/>
                </a:cubicBezTo>
                <a:cubicBezTo>
                  <a:pt x="482" y="55"/>
                  <a:pt x="654" y="16"/>
                  <a:pt x="73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667480" y="3790800"/>
            <a:ext cx="1171440" cy="246240"/>
            <a:chOff x="5667480" y="3790800"/>
            <a:chExt cx="1171440" cy="246240"/>
          </a:xfrm>
        </p:grpSpPr>
        <p:sp>
          <p:nvSpPr>
            <p:cNvPr id="180" name=""/>
            <p:cNvSpPr/>
            <p:nvPr/>
          </p:nvSpPr>
          <p:spPr>
            <a:xfrm>
              <a:off x="5676840" y="3836880"/>
              <a:ext cx="1162080" cy="115920"/>
            </a:xfrm>
            <a:custGeom>
              <a:avLst/>
              <a:gdLst/>
              <a:ahLst/>
              <a:rect l="l" t="t" r="r" b="b"/>
              <a:pathLst>
                <a:path w="732" h="73">
                  <a:moveTo>
                    <a:pt x="0" y="67"/>
                  </a:moveTo>
                  <a:cubicBezTo>
                    <a:pt x="56" y="56"/>
                    <a:pt x="214" y="0"/>
                    <a:pt x="336" y="1"/>
                  </a:cubicBezTo>
                  <a:cubicBezTo>
                    <a:pt x="458" y="2"/>
                    <a:pt x="650" y="58"/>
                    <a:pt x="73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67480" y="3943440"/>
              <a:ext cx="1162080" cy="77760"/>
            </a:xfrm>
            <a:custGeom>
              <a:avLst/>
              <a:gdLst/>
              <a:ahLst/>
              <a:rect l="l" t="t" r="r" b="b"/>
              <a:pathLst>
                <a:path w="732" h="49">
                  <a:moveTo>
                    <a:pt x="0" y="0"/>
                  </a:moveTo>
                  <a:cubicBezTo>
                    <a:pt x="61" y="8"/>
                    <a:pt x="244" y="47"/>
                    <a:pt x="366" y="48"/>
                  </a:cubicBezTo>
                  <a:cubicBezTo>
                    <a:pt x="488" y="49"/>
                    <a:pt x="656" y="15"/>
                    <a:pt x="732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6520" y="3790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, 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276960" y="41054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, 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43880" y="363852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53400" y="4238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29560" y="56577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48440" y="52671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67280" y="5153040"/>
            <a:ext cx="1171440" cy="246240"/>
            <a:chOff x="5867280" y="5153040"/>
            <a:chExt cx="1171440" cy="246240"/>
          </a:xfrm>
        </p:grpSpPr>
        <p:sp>
          <p:nvSpPr>
            <p:cNvPr id="189" name=""/>
            <p:cNvSpPr/>
            <p:nvPr/>
          </p:nvSpPr>
          <p:spPr>
            <a:xfrm>
              <a:off x="5876640" y="5198760"/>
              <a:ext cx="1162080" cy="115560"/>
            </a:xfrm>
            <a:custGeom>
              <a:avLst/>
              <a:gdLst/>
              <a:ahLst/>
              <a:rect l="l" t="t" r="r" b="b"/>
              <a:pathLst>
                <a:path w="732" h="73">
                  <a:moveTo>
                    <a:pt x="0" y="67"/>
                  </a:moveTo>
                  <a:cubicBezTo>
                    <a:pt x="56" y="56"/>
                    <a:pt x="214" y="0"/>
                    <a:pt x="336" y="1"/>
                  </a:cubicBezTo>
                  <a:cubicBezTo>
                    <a:pt x="458" y="2"/>
                    <a:pt x="650" y="58"/>
                    <a:pt x="73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5305320"/>
              <a:ext cx="1162080" cy="77400"/>
            </a:xfrm>
            <a:custGeom>
              <a:avLst/>
              <a:gdLst/>
              <a:ahLst/>
              <a:rect l="l" t="t" r="r" b="b"/>
              <a:pathLst>
                <a:path w="732" h="49">
                  <a:moveTo>
                    <a:pt x="0" y="0"/>
                  </a:moveTo>
                  <a:cubicBezTo>
                    <a:pt x="61" y="8"/>
                    <a:pt x="244" y="47"/>
                    <a:pt x="366" y="48"/>
                  </a:cubicBezTo>
                  <a:cubicBezTo>
                    <a:pt x="488" y="49"/>
                    <a:pt x="656" y="15"/>
                    <a:pt x="732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86320" y="515304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, 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76840" y="5562720"/>
            <a:ext cx="1171440" cy="246240"/>
            <a:chOff x="5676840" y="5562720"/>
            <a:chExt cx="1171440" cy="246240"/>
          </a:xfrm>
        </p:grpSpPr>
        <p:sp>
          <p:nvSpPr>
            <p:cNvPr id="193" name=""/>
            <p:cNvSpPr/>
            <p:nvPr/>
          </p:nvSpPr>
          <p:spPr>
            <a:xfrm>
              <a:off x="5686200" y="5608440"/>
              <a:ext cx="1162080" cy="115560"/>
            </a:xfrm>
            <a:custGeom>
              <a:avLst/>
              <a:gdLst/>
              <a:ahLst/>
              <a:rect l="l" t="t" r="r" b="b"/>
              <a:pathLst>
                <a:path w="732" h="73">
                  <a:moveTo>
                    <a:pt x="0" y="67"/>
                  </a:moveTo>
                  <a:cubicBezTo>
                    <a:pt x="56" y="56"/>
                    <a:pt x="214" y="0"/>
                    <a:pt x="336" y="1"/>
                  </a:cubicBezTo>
                  <a:cubicBezTo>
                    <a:pt x="458" y="2"/>
                    <a:pt x="650" y="58"/>
                    <a:pt x="73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76840" y="5715000"/>
              <a:ext cx="1162080" cy="77400"/>
            </a:xfrm>
            <a:custGeom>
              <a:avLst/>
              <a:gdLst/>
              <a:ahLst/>
              <a:rect l="l" t="t" r="r" b="b"/>
              <a:pathLst>
                <a:path w="732" h="49">
                  <a:moveTo>
                    <a:pt x="0" y="0"/>
                  </a:moveTo>
                  <a:cubicBezTo>
                    <a:pt x="61" y="8"/>
                    <a:pt x="244" y="47"/>
                    <a:pt x="366" y="48"/>
                  </a:cubicBezTo>
                  <a:cubicBezTo>
                    <a:pt x="488" y="49"/>
                    <a:pt x="656" y="15"/>
                    <a:pt x="732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5627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, 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715080" y="5695920"/>
            <a:ext cx="438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76840" y="47433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5640" y="4667400"/>
            <a:ext cx="371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96160" y="50198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29160" y="5486400"/>
            <a:ext cx="1952640" cy="307800"/>
          </a:xfrm>
          <a:custGeom>
            <a:avLst/>
            <a:gdLst/>
            <a:ahLst/>
            <a:rect l="l" t="t" r="r" b="b"/>
            <a:pathLst>
              <a:path w="1230" h="194">
                <a:moveTo>
                  <a:pt x="0" y="0"/>
                </a:moveTo>
                <a:cubicBezTo>
                  <a:pt x="206" y="71"/>
                  <a:pt x="413" y="142"/>
                  <a:pt x="618" y="168"/>
                </a:cubicBezTo>
                <a:cubicBezTo>
                  <a:pt x="823" y="194"/>
                  <a:pt x="1026" y="175"/>
                  <a:pt x="1230" y="1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14760" y="4781520"/>
            <a:ext cx="952560" cy="866880"/>
          </a:xfrm>
          <a:custGeom>
            <a:avLst/>
            <a:gdLst/>
            <a:ahLst/>
            <a:rect l="l" t="t" r="r" b="b"/>
            <a:pathLst>
              <a:path w="600" h="546">
                <a:moveTo>
                  <a:pt x="0" y="0"/>
                </a:moveTo>
                <a:cubicBezTo>
                  <a:pt x="28" y="33"/>
                  <a:pt x="114" y="140"/>
                  <a:pt x="168" y="198"/>
                </a:cubicBezTo>
                <a:cubicBezTo>
                  <a:pt x="222" y="256"/>
                  <a:pt x="252" y="290"/>
                  <a:pt x="324" y="348"/>
                </a:cubicBezTo>
                <a:cubicBezTo>
                  <a:pt x="396" y="406"/>
                  <a:pt x="542" y="505"/>
                  <a:pt x="600" y="546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9800" y="5638680"/>
            <a:ext cx="190440" cy="57240"/>
          </a:xfrm>
          <a:custGeom>
            <a:avLst/>
            <a:gdLst/>
            <a:ahLst/>
            <a:rect l="l" t="t" r="r" b="b"/>
            <a:pathLst>
              <a:path w="120" h="36">
                <a:moveTo>
                  <a:pt x="0" y="0"/>
                </a:moveTo>
                <a:lnTo>
                  <a:pt x="120" y="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5360" y="49528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720" y="4762440"/>
            <a:ext cx="3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10080" y="3782880"/>
            <a:ext cx="1971720" cy="312840"/>
          </a:xfrm>
          <a:custGeom>
            <a:avLst/>
            <a:gdLst/>
            <a:ahLst/>
            <a:rect l="l" t="t" r="r" b="b"/>
            <a:pathLst>
              <a:path w="1242" h="197">
                <a:moveTo>
                  <a:pt x="0" y="197"/>
                </a:moveTo>
                <a:cubicBezTo>
                  <a:pt x="202" y="115"/>
                  <a:pt x="405" y="34"/>
                  <a:pt x="612" y="17"/>
                </a:cubicBezTo>
                <a:cubicBezTo>
                  <a:pt x="819" y="0"/>
                  <a:pt x="1030" y="47"/>
                  <a:pt x="1242" y="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3981600"/>
            <a:ext cx="6696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705280" y="4286160"/>
            <a:ext cx="1047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638680" y="4828680"/>
            <a:ext cx="66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695920" y="4829040"/>
            <a:ext cx="114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73640" y="3962520"/>
            <a:ext cx="336600" cy="1695240"/>
          </a:xfrm>
          <a:custGeom>
            <a:avLst/>
            <a:gdLst/>
            <a:ahLst/>
            <a:rect l="l" t="t" r="r" b="b"/>
            <a:pathLst>
              <a:path w="212" h="1068">
                <a:moveTo>
                  <a:pt x="212" y="0"/>
                </a:moveTo>
                <a:cubicBezTo>
                  <a:pt x="177" y="94"/>
                  <a:pt x="4" y="386"/>
                  <a:pt x="2" y="564"/>
                </a:cubicBezTo>
                <a:cubicBezTo>
                  <a:pt x="0" y="742"/>
                  <a:pt x="157" y="963"/>
                  <a:pt x="197" y="1068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4760" y="4829040"/>
            <a:ext cx="1028880" cy="885960"/>
          </a:xfrm>
          <a:custGeom>
            <a:avLst/>
            <a:gdLst/>
            <a:ahLst/>
            <a:rect l="l" t="t" r="r" b="b"/>
            <a:pathLst>
              <a:path w="648" h="558">
                <a:moveTo>
                  <a:pt x="648" y="558"/>
                </a:moveTo>
                <a:cubicBezTo>
                  <a:pt x="594" y="544"/>
                  <a:pt x="418" y="522"/>
                  <a:pt x="324" y="474"/>
                </a:cubicBezTo>
                <a:cubicBezTo>
                  <a:pt x="230" y="426"/>
                  <a:pt x="138" y="349"/>
                  <a:pt x="84" y="270"/>
                </a:cubicBezTo>
                <a:cubicBezTo>
                  <a:pt x="30" y="191"/>
                  <a:pt x="17" y="56"/>
                  <a:pt x="0" y="0"/>
                </a:cubicBezTo>
              </a:path>
            </a:pathLst>
          </a:custGeom>
          <a:noFill/>
          <a:ln w="28440">
            <a:solidFill>
              <a:srgbClr val="00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52920" y="3952800"/>
            <a:ext cx="1038240" cy="743040"/>
          </a:xfrm>
          <a:custGeom>
            <a:avLst/>
            <a:gdLst/>
            <a:ahLst/>
            <a:rect l="l" t="t" r="r" b="b"/>
            <a:pathLst>
              <a:path w="654" h="468">
                <a:moveTo>
                  <a:pt x="654" y="0"/>
                </a:moveTo>
                <a:cubicBezTo>
                  <a:pt x="606" y="20"/>
                  <a:pt x="443" y="78"/>
                  <a:pt x="366" y="120"/>
                </a:cubicBezTo>
                <a:cubicBezTo>
                  <a:pt x="289" y="162"/>
                  <a:pt x="253" y="194"/>
                  <a:pt x="192" y="252"/>
                </a:cubicBezTo>
                <a:cubicBezTo>
                  <a:pt x="131" y="310"/>
                  <a:pt x="40" y="423"/>
                  <a:pt x="0" y="468"/>
                </a:cubicBezTo>
              </a:path>
            </a:pathLst>
          </a:custGeom>
          <a:noFill/>
          <a:ln w="28440">
            <a:solidFill>
              <a:srgbClr val="ffcc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62440" y="43243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67240" y="52484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1600" y="497196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71920" y="449568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581000" y="4267080"/>
            <a:ext cx="1209960" cy="457200"/>
          </a:xfrm>
          <a:prstGeom prst="line">
            <a:avLst/>
          </a:prstGeom>
          <a:ln w="28440">
            <a:solidFill>
              <a:srgbClr val="ffcc99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4581000" y="4781160"/>
            <a:ext cx="1219320" cy="514440"/>
          </a:xfrm>
          <a:prstGeom prst="line">
            <a:avLst/>
          </a:prstGeom>
          <a:ln w="28440">
            <a:solidFill>
              <a:srgbClr val="00cc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05360" y="4505400"/>
            <a:ext cx="304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96000" y="4743360"/>
            <a:ext cx="30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91000" y="5057640"/>
            <a:ext cx="952560" cy="943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3200" y="3705120"/>
            <a:ext cx="952200" cy="809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9240" y="3676680"/>
            <a:ext cx="2714400" cy="2333520"/>
          </a:xfrm>
          <a:prstGeom prst="wedgeEllipseCallout">
            <a:avLst>
              <a:gd name="adj1" fmla="val 63800"/>
              <a:gd name="adj2" fmla="val -6850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72040" y="561960"/>
            <a:ext cx="2895840" cy="2600280"/>
          </a:xfrm>
          <a:prstGeom prst="wedgeEllipseCallout">
            <a:avLst>
              <a:gd name="adj1" fmla="val 9814"/>
              <a:gd name="adj2" fmla="val 1074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26280" y="1174680"/>
            <a:ext cx="1227240" cy="795240"/>
          </a:xfrm>
          <a:custGeom>
            <a:avLst/>
            <a:gdLst/>
            <a:ahLst/>
            <a:rect l="l" t="t" r="r" b="b"/>
            <a:pathLst>
              <a:path w="851" h="543">
                <a:moveTo>
                  <a:pt x="368" y="2"/>
                </a:moveTo>
                <a:cubicBezTo>
                  <a:pt x="323" y="7"/>
                  <a:pt x="285" y="15"/>
                  <a:pt x="242" y="26"/>
                </a:cubicBezTo>
                <a:cubicBezTo>
                  <a:pt x="214" y="45"/>
                  <a:pt x="184" y="46"/>
                  <a:pt x="152" y="56"/>
                </a:cubicBezTo>
                <a:cubicBezTo>
                  <a:pt x="121" y="65"/>
                  <a:pt x="99" y="84"/>
                  <a:pt x="68" y="92"/>
                </a:cubicBezTo>
                <a:cubicBezTo>
                  <a:pt x="45" y="107"/>
                  <a:pt x="31" y="110"/>
                  <a:pt x="20" y="134"/>
                </a:cubicBezTo>
                <a:cubicBezTo>
                  <a:pt x="15" y="146"/>
                  <a:pt x="8" y="170"/>
                  <a:pt x="8" y="170"/>
                </a:cubicBezTo>
                <a:cubicBezTo>
                  <a:pt x="10" y="214"/>
                  <a:pt x="0" y="262"/>
                  <a:pt x="20" y="302"/>
                </a:cubicBezTo>
                <a:cubicBezTo>
                  <a:pt x="46" y="353"/>
                  <a:pt x="96" y="378"/>
                  <a:pt x="140" y="410"/>
                </a:cubicBezTo>
                <a:cubicBezTo>
                  <a:pt x="167" y="429"/>
                  <a:pt x="195" y="436"/>
                  <a:pt x="224" y="452"/>
                </a:cubicBezTo>
                <a:cubicBezTo>
                  <a:pt x="314" y="502"/>
                  <a:pt x="415" y="533"/>
                  <a:pt x="518" y="542"/>
                </a:cubicBezTo>
                <a:cubicBezTo>
                  <a:pt x="627" y="534"/>
                  <a:pt x="575" y="543"/>
                  <a:pt x="674" y="518"/>
                </a:cubicBezTo>
                <a:cubicBezTo>
                  <a:pt x="686" y="515"/>
                  <a:pt x="699" y="513"/>
                  <a:pt x="710" y="506"/>
                </a:cubicBezTo>
                <a:cubicBezTo>
                  <a:pt x="722" y="498"/>
                  <a:pt x="746" y="482"/>
                  <a:pt x="746" y="482"/>
                </a:cubicBezTo>
                <a:cubicBezTo>
                  <a:pt x="760" y="461"/>
                  <a:pt x="778" y="453"/>
                  <a:pt x="794" y="434"/>
                </a:cubicBezTo>
                <a:cubicBezTo>
                  <a:pt x="809" y="416"/>
                  <a:pt x="817" y="393"/>
                  <a:pt x="830" y="374"/>
                </a:cubicBezTo>
                <a:cubicBezTo>
                  <a:pt x="851" y="289"/>
                  <a:pt x="841" y="180"/>
                  <a:pt x="764" y="128"/>
                </a:cubicBezTo>
                <a:cubicBezTo>
                  <a:pt x="712" y="50"/>
                  <a:pt x="644" y="31"/>
                  <a:pt x="554" y="20"/>
                </a:cubicBezTo>
                <a:cubicBezTo>
                  <a:pt x="494" y="0"/>
                  <a:pt x="431" y="2"/>
                  <a:pt x="368" y="2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38560" y="3657600"/>
            <a:ext cx="1047600" cy="112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440" y="466560"/>
            <a:ext cx="18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eformo de kontinuaj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2440" y="4410000"/>
            <a:ext cx="1380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nkonduko de 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j koordinatoj 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790640" y="4219560"/>
            <a:ext cx="694800" cy="609480"/>
            <a:chOff x="1790640" y="4219560"/>
            <a:chExt cx="694800" cy="609480"/>
          </a:xfrm>
        </p:grpSpPr>
        <p:sp>
          <p:nvSpPr>
            <p:cNvPr id="231" name=""/>
            <p:cNvSpPr/>
            <p:nvPr/>
          </p:nvSpPr>
          <p:spPr>
            <a:xfrm flipH="1">
              <a:off x="1857240" y="4295880"/>
              <a:ext cx="4284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951920" y="4390920"/>
              <a:ext cx="43812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999800" y="4552920"/>
              <a:ext cx="4856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76320" y="4495680"/>
              <a:ext cx="50472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00160" y="4362480"/>
              <a:ext cx="39996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61800" y="4276800"/>
              <a:ext cx="29556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90640" y="421956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0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62320" y="42577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4933800"/>
            <a:ext cx="6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 =1, 2,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33760" y="40575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71840" y="36100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62040" y="50482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62040" y="525780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76480" y="2152800"/>
            <a:ext cx="1057320" cy="1104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85840" y="981000"/>
            <a:ext cx="1047960" cy="112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99080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28640" y="2114640"/>
            <a:ext cx="7632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86160" y="1504800"/>
            <a:ext cx="75960" cy="86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59400" y="809640"/>
            <a:ext cx="100692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30960" y="3124080"/>
            <a:ext cx="86688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6800" y="2190600"/>
            <a:ext cx="847800" cy="590760"/>
          </a:xfrm>
          <a:custGeom>
            <a:avLst/>
            <a:gdLst/>
            <a:ahLst/>
            <a:rect l="l" t="t" r="r" b="b"/>
            <a:pathLst>
              <a:path w="678" h="564">
                <a:moveTo>
                  <a:pt x="0" y="0"/>
                </a:moveTo>
                <a:cubicBezTo>
                  <a:pt x="60" y="163"/>
                  <a:pt x="121" y="326"/>
                  <a:pt x="234" y="420"/>
                </a:cubicBezTo>
                <a:cubicBezTo>
                  <a:pt x="347" y="514"/>
                  <a:pt x="512" y="539"/>
                  <a:pt x="678" y="5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57440" y="1562040"/>
            <a:ext cx="828720" cy="571680"/>
          </a:xfrm>
          <a:custGeom>
            <a:avLst/>
            <a:gdLst/>
            <a:ahLst/>
            <a:rect l="l" t="t" r="r" b="b"/>
            <a:pathLst>
              <a:path w="618" h="666">
                <a:moveTo>
                  <a:pt x="0" y="666"/>
                </a:moveTo>
                <a:cubicBezTo>
                  <a:pt x="65" y="493"/>
                  <a:pt x="131" y="321"/>
                  <a:pt x="234" y="210"/>
                </a:cubicBezTo>
                <a:cubicBezTo>
                  <a:pt x="337" y="99"/>
                  <a:pt x="477" y="49"/>
                  <a:pt x="61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48040" y="24480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28960" y="16002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81400" y="28288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86160" y="1276200"/>
            <a:ext cx="628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62240" y="3219480"/>
            <a:ext cx="419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3680" y="276228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7640" y="4848120"/>
            <a:ext cx="1057320" cy="1104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52840" y="5410080"/>
            <a:ext cx="7452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9680" y="1447920"/>
            <a:ext cx="85680" cy="85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6280" y="1362240"/>
            <a:ext cx="84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nata st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86240" y="3762360"/>
            <a:ext cx="628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14880" y="5543640"/>
            <a:ext cx="628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28840" y="5789520"/>
            <a:ext cx="1009800" cy="246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konata st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10160" y="4487760"/>
            <a:ext cx="297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86480" y="4762440"/>
            <a:ext cx="7452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27840" y="844560"/>
            <a:ext cx="928800" cy="720720"/>
          </a:xfrm>
          <a:custGeom>
            <a:avLst/>
            <a:gdLst/>
            <a:ahLst/>
            <a:rect l="l" t="t" r="r" b="b"/>
            <a:pathLst>
              <a:path w="851" h="543">
                <a:moveTo>
                  <a:pt x="368" y="2"/>
                </a:moveTo>
                <a:cubicBezTo>
                  <a:pt x="323" y="7"/>
                  <a:pt x="285" y="15"/>
                  <a:pt x="242" y="26"/>
                </a:cubicBezTo>
                <a:cubicBezTo>
                  <a:pt x="214" y="45"/>
                  <a:pt x="184" y="46"/>
                  <a:pt x="152" y="56"/>
                </a:cubicBezTo>
                <a:cubicBezTo>
                  <a:pt x="121" y="65"/>
                  <a:pt x="99" y="84"/>
                  <a:pt x="68" y="92"/>
                </a:cubicBezTo>
                <a:cubicBezTo>
                  <a:pt x="45" y="107"/>
                  <a:pt x="31" y="110"/>
                  <a:pt x="20" y="134"/>
                </a:cubicBezTo>
                <a:cubicBezTo>
                  <a:pt x="15" y="146"/>
                  <a:pt x="8" y="170"/>
                  <a:pt x="8" y="170"/>
                </a:cubicBezTo>
                <a:cubicBezTo>
                  <a:pt x="10" y="214"/>
                  <a:pt x="0" y="262"/>
                  <a:pt x="20" y="302"/>
                </a:cubicBezTo>
                <a:cubicBezTo>
                  <a:pt x="46" y="353"/>
                  <a:pt x="96" y="378"/>
                  <a:pt x="140" y="410"/>
                </a:cubicBezTo>
                <a:cubicBezTo>
                  <a:pt x="167" y="429"/>
                  <a:pt x="195" y="436"/>
                  <a:pt x="224" y="452"/>
                </a:cubicBezTo>
                <a:cubicBezTo>
                  <a:pt x="314" y="502"/>
                  <a:pt x="415" y="533"/>
                  <a:pt x="518" y="542"/>
                </a:cubicBezTo>
                <a:cubicBezTo>
                  <a:pt x="627" y="534"/>
                  <a:pt x="575" y="543"/>
                  <a:pt x="674" y="518"/>
                </a:cubicBezTo>
                <a:cubicBezTo>
                  <a:pt x="686" y="515"/>
                  <a:pt x="699" y="513"/>
                  <a:pt x="710" y="506"/>
                </a:cubicBezTo>
                <a:cubicBezTo>
                  <a:pt x="722" y="498"/>
                  <a:pt x="746" y="482"/>
                  <a:pt x="746" y="482"/>
                </a:cubicBezTo>
                <a:cubicBezTo>
                  <a:pt x="760" y="461"/>
                  <a:pt x="778" y="453"/>
                  <a:pt x="794" y="434"/>
                </a:cubicBezTo>
                <a:cubicBezTo>
                  <a:pt x="809" y="416"/>
                  <a:pt x="817" y="393"/>
                  <a:pt x="830" y="374"/>
                </a:cubicBezTo>
                <a:cubicBezTo>
                  <a:pt x="851" y="289"/>
                  <a:pt x="841" y="180"/>
                  <a:pt x="764" y="128"/>
                </a:cubicBezTo>
                <a:cubicBezTo>
                  <a:pt x="712" y="50"/>
                  <a:pt x="644" y="31"/>
                  <a:pt x="554" y="20"/>
                </a:cubicBezTo>
                <a:cubicBezTo>
                  <a:pt x="494" y="0"/>
                  <a:pt x="431" y="2"/>
                  <a:pt x="368" y="2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96000" y="2166840"/>
            <a:ext cx="5076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69280" y="1276200"/>
            <a:ext cx="5220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50160" y="1677960"/>
            <a:ext cx="5076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735600" y="1332000"/>
            <a:ext cx="739800" cy="8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735600" y="1720800"/>
            <a:ext cx="11080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38960" y="1882800"/>
            <a:ext cx="2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9000" y="1522440"/>
            <a:ext cx="2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18240" y="1333440"/>
            <a:ext cx="3430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7040" y="1257480"/>
            <a:ext cx="3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182880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62600" y="2179800"/>
            <a:ext cx="1851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R -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19440" y="4848120"/>
            <a:ext cx="2924280" cy="1303560"/>
          </a:xfrm>
          <a:custGeom>
            <a:avLst/>
            <a:gdLst/>
            <a:ahLst/>
            <a:rect l="l" t="t" r="r" b="b"/>
            <a:pathLst>
              <a:path w="1842" h="821">
                <a:moveTo>
                  <a:pt x="1842" y="0"/>
                </a:moveTo>
                <a:cubicBezTo>
                  <a:pt x="1822" y="90"/>
                  <a:pt x="1809" y="411"/>
                  <a:pt x="1722" y="540"/>
                </a:cubicBezTo>
                <a:cubicBezTo>
                  <a:pt x="1635" y="669"/>
                  <a:pt x="1496" y="737"/>
                  <a:pt x="1320" y="774"/>
                </a:cubicBezTo>
                <a:cubicBezTo>
                  <a:pt x="1144" y="811"/>
                  <a:pt x="886" y="821"/>
                  <a:pt x="666" y="762"/>
                </a:cubicBezTo>
                <a:cubicBezTo>
                  <a:pt x="446" y="703"/>
                  <a:pt x="139" y="491"/>
                  <a:pt x="0" y="42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00360" y="4133880"/>
            <a:ext cx="176400" cy="1266840"/>
          </a:xfrm>
          <a:custGeom>
            <a:avLst/>
            <a:gdLst/>
            <a:ahLst/>
            <a:rect l="l" t="t" r="r" b="b"/>
            <a:pathLst>
              <a:path w="111" h="798">
                <a:moveTo>
                  <a:pt x="0" y="0"/>
                </a:moveTo>
                <a:cubicBezTo>
                  <a:pt x="18" y="60"/>
                  <a:pt x="105" y="227"/>
                  <a:pt x="108" y="360"/>
                </a:cubicBezTo>
                <a:cubicBezTo>
                  <a:pt x="111" y="493"/>
                  <a:pt x="36" y="707"/>
                  <a:pt x="17" y="79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00880" y="5648400"/>
            <a:ext cx="8388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42102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00880" y="38955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2847960"/>
            <a:ext cx="952560" cy="255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43040" y="1600200"/>
            <a:ext cx="981360" cy="24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3571920"/>
            <a:ext cx="8210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3360" y="2943360"/>
            <a:ext cx="31428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3876840"/>
            <a:ext cx="31428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600" y="3219480"/>
            <a:ext cx="0" cy="657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62720" y="364824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3440" y="4238640"/>
            <a:ext cx="3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15000" y="501984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14840" y="5743440"/>
            <a:ext cx="390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43560" y="3676680"/>
            <a:ext cx="3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56386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05800" y="4800600"/>
            <a:ext cx="11268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76840" y="47433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05640" y="4667400"/>
            <a:ext cx="371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29160" y="5486400"/>
            <a:ext cx="1952640" cy="307800"/>
          </a:xfrm>
          <a:custGeom>
            <a:avLst/>
            <a:gdLst/>
            <a:ahLst/>
            <a:rect l="l" t="t" r="r" b="b"/>
            <a:pathLst>
              <a:path w="1230" h="194">
                <a:moveTo>
                  <a:pt x="0" y="0"/>
                </a:moveTo>
                <a:cubicBezTo>
                  <a:pt x="206" y="71"/>
                  <a:pt x="413" y="142"/>
                  <a:pt x="618" y="168"/>
                </a:cubicBezTo>
                <a:cubicBezTo>
                  <a:pt x="823" y="194"/>
                  <a:pt x="1026" y="175"/>
                  <a:pt x="1230" y="1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686560" y="4838760"/>
            <a:ext cx="838080" cy="847800"/>
          </a:xfrm>
          <a:custGeom>
            <a:avLst/>
            <a:gdLst/>
            <a:ahLst/>
            <a:rect l="l" t="t" r="r" b="b"/>
            <a:pathLst>
              <a:path w="600" h="546">
                <a:moveTo>
                  <a:pt x="0" y="0"/>
                </a:moveTo>
                <a:cubicBezTo>
                  <a:pt x="28" y="33"/>
                  <a:pt x="114" y="140"/>
                  <a:pt x="168" y="198"/>
                </a:cubicBezTo>
                <a:cubicBezTo>
                  <a:pt x="222" y="256"/>
                  <a:pt x="252" y="290"/>
                  <a:pt x="324" y="348"/>
                </a:cubicBezTo>
                <a:cubicBezTo>
                  <a:pt x="396" y="406"/>
                  <a:pt x="542" y="505"/>
                  <a:pt x="600" y="546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0767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00920" y="436248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10080" y="3782880"/>
            <a:ext cx="1971720" cy="312840"/>
          </a:xfrm>
          <a:custGeom>
            <a:avLst/>
            <a:gdLst/>
            <a:ahLst/>
            <a:rect l="l" t="t" r="r" b="b"/>
            <a:pathLst>
              <a:path w="1242" h="197">
                <a:moveTo>
                  <a:pt x="0" y="197"/>
                </a:moveTo>
                <a:cubicBezTo>
                  <a:pt x="202" y="115"/>
                  <a:pt x="405" y="34"/>
                  <a:pt x="612" y="17"/>
                </a:cubicBezTo>
                <a:cubicBezTo>
                  <a:pt x="819" y="0"/>
                  <a:pt x="1030" y="47"/>
                  <a:pt x="1242" y="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3981600"/>
            <a:ext cx="6696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705280" y="4286160"/>
            <a:ext cx="1047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38680" y="4828680"/>
            <a:ext cx="66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695920" y="4829040"/>
            <a:ext cx="114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686560" y="4867200"/>
            <a:ext cx="828720" cy="847800"/>
          </a:xfrm>
          <a:custGeom>
            <a:avLst/>
            <a:gdLst/>
            <a:ahLst/>
            <a:rect l="l" t="t" r="r" b="b"/>
            <a:pathLst>
              <a:path w="648" h="558">
                <a:moveTo>
                  <a:pt x="648" y="558"/>
                </a:moveTo>
                <a:cubicBezTo>
                  <a:pt x="594" y="544"/>
                  <a:pt x="418" y="522"/>
                  <a:pt x="324" y="474"/>
                </a:cubicBezTo>
                <a:cubicBezTo>
                  <a:pt x="230" y="426"/>
                  <a:pt x="138" y="349"/>
                  <a:pt x="84" y="270"/>
                </a:cubicBezTo>
                <a:cubicBezTo>
                  <a:pt x="30" y="191"/>
                  <a:pt x="17" y="56"/>
                  <a:pt x="0" y="0"/>
                </a:cubicBezTo>
              </a:path>
            </a:pathLst>
          </a:custGeom>
          <a:noFill/>
          <a:ln w="28440">
            <a:solidFill>
              <a:srgbClr val="00cc66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591160" y="3952800"/>
            <a:ext cx="905040" cy="800280"/>
          </a:xfrm>
          <a:custGeom>
            <a:avLst/>
            <a:gdLst/>
            <a:ahLst/>
            <a:rect l="l" t="t" r="r" b="b"/>
            <a:pathLst>
              <a:path w="654" h="468">
                <a:moveTo>
                  <a:pt x="654" y="0"/>
                </a:moveTo>
                <a:cubicBezTo>
                  <a:pt x="606" y="20"/>
                  <a:pt x="443" y="78"/>
                  <a:pt x="366" y="120"/>
                </a:cubicBezTo>
                <a:cubicBezTo>
                  <a:pt x="289" y="162"/>
                  <a:pt x="253" y="194"/>
                  <a:pt x="192" y="252"/>
                </a:cubicBezTo>
                <a:cubicBezTo>
                  <a:pt x="131" y="310"/>
                  <a:pt x="40" y="423"/>
                  <a:pt x="0" y="468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29280" y="40766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148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00560" y="590544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71920" y="449568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38840" y="4267080"/>
            <a:ext cx="628560" cy="514440"/>
          </a:xfrm>
          <a:prstGeom prst="line">
            <a:avLst/>
          </a:prstGeom>
          <a:ln w="28440">
            <a:solidFill>
              <a:srgbClr val="cc99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819760" y="4847760"/>
            <a:ext cx="657360" cy="438120"/>
          </a:xfrm>
          <a:prstGeom prst="line">
            <a:avLst/>
          </a:prstGeom>
          <a:ln w="28440">
            <a:solidFill>
              <a:srgbClr val="00cc66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62680" y="4448160"/>
            <a:ext cx="304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91120" y="4819680"/>
            <a:ext cx="304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81600" y="52578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05680" y="102888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cc33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77200" y="1495440"/>
            <a:ext cx="390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0099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7505640" y="1028520"/>
            <a:ext cx="19080" cy="24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886880" y="1275840"/>
            <a:ext cx="1807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34440" y="1028880"/>
            <a:ext cx="523800" cy="24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97720" y="990720"/>
            <a:ext cx="5256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50320" y="1247760"/>
            <a:ext cx="5220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7115040" y="1276200"/>
            <a:ext cx="362160" cy="288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496280" y="1209240"/>
            <a:ext cx="199800" cy="954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7353360" y="1180800"/>
            <a:ext cx="123840" cy="1047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486560" y="1695600"/>
            <a:ext cx="362160" cy="3780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7848360" y="1466640"/>
            <a:ext cx="28440" cy="19044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896240" y="1657440"/>
            <a:ext cx="228600" cy="475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89760" y="13622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23040" y="92376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75640" y="961920"/>
            <a:ext cx="29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447960" y="2019240"/>
            <a:ext cx="257400" cy="16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724800" y="1961640"/>
            <a:ext cx="9360" cy="209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514920" y="2200320"/>
            <a:ext cx="190440" cy="66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39200" y="4497480"/>
            <a:ext cx="296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2160" y="4565520"/>
            <a:ext cx="1123920" cy="273240"/>
          </a:xfrm>
          <a:custGeom>
            <a:avLst/>
            <a:gdLst/>
            <a:ahLst/>
            <a:rect l="l" t="t" r="r" b="b"/>
            <a:pathLst>
              <a:path w="708" h="172">
                <a:moveTo>
                  <a:pt x="0" y="152"/>
                </a:moveTo>
                <a:cubicBezTo>
                  <a:pt x="27" y="134"/>
                  <a:pt x="103" y="71"/>
                  <a:pt x="162" y="46"/>
                </a:cubicBezTo>
                <a:cubicBezTo>
                  <a:pt x="221" y="21"/>
                  <a:pt x="283" y="0"/>
                  <a:pt x="354" y="4"/>
                </a:cubicBezTo>
                <a:cubicBezTo>
                  <a:pt x="425" y="8"/>
                  <a:pt x="529" y="42"/>
                  <a:pt x="588" y="70"/>
                </a:cubicBezTo>
                <a:cubicBezTo>
                  <a:pt x="647" y="98"/>
                  <a:pt x="683" y="151"/>
                  <a:pt x="708" y="1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62800" y="4697280"/>
            <a:ext cx="1114200" cy="179640"/>
          </a:xfrm>
          <a:custGeom>
            <a:avLst/>
            <a:gdLst/>
            <a:ahLst/>
            <a:rect l="l" t="t" r="r" b="b"/>
            <a:pathLst>
              <a:path w="702" h="113">
                <a:moveTo>
                  <a:pt x="0" y="83"/>
                </a:moveTo>
                <a:cubicBezTo>
                  <a:pt x="62" y="70"/>
                  <a:pt x="255" y="0"/>
                  <a:pt x="372" y="5"/>
                </a:cubicBezTo>
                <a:cubicBezTo>
                  <a:pt x="489" y="10"/>
                  <a:pt x="633" y="91"/>
                  <a:pt x="702" y="1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2480" y="46483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72160" y="4838760"/>
            <a:ext cx="1123920" cy="311040"/>
          </a:xfrm>
          <a:custGeom>
            <a:avLst/>
            <a:gdLst/>
            <a:ahLst/>
            <a:rect l="l" t="t" r="r" b="b"/>
            <a:pathLst>
              <a:path w="702" h="178">
                <a:moveTo>
                  <a:pt x="0" y="0"/>
                </a:moveTo>
                <a:cubicBezTo>
                  <a:pt x="112" y="79"/>
                  <a:pt x="225" y="158"/>
                  <a:pt x="342" y="168"/>
                </a:cubicBezTo>
                <a:cubicBezTo>
                  <a:pt x="459" y="178"/>
                  <a:pt x="580" y="119"/>
                  <a:pt x="702" y="60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53080" y="4848120"/>
            <a:ext cx="1162080" cy="430200"/>
          </a:xfrm>
          <a:custGeom>
            <a:avLst/>
            <a:gdLst/>
            <a:ahLst/>
            <a:rect l="l" t="t" r="r" b="b"/>
            <a:pathLst>
              <a:path w="732" h="271">
                <a:moveTo>
                  <a:pt x="0" y="0"/>
                </a:moveTo>
                <a:cubicBezTo>
                  <a:pt x="28" y="30"/>
                  <a:pt x="108" y="136"/>
                  <a:pt x="168" y="180"/>
                </a:cubicBezTo>
                <a:cubicBezTo>
                  <a:pt x="228" y="224"/>
                  <a:pt x="290" y="257"/>
                  <a:pt x="360" y="264"/>
                </a:cubicBezTo>
                <a:cubicBezTo>
                  <a:pt x="430" y="271"/>
                  <a:pt x="526" y="250"/>
                  <a:pt x="588" y="222"/>
                </a:cubicBezTo>
                <a:cubicBezTo>
                  <a:pt x="650" y="194"/>
                  <a:pt x="702" y="122"/>
                  <a:pt x="732" y="96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20000" y="491508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48440" y="5229360"/>
            <a:ext cx="514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de-DE" sz="1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1" lang="de-DE" sz="10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53200" y="5248440"/>
            <a:ext cx="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05760" y="4886280"/>
            <a:ext cx="285840" cy="74520"/>
          </a:xfrm>
          <a:prstGeom prst="rightArrow">
            <a:avLst>
              <a:gd name="adj1" fmla="val 50000"/>
              <a:gd name="adj2" fmla="val 958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7972920" y="4799160"/>
            <a:ext cx="11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o-tensor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48520" y="4686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533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lato-disko-probl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914400"/>
            <a:ext cx="380988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a problem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 statika analizo de platoj kaj diskoj estas momente nur individue kaj aparte solvitaj. Trovitaj solvoj rilatas nur je bazaj klasoj de geometriaj formoj, specialaj sharghoj kaj elektitaj kalkulmetodo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 tio, che praktikaj aplikadoj devas decidi konstruingheniero kiamaniere uzadi apartajn solvojn por komponi per superpozicioj la serchatan finsolv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praktiko  ni spertas nur rare konstrukciojn, kies labormanieroj estus ekzate kiel dosko au plato. Fakte, oni havas chiam miksitan plato-disko-problemon kaj klopodas solvi ghin pere superpozici-metodojoj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untempe aplikataj teorioj de analizado ofte ne kontentigas kaj ekestas bezono trovi gheneralan teorion, kiu atentas sekvajn aspektojn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unuforma priskribo de plataj kaj diskaj strechoj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valideco por lauvolaj sharghoj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plikebleco al vasta klaso da konstru-formo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uaj analitikaj solvoj de tie definita problemo oni trovas en verkoj de St. Bielak [..], kiu pritraktas la plato-disko-problemon kiel aparta solvo de shelo-teorio en kazo kiam oni atingas limostaton de senfine granda kurbigradiuso.La tiamaniere  statike priskribita limstata konstrustrukturo li nomas: plata shelo (ebena shelo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609480"/>
            <a:ext cx="243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orio de plato-shel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38480" y="838080"/>
            <a:ext cx="480060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 verkoj [..] priskribita estis analitike stato de rektliniaj sheloj helpe de parametrig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 chefajn etapojn de tiu algoritmo oni povas formuli j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1) Geometria priskribo de shelo (au plato-shelo) en parametra prezen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kzempla priskribo de kvarangula platosh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2) Formulado de partaj diferencialaj ekvilibro-ekva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3) Integrado de ekvilibro-ekvacioj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trovi specialan integra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) trovi gheneralan integra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4) Kalkulo de deform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5) Determini integrad-konstantojnel el rando-kondich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6) Determini formulojn por internaj strechoj kaj fortoj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r suba kuplografo montritaj estas pritraktataj rilatoj - povas bone servi kiel modelo/instruhelpilo dum instruado/prezentado de tiu 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419720" y="190512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00080" y="2676600"/>
            <a:ext cx="2962440" cy="2924280"/>
          </a:xfrm>
          <a:custGeom>
            <a:avLst/>
            <a:gdLst/>
            <a:ahLst/>
            <a:rect l="l" t="t" r="r" b="b"/>
            <a:pathLst>
              <a:path w="1866" h="1842">
                <a:moveTo>
                  <a:pt x="0" y="1434"/>
                </a:moveTo>
                <a:lnTo>
                  <a:pt x="1224" y="1842"/>
                </a:lnTo>
                <a:lnTo>
                  <a:pt x="1866" y="534"/>
                </a:lnTo>
                <a:lnTo>
                  <a:pt x="684" y="0"/>
                </a:lnTo>
                <a:lnTo>
                  <a:pt x="0" y="1434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85880" y="3714840"/>
            <a:ext cx="1085760" cy="1047600"/>
          </a:xfrm>
          <a:custGeom>
            <a:avLst/>
            <a:gdLst/>
            <a:ahLst/>
            <a:rect l="l" t="t" r="r" b="b"/>
            <a:pathLst>
              <a:path w="684" h="660">
                <a:moveTo>
                  <a:pt x="0" y="456"/>
                </a:moveTo>
                <a:lnTo>
                  <a:pt x="588" y="0"/>
                </a:lnTo>
                <a:lnTo>
                  <a:pt x="684" y="582"/>
                </a:lnTo>
                <a:lnTo>
                  <a:pt x="228" y="660"/>
                </a:lnTo>
                <a:lnTo>
                  <a:pt x="0" y="4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62440" y="4991040"/>
            <a:ext cx="637920" cy="571680"/>
          </a:xfrm>
          <a:custGeom>
            <a:avLst/>
            <a:gdLst/>
            <a:ahLst/>
            <a:rect l="l" t="t" r="r" b="b"/>
            <a:pathLst>
              <a:path w="402" h="360">
                <a:moveTo>
                  <a:pt x="0" y="360"/>
                </a:moveTo>
                <a:lnTo>
                  <a:pt x="402" y="54"/>
                </a:lnTo>
                <a:lnTo>
                  <a:pt x="186" y="0"/>
                </a:lnTo>
                <a:lnTo>
                  <a:pt x="0" y="36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38240" y="4981680"/>
            <a:ext cx="2286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009800" y="383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00280" y="3438360"/>
            <a:ext cx="343080" cy="21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1504440" y="4295880"/>
            <a:ext cx="14288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7360" y="4734000"/>
            <a:ext cx="412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47960" y="5629320"/>
            <a:ext cx="412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28840" y="567684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9000" y="361008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1800" y="522936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19480" y="5095800"/>
            <a:ext cx="125280" cy="200160"/>
          </a:xfrm>
          <a:custGeom>
            <a:avLst/>
            <a:gdLst/>
            <a:ahLst/>
            <a:rect l="l" t="t" r="r" b="b"/>
            <a:pathLst>
              <a:path w="79" h="126">
                <a:moveTo>
                  <a:pt x="78" y="126"/>
                </a:moveTo>
                <a:cubicBezTo>
                  <a:pt x="76" y="115"/>
                  <a:pt x="79" y="81"/>
                  <a:pt x="66" y="60"/>
                </a:cubicBezTo>
                <a:cubicBezTo>
                  <a:pt x="53" y="39"/>
                  <a:pt x="14" y="12"/>
                  <a:pt x="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8560" y="5000760"/>
            <a:ext cx="2276640" cy="904680"/>
          </a:xfrm>
          <a:custGeom>
            <a:avLst/>
            <a:gdLst/>
            <a:ahLst/>
            <a:rect l="l" t="t" r="r" b="b"/>
            <a:pathLst>
              <a:path w="1434" h="570">
                <a:moveTo>
                  <a:pt x="228" y="0"/>
                </a:moveTo>
                <a:lnTo>
                  <a:pt x="0" y="174"/>
                </a:lnTo>
                <a:lnTo>
                  <a:pt x="1182" y="570"/>
                </a:lnTo>
                <a:lnTo>
                  <a:pt x="1434" y="396"/>
                </a:lnTo>
                <a:lnTo>
                  <a:pt x="228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521028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72080" y="4676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00440" y="459108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66960" y="475308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14520" y="414324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81400" y="349560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81400" y="42861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28960" y="439092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9907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990720"/>
            <a:ext cx="411480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varangula platosh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Geometria priskri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i pritraktu lauvolan kvarangulan platoshelon (PS-elemento)je dikec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ometria priskribo okazas helpe de parametigita prezentado de ghia meza surfaco. El matematika vidpunkto ekzistas senfinaj eblecoj de ghia parametrigado. La preferata parametrigado dependas de klaso de PS-form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hajnas, ke por 3- , 4-angulaj formoj plej bone taugas dupolara parametrig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r iomete simpligi la priskribon oni akceptas, ke centra surfaco (cf) trairas akson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de globala kartezia  dekstra koordinatsistemo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1, 2, 3).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rfaco (cf) formas kun koordinatebeno (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 angulon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kvacio de cf-ebeno kaj paralelaj al ghi, estos priskribata helpe de du faskoj da linioj, irantaj tra bazopunktoj 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j 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un punkton P priskribos ghia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okovekto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1295280"/>
            <a:ext cx="1143000" cy="914400"/>
          </a:xfrm>
          <a:custGeom>
            <a:avLst/>
            <a:gdLst/>
            <a:ahLst/>
            <a:rect l="l" t="t" r="r" b="b"/>
            <a:pathLst>
              <a:path w="720" h="576">
                <a:moveTo>
                  <a:pt x="0" y="432"/>
                </a:moveTo>
                <a:lnTo>
                  <a:pt x="384" y="0"/>
                </a:lnTo>
                <a:lnTo>
                  <a:pt x="720" y="432"/>
                </a:lnTo>
                <a:lnTo>
                  <a:pt x="288" y="576"/>
                </a:lnTo>
                <a:lnTo>
                  <a:pt x="0" y="43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1981080"/>
            <a:ext cx="1143000" cy="38124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0" y="0"/>
                </a:moveTo>
                <a:lnTo>
                  <a:pt x="0" y="96"/>
                </a:lnTo>
                <a:lnTo>
                  <a:pt x="288" y="240"/>
                </a:lnTo>
                <a:lnTo>
                  <a:pt x="288" y="144"/>
                </a:lnTo>
                <a:lnTo>
                  <a:pt x="720" y="0"/>
                </a:lnTo>
                <a:lnTo>
                  <a:pt x="720" y="96"/>
                </a:lnTo>
                <a:lnTo>
                  <a:pt x="288" y="24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19051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00200" y="205740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0" y="0"/>
                </a:moveTo>
                <a:lnTo>
                  <a:pt x="288" y="144"/>
                </a:lnTo>
                <a:lnTo>
                  <a:pt x="72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2514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ntra surfaco (c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886200"/>
            <a:ext cx="75960" cy="1440"/>
          </a:xfrm>
          <a:custGeom>
            <a:avLst/>
            <a:gdLst/>
            <a:ahLst/>
            <a:rect l="l" t="t" r="r" b="b"/>
            <a:pathLst>
              <a:path w="48" h="1">
                <a:moveTo>
                  <a:pt x="48" y="0"/>
                </a:move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4876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28200" y="4943520"/>
            <a:ext cx="3812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24280" y="554364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347652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2981160" y="5124240"/>
            <a:ext cx="58104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009800" y="3533400"/>
            <a:ext cx="1828800" cy="13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000080" y="4610160"/>
            <a:ext cx="206712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028880" y="4352400"/>
            <a:ext cx="134280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66920" y="407664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15360" y="4667400"/>
            <a:ext cx="171360" cy="161640"/>
          </a:xfrm>
          <a:custGeom>
            <a:avLst/>
            <a:gdLst>
              <a:gd name="textAreaLeft" fmla="*/ 10440 w 171360"/>
              <a:gd name="textAreaRight" fmla="*/ 160920 w 171360"/>
              <a:gd name="textAreaTop" fmla="*/ 10440 h 161640"/>
              <a:gd name="textAreaBottom" fmla="*/ 151200 h 161640"/>
            </a:gdLst>
            <a:ahLst/>
            <a:rect l="textAreaLeft" t="textAreaTop" r="textAreaRight" b="textAreaBottom"/>
            <a:pathLst>
              <a:path w="22896" h="21600">
                <a:moveTo>
                  <a:pt x="0" y="0"/>
                </a:moveTo>
                <a:lnTo>
                  <a:pt x="22896" y="0"/>
                </a:lnTo>
                <a:lnTo>
                  <a:pt x="22896" y="21600"/>
                </a:lnTo>
                <a:lnTo>
                  <a:pt x="0" y="21600"/>
                </a:lnTo>
                <a:close/>
              </a:path>
              <a:path fill="lightenLess" w="22896" h="21600">
                <a:moveTo>
                  <a:pt x="0" y="0"/>
                </a:moveTo>
                <a:lnTo>
                  <a:pt x="22896" y="0"/>
                </a:lnTo>
                <a:lnTo>
                  <a:pt x="21496" y="1400"/>
                </a:lnTo>
                <a:lnTo>
                  <a:pt x="1400" y="1400"/>
                </a:lnTo>
                <a:close/>
              </a:path>
              <a:path fill="darken" w="22896" h="21600">
                <a:moveTo>
                  <a:pt x="22896" y="0"/>
                </a:moveTo>
                <a:lnTo>
                  <a:pt x="22896" y="21600"/>
                </a:lnTo>
                <a:lnTo>
                  <a:pt x="21496" y="20200"/>
                </a:lnTo>
                <a:lnTo>
                  <a:pt x="21496" y="1400"/>
                </a:lnTo>
                <a:close/>
              </a:path>
              <a:path fill="darkenLess" w="22896" h="21600">
                <a:moveTo>
                  <a:pt x="22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96" y="20200"/>
                </a:lnTo>
                <a:close/>
              </a:path>
              <a:path fill="lighten" w="22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96" h="21600">
                <a:moveTo>
                  <a:pt x="4442" y="3794"/>
                </a:moveTo>
                <a:lnTo>
                  <a:pt x="18454" y="10800"/>
                </a:lnTo>
                <a:lnTo>
                  <a:pt x="444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981680" y="571680"/>
            <a:ext cx="36957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vacio de cf-ebeno</a:t>
            </a:r>
            <a:br>
              <a:rPr sz="14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okovektoro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(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)  de lauvola punkto P(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gala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(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 +(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) = a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ie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estas la unuecvektoroj de kovarianta baz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 unuecvektorojn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oni povas diserigi lau bazo (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,j,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 jene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 +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j +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 +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j +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 normalvekto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j +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vertikale al cf-ebeno) difinas situon de ebeno, t.e. ghian deklivec-angulon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rilate al koordinatebeno (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etrik-tensoroj de nedeformita eb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st multipliko de skalrproduto oni ricev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mponantoj de tiu metrik-tensoro est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,      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= 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terminanto de metrik-tensoro estas  g = sin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,  (g&gt;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u metrik-tensoro en kontravarianta baz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2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1/sin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,     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 -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sin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  kurbigh-tensoro    b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33800" y="4276800"/>
            <a:ext cx="638280" cy="571320"/>
          </a:xfrm>
          <a:custGeom>
            <a:avLst/>
            <a:gdLst/>
            <a:ahLst/>
            <a:rect l="l" t="t" r="r" b="b"/>
            <a:pathLst>
              <a:path w="402" h="360">
                <a:moveTo>
                  <a:pt x="0" y="360"/>
                </a:moveTo>
                <a:lnTo>
                  <a:pt x="402" y="54"/>
                </a:lnTo>
                <a:lnTo>
                  <a:pt x="186" y="0"/>
                </a:lnTo>
                <a:lnTo>
                  <a:pt x="0" y="36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4267080"/>
            <a:ext cx="246672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18116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71440" y="1962000"/>
            <a:ext cx="2962440" cy="2924280"/>
          </a:xfrm>
          <a:custGeom>
            <a:avLst/>
            <a:gdLst/>
            <a:ahLst/>
            <a:rect l="l" t="t" r="r" b="b"/>
            <a:pathLst>
              <a:path w="1866" h="1842">
                <a:moveTo>
                  <a:pt x="0" y="1434"/>
                </a:moveTo>
                <a:lnTo>
                  <a:pt x="1224" y="1842"/>
                </a:lnTo>
                <a:lnTo>
                  <a:pt x="1866" y="534"/>
                </a:lnTo>
                <a:lnTo>
                  <a:pt x="684" y="0"/>
                </a:lnTo>
                <a:lnTo>
                  <a:pt x="0" y="1434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71640" y="2724120"/>
            <a:ext cx="343080" cy="21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676520" y="3580920"/>
            <a:ext cx="14284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8720" y="4019400"/>
            <a:ext cx="412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19320" y="4915080"/>
            <a:ext cx="412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24400" y="505764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289548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680" y="451476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90840" y="4381560"/>
            <a:ext cx="125640" cy="199800"/>
          </a:xfrm>
          <a:custGeom>
            <a:avLst/>
            <a:gdLst/>
            <a:ahLst/>
            <a:rect l="l" t="t" r="r" b="b"/>
            <a:pathLst>
              <a:path w="79" h="126">
                <a:moveTo>
                  <a:pt x="78" y="126"/>
                </a:moveTo>
                <a:cubicBezTo>
                  <a:pt x="76" y="115"/>
                  <a:pt x="79" y="81"/>
                  <a:pt x="66" y="60"/>
                </a:cubicBezTo>
                <a:cubicBezTo>
                  <a:pt x="53" y="39"/>
                  <a:pt x="14" y="12"/>
                  <a:pt x="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48080" y="449568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52760" y="35719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8280" y="336240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00320" y="367668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181160" y="2838240"/>
            <a:ext cx="2066760" cy="1419480"/>
            <a:chOff x="1181160" y="2838240"/>
            <a:chExt cx="2066760" cy="1419480"/>
          </a:xfrm>
        </p:grpSpPr>
        <p:sp>
          <p:nvSpPr>
            <p:cNvPr id="423" name=""/>
            <p:cNvSpPr/>
            <p:nvPr/>
          </p:nvSpPr>
          <p:spPr>
            <a:xfrm flipV="1">
              <a:off x="1190520" y="2838240"/>
              <a:ext cx="182880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181160" y="3915000"/>
              <a:ext cx="206676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66960" y="3019680"/>
              <a:ext cx="1085760" cy="1047600"/>
            </a:xfrm>
            <a:custGeom>
              <a:avLst/>
              <a:gdLst/>
              <a:ahLst/>
              <a:rect l="l" t="t" r="r" b="b"/>
              <a:pathLst>
                <a:path w="684" h="660">
                  <a:moveTo>
                    <a:pt x="0" y="456"/>
                  </a:moveTo>
                  <a:lnTo>
                    <a:pt x="588" y="0"/>
                  </a:lnTo>
                  <a:lnTo>
                    <a:pt x="684" y="582"/>
                  </a:lnTo>
                  <a:lnTo>
                    <a:pt x="228" y="660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1200240" y="3638160"/>
            <a:ext cx="1342800" cy="590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43040" y="359100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33640" y="421956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95640" y="48672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905040" y="4276440"/>
            <a:ext cx="21888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19320" y="4276800"/>
            <a:ext cx="22860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181160" y="389520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7360" y="4438800"/>
            <a:ext cx="218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600280" y="3676680"/>
            <a:ext cx="533520" cy="1238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1943280" y="3266640"/>
            <a:ext cx="504720" cy="26676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610000" y="3352680"/>
            <a:ext cx="66672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2247840" y="2876400"/>
            <a:ext cx="32400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09840" y="3467160"/>
            <a:ext cx="371520" cy="152280"/>
          </a:xfrm>
          <a:custGeom>
            <a:avLst/>
            <a:gdLst/>
            <a:ahLst/>
            <a:rect l="l" t="t" r="r" b="b"/>
            <a:pathLst>
              <a:path w="234" h="96">
                <a:moveTo>
                  <a:pt x="0" y="36"/>
                </a:moveTo>
                <a:lnTo>
                  <a:pt x="108" y="96"/>
                </a:lnTo>
                <a:lnTo>
                  <a:pt x="234" y="48"/>
                </a:lnTo>
                <a:lnTo>
                  <a:pt x="204" y="18"/>
                </a:lnTo>
                <a:lnTo>
                  <a:pt x="162" y="0"/>
                </a:lnTo>
                <a:lnTo>
                  <a:pt x="108" y="0"/>
                </a:lnTo>
                <a:lnTo>
                  <a:pt x="66" y="6"/>
                </a:lnTo>
                <a:lnTo>
                  <a:pt x="18" y="48"/>
                </a:ln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95520" y="3267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09600" y="4076640"/>
            <a:ext cx="428760" cy="295200"/>
          </a:xfrm>
          <a:custGeom>
            <a:avLst/>
            <a:gdLst/>
            <a:ahLst/>
            <a:rect l="l" t="t" r="r" b="b"/>
            <a:pathLst>
              <a:path w="270" h="162">
                <a:moveTo>
                  <a:pt x="240" y="0"/>
                </a:moveTo>
                <a:lnTo>
                  <a:pt x="0" y="90"/>
                </a:lnTo>
                <a:lnTo>
                  <a:pt x="234" y="162"/>
                </a:lnTo>
                <a:lnTo>
                  <a:pt x="270" y="120"/>
                </a:lnTo>
                <a:lnTo>
                  <a:pt x="270" y="54"/>
                </a:lnTo>
                <a:lnTo>
                  <a:pt x="24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29040" y="4638600"/>
            <a:ext cx="495360" cy="381240"/>
          </a:xfrm>
          <a:custGeom>
            <a:avLst/>
            <a:gdLst/>
            <a:ahLst/>
            <a:rect l="l" t="t" r="r" b="b"/>
            <a:pathLst>
              <a:path w="312" h="240">
                <a:moveTo>
                  <a:pt x="66" y="162"/>
                </a:moveTo>
                <a:lnTo>
                  <a:pt x="312" y="240"/>
                </a:lnTo>
                <a:lnTo>
                  <a:pt x="276" y="162"/>
                </a:lnTo>
                <a:lnTo>
                  <a:pt x="234" y="108"/>
                </a:lnTo>
                <a:lnTo>
                  <a:pt x="198" y="66"/>
                </a:lnTo>
                <a:lnTo>
                  <a:pt x="162" y="36"/>
                </a:lnTo>
                <a:lnTo>
                  <a:pt x="126" y="24"/>
                </a:lnTo>
                <a:lnTo>
                  <a:pt x="84" y="6"/>
                </a:lnTo>
                <a:lnTo>
                  <a:pt x="42" y="6"/>
                </a:lnTo>
                <a:lnTo>
                  <a:pt x="0" y="0"/>
                </a:lnTo>
                <a:lnTo>
                  <a:pt x="66" y="162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90840" y="410544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71760" y="4095720"/>
            <a:ext cx="950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028680" y="4600440"/>
            <a:ext cx="1141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9320" y="4648320"/>
            <a:ext cx="11448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24080" y="4057560"/>
            <a:ext cx="371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05000" y="4667400"/>
            <a:ext cx="371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95320" y="432432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61920" y="38196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38400" y="43243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00480" y="36669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24200" y="307656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38560" y="317196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57400" y="265752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629080" y="3409560"/>
            <a:ext cx="475920" cy="19044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24200" y="2714760"/>
            <a:ext cx="41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c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2333160" y="3076200"/>
            <a:ext cx="190440" cy="42876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590480" y="3067200"/>
            <a:ext cx="81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71560" y="386712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62040" y="4524480"/>
            <a:ext cx="96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86120" y="3171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33520" y="29433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5160" y="5010120"/>
            <a:ext cx="1619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, (i = 1, 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57480" y="5753160"/>
            <a:ext cx="409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57440" y="5562720"/>
            <a:ext cx="8380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57440" y="581976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57440" y="60102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6720" y="5238720"/>
            <a:ext cx="14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|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|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33800" y="5543640"/>
            <a:ext cx="5522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5743440"/>
            <a:ext cx="4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52880" y="57722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33800" y="59720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81680" y="6380280"/>
            <a:ext cx="245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idu sube kuplografon de tiuj rilato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752480" y="2552760"/>
            <a:ext cx="1171800" cy="4474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53080" y="504720"/>
            <a:ext cx="3305160" cy="2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r plena geometria priskribo de konstrukcio necese estas priskribi ghian centran kaj paralelan  surfacojn en nedeformita kaj deformita st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cesajn geometriajn rilatojn liveras ghenerale la diferenciar-geometr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st priskribo de surfaco oni povas difini la geometriajn, fizikajn kaj statikajn kondichoj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e fino - restas chiam la problemo de solvo-eblecoj de ricevita aro da diferenciar-ekvacioj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838760" y="5829480"/>
            <a:ext cx="218880" cy="190440"/>
          </a:xfrm>
          <a:custGeom>
            <a:avLst/>
            <a:gdLst>
              <a:gd name="textAreaLeft" fmla="*/ 12240 w 218880"/>
              <a:gd name="textAreaRight" fmla="*/ 206640 w 21888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24820" h="21600">
                <a:moveTo>
                  <a:pt x="0" y="0"/>
                </a:moveTo>
                <a:lnTo>
                  <a:pt x="24820" y="0"/>
                </a:lnTo>
                <a:lnTo>
                  <a:pt x="24820" y="21600"/>
                </a:lnTo>
                <a:lnTo>
                  <a:pt x="0" y="21600"/>
                </a:lnTo>
                <a:close/>
              </a:path>
              <a:path fill="lightenLess" w="24820" h="21600">
                <a:moveTo>
                  <a:pt x="0" y="0"/>
                </a:moveTo>
                <a:lnTo>
                  <a:pt x="24820" y="0"/>
                </a:lnTo>
                <a:lnTo>
                  <a:pt x="23420" y="1400"/>
                </a:lnTo>
                <a:lnTo>
                  <a:pt x="1400" y="1400"/>
                </a:lnTo>
                <a:close/>
              </a:path>
              <a:path fill="darken" w="24820" h="21600">
                <a:moveTo>
                  <a:pt x="24820" y="0"/>
                </a:moveTo>
                <a:lnTo>
                  <a:pt x="24820" y="21600"/>
                </a:lnTo>
                <a:lnTo>
                  <a:pt x="23420" y="20200"/>
                </a:lnTo>
                <a:lnTo>
                  <a:pt x="23420" y="1400"/>
                </a:lnTo>
                <a:close/>
              </a:path>
              <a:path fill="darkenLess" w="24820" h="21600">
                <a:moveTo>
                  <a:pt x="24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20" y="20200"/>
                </a:lnTo>
                <a:close/>
              </a:path>
              <a:path fill="lighten" w="24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20" h="21600">
                <a:moveTo>
                  <a:pt x="5403" y="3794"/>
                </a:moveTo>
                <a:lnTo>
                  <a:pt x="19416" y="10800"/>
                </a:lnTo>
                <a:lnTo>
                  <a:pt x="540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67360" y="5743440"/>
            <a:ext cx="300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plografo de ghenerala teorio d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ktostrekaj sheloj lau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t. Bielak (19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6200000">
            <a:off x="426240" y="942120"/>
            <a:ext cx="133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lela  surfaco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-924120" y="301500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ntra  surfaco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ita                       nedeformi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378360" y="5190120"/>
            <a:ext cx="133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lela  surfaco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5840" y="1800360"/>
            <a:ext cx="31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7040" y="4791240"/>
            <a:ext cx="3181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00320" y="3114720"/>
            <a:ext cx="19044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81240" y="3095640"/>
            <a:ext cx="95400" cy="219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48200" y="3105000"/>
            <a:ext cx="2476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48200" y="3105000"/>
            <a:ext cx="95040" cy="219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62320" y="3114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05120" y="272412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2714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47840" y="238140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38480" y="200016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86280" y="314316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14480" y="366696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81200" y="3657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00280" y="4133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28760" y="404820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47840" y="443880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0920" y="218124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43280" y="505764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00280" y="505764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57520" y="448632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71680" y="260028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57560" y="54864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66920" y="5962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43240" y="50673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19200" y="571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28920" y="105732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76320" y="1438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14360" y="1533600"/>
            <a:ext cx="943200" cy="1676160"/>
          </a:xfrm>
          <a:custGeom>
            <a:avLst/>
            <a:gdLst/>
            <a:ahLst/>
            <a:rect l="l" t="t" r="r" b="b"/>
            <a:pathLst>
              <a:path w="594" h="1056">
                <a:moveTo>
                  <a:pt x="594" y="1056"/>
                </a:moveTo>
                <a:cubicBezTo>
                  <a:pt x="511" y="998"/>
                  <a:pt x="188" y="834"/>
                  <a:pt x="96" y="708"/>
                </a:cubicBezTo>
                <a:cubicBezTo>
                  <a:pt x="4" y="582"/>
                  <a:pt x="0" y="418"/>
                  <a:pt x="42" y="300"/>
                </a:cubicBezTo>
                <a:cubicBezTo>
                  <a:pt x="84" y="182"/>
                  <a:pt x="284" y="62"/>
                  <a:pt x="3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98520" y="3228840"/>
            <a:ext cx="939960" cy="1886040"/>
          </a:xfrm>
          <a:custGeom>
            <a:avLst/>
            <a:gdLst/>
            <a:ahLst/>
            <a:rect l="l" t="t" r="r" b="b"/>
            <a:pathLst>
              <a:path w="592" h="1188">
                <a:moveTo>
                  <a:pt x="592" y="0"/>
                </a:moveTo>
                <a:cubicBezTo>
                  <a:pt x="508" y="55"/>
                  <a:pt x="176" y="213"/>
                  <a:pt x="88" y="330"/>
                </a:cubicBezTo>
                <a:cubicBezTo>
                  <a:pt x="0" y="447"/>
                  <a:pt x="13" y="559"/>
                  <a:pt x="64" y="702"/>
                </a:cubicBezTo>
                <a:cubicBezTo>
                  <a:pt x="115" y="845"/>
                  <a:pt x="325" y="1087"/>
                  <a:pt x="394" y="1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71840" y="2800440"/>
            <a:ext cx="46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71720" y="260028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76640" y="217188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57520" y="200016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180036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0" y="319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95640" y="3162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19360" y="362916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90920" y="4152960"/>
            <a:ext cx="51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57560" y="4467240"/>
            <a:ext cx="51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0" y="3905280"/>
            <a:ext cx="390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90800" y="358128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47720" y="498168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19280" y="131436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19360" y="509580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71720" y="540072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43280" y="5848200"/>
            <a:ext cx="48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4920" y="399960"/>
            <a:ext cx="48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109548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31960" y="1571760"/>
            <a:ext cx="192240" cy="1180800"/>
          </a:xfrm>
          <a:custGeom>
            <a:avLst/>
            <a:gdLst/>
            <a:ahLst/>
            <a:rect l="l" t="t" r="r" b="b"/>
            <a:pathLst>
              <a:path w="121" h="744">
                <a:moveTo>
                  <a:pt x="115" y="744"/>
                </a:moveTo>
                <a:cubicBezTo>
                  <a:pt x="96" y="680"/>
                  <a:pt x="0" y="484"/>
                  <a:pt x="1" y="360"/>
                </a:cubicBezTo>
                <a:cubicBezTo>
                  <a:pt x="2" y="236"/>
                  <a:pt x="96" y="75"/>
                  <a:pt x="12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66800" y="19810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74880" y="2066760"/>
            <a:ext cx="363600" cy="667080"/>
          </a:xfrm>
          <a:custGeom>
            <a:avLst/>
            <a:gdLst/>
            <a:ahLst/>
            <a:rect l="l" t="t" r="r" b="b"/>
            <a:pathLst>
              <a:path w="229" h="420">
                <a:moveTo>
                  <a:pt x="43" y="420"/>
                </a:moveTo>
                <a:cubicBezTo>
                  <a:pt x="21" y="299"/>
                  <a:pt x="0" y="178"/>
                  <a:pt x="31" y="108"/>
                </a:cubicBezTo>
                <a:cubicBezTo>
                  <a:pt x="62" y="38"/>
                  <a:pt x="145" y="19"/>
                  <a:pt x="2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50920" y="2095560"/>
            <a:ext cx="206640" cy="32364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124" y="210"/>
                </a:moveTo>
                <a:cubicBezTo>
                  <a:pt x="72" y="185"/>
                  <a:pt x="20" y="161"/>
                  <a:pt x="10" y="126"/>
                </a:cubicBezTo>
                <a:cubicBezTo>
                  <a:pt x="0" y="91"/>
                  <a:pt x="32" y="45"/>
                  <a:pt x="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52600" y="2486160"/>
            <a:ext cx="266760" cy="247680"/>
          </a:xfrm>
          <a:custGeom>
            <a:avLst/>
            <a:gdLst/>
            <a:ahLst/>
            <a:rect l="l" t="t" r="r" b="b"/>
            <a:pathLst>
              <a:path w="168" h="156">
                <a:moveTo>
                  <a:pt x="0" y="0"/>
                </a:moveTo>
                <a:cubicBezTo>
                  <a:pt x="16" y="6"/>
                  <a:pt x="68" y="10"/>
                  <a:pt x="96" y="36"/>
                </a:cubicBezTo>
                <a:cubicBezTo>
                  <a:pt x="124" y="62"/>
                  <a:pt x="153" y="131"/>
                  <a:pt x="168" y="1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676600" y="2314440"/>
            <a:ext cx="38160" cy="419400"/>
          </a:xfrm>
          <a:custGeom>
            <a:avLst/>
            <a:gdLst/>
            <a:ahLst/>
            <a:rect l="l" t="t" r="r" b="b"/>
            <a:pathLst>
              <a:path w="24" h="264">
                <a:moveTo>
                  <a:pt x="0" y="264"/>
                </a:moveTo>
                <a:cubicBezTo>
                  <a:pt x="4" y="240"/>
                  <a:pt x="24" y="164"/>
                  <a:pt x="24" y="120"/>
                </a:cubicBezTo>
                <a:cubicBezTo>
                  <a:pt x="24" y="76"/>
                  <a:pt x="5" y="2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23960" y="676440"/>
            <a:ext cx="300240" cy="1514160"/>
          </a:xfrm>
          <a:custGeom>
            <a:avLst/>
            <a:gdLst/>
            <a:ahLst/>
            <a:rect l="l" t="t" r="r" b="b"/>
            <a:pathLst>
              <a:path w="189" h="954">
                <a:moveTo>
                  <a:pt x="90" y="954"/>
                </a:moveTo>
                <a:cubicBezTo>
                  <a:pt x="139" y="739"/>
                  <a:pt x="189" y="525"/>
                  <a:pt x="174" y="366"/>
                </a:cubicBezTo>
                <a:cubicBezTo>
                  <a:pt x="159" y="207"/>
                  <a:pt x="79" y="10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981080" y="1152360"/>
            <a:ext cx="45720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70080" y="657360"/>
            <a:ext cx="239760" cy="1352520"/>
          </a:xfrm>
          <a:custGeom>
            <a:avLst/>
            <a:gdLst/>
            <a:ahLst/>
            <a:rect l="l" t="t" r="r" b="b"/>
            <a:pathLst>
              <a:path w="151" h="852">
                <a:moveTo>
                  <a:pt x="73" y="852"/>
                </a:moveTo>
                <a:cubicBezTo>
                  <a:pt x="63" y="770"/>
                  <a:pt x="0" y="502"/>
                  <a:pt x="13" y="360"/>
                </a:cubicBezTo>
                <a:cubicBezTo>
                  <a:pt x="26" y="218"/>
                  <a:pt x="122" y="75"/>
                  <a:pt x="1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86160" y="695160"/>
            <a:ext cx="39600" cy="381240"/>
          </a:xfrm>
          <a:custGeom>
            <a:avLst/>
            <a:gdLst/>
            <a:ahLst/>
            <a:rect l="l" t="t" r="r" b="b"/>
            <a:pathLst>
              <a:path w="25" h="240">
                <a:moveTo>
                  <a:pt x="6" y="240"/>
                </a:moveTo>
                <a:cubicBezTo>
                  <a:pt x="15" y="191"/>
                  <a:pt x="25" y="142"/>
                  <a:pt x="24" y="102"/>
                </a:cubicBezTo>
                <a:cubicBezTo>
                  <a:pt x="23" y="62"/>
                  <a:pt x="11" y="3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55920" y="714240"/>
            <a:ext cx="39600" cy="352440"/>
          </a:xfrm>
          <a:custGeom>
            <a:avLst/>
            <a:gdLst/>
            <a:ahLst/>
            <a:rect l="l" t="t" r="r" b="b"/>
            <a:pathLst>
              <a:path w="25" h="222">
                <a:moveTo>
                  <a:pt x="25" y="222"/>
                </a:moveTo>
                <a:cubicBezTo>
                  <a:pt x="13" y="177"/>
                  <a:pt x="2" y="133"/>
                  <a:pt x="1" y="96"/>
                </a:cubicBezTo>
                <a:cubicBezTo>
                  <a:pt x="0" y="59"/>
                  <a:pt x="9" y="29"/>
                  <a:pt x="19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81400" y="2847960"/>
            <a:ext cx="237960" cy="314280"/>
          </a:xfrm>
          <a:custGeom>
            <a:avLst/>
            <a:gdLst/>
            <a:ahLst/>
            <a:rect l="l" t="t" r="r" b="b"/>
            <a:pathLst>
              <a:path w="150" h="198">
                <a:moveTo>
                  <a:pt x="0" y="198"/>
                </a:moveTo>
                <a:cubicBezTo>
                  <a:pt x="41" y="169"/>
                  <a:pt x="83" y="141"/>
                  <a:pt x="108" y="108"/>
                </a:cubicBezTo>
                <a:cubicBezTo>
                  <a:pt x="133" y="75"/>
                  <a:pt x="141" y="37"/>
                  <a:pt x="1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00480" y="3170160"/>
            <a:ext cx="685800" cy="49320"/>
          </a:xfrm>
          <a:custGeom>
            <a:avLst/>
            <a:gdLst/>
            <a:ahLst/>
            <a:rect l="l" t="t" r="r" b="b"/>
            <a:pathLst>
              <a:path w="432" h="31">
                <a:moveTo>
                  <a:pt x="0" y="31"/>
                </a:moveTo>
                <a:cubicBezTo>
                  <a:pt x="69" y="16"/>
                  <a:pt x="138" y="2"/>
                  <a:pt x="210" y="1"/>
                </a:cubicBezTo>
                <a:cubicBezTo>
                  <a:pt x="282" y="0"/>
                  <a:pt x="357" y="12"/>
                  <a:pt x="432" y="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76600" y="3257640"/>
            <a:ext cx="438120" cy="409320"/>
          </a:xfrm>
          <a:custGeom>
            <a:avLst/>
            <a:gdLst/>
            <a:ahLst/>
            <a:rect l="l" t="t" r="r" b="b"/>
            <a:pathLst>
              <a:path w="276" h="258">
                <a:moveTo>
                  <a:pt x="276" y="0"/>
                </a:moveTo>
                <a:cubicBezTo>
                  <a:pt x="215" y="41"/>
                  <a:pt x="154" y="83"/>
                  <a:pt x="108" y="126"/>
                </a:cubicBezTo>
                <a:cubicBezTo>
                  <a:pt x="62" y="169"/>
                  <a:pt x="31" y="213"/>
                  <a:pt x="0" y="2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97120" y="2828880"/>
            <a:ext cx="146160" cy="857160"/>
          </a:xfrm>
          <a:custGeom>
            <a:avLst/>
            <a:gdLst/>
            <a:ahLst/>
            <a:rect l="l" t="t" r="r" b="b"/>
            <a:pathLst>
              <a:path w="92" h="540">
                <a:moveTo>
                  <a:pt x="80" y="0"/>
                </a:moveTo>
                <a:cubicBezTo>
                  <a:pt x="40" y="93"/>
                  <a:pt x="0" y="186"/>
                  <a:pt x="2" y="276"/>
                </a:cubicBezTo>
                <a:cubicBezTo>
                  <a:pt x="4" y="366"/>
                  <a:pt x="48" y="453"/>
                  <a:pt x="92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55840" y="2809800"/>
            <a:ext cx="515880" cy="2257560"/>
          </a:xfrm>
          <a:custGeom>
            <a:avLst/>
            <a:gdLst/>
            <a:ahLst/>
            <a:rect l="l" t="t" r="r" b="b"/>
            <a:pathLst>
              <a:path w="325" h="1422">
                <a:moveTo>
                  <a:pt x="283" y="0"/>
                </a:moveTo>
                <a:cubicBezTo>
                  <a:pt x="141" y="40"/>
                  <a:pt x="0" y="81"/>
                  <a:pt x="7" y="318"/>
                </a:cubicBezTo>
                <a:cubicBezTo>
                  <a:pt x="14" y="555"/>
                  <a:pt x="169" y="988"/>
                  <a:pt x="325" y="14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04800" y="375300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48040" y="5086440"/>
            <a:ext cx="552240" cy="38160"/>
          </a:xfrm>
          <a:custGeom>
            <a:avLst/>
            <a:gdLst/>
            <a:ahLst/>
            <a:rect l="l" t="t" r="r" b="b"/>
            <a:pathLst>
              <a:path w="348" h="24">
                <a:moveTo>
                  <a:pt x="0" y="24"/>
                </a:moveTo>
                <a:cubicBezTo>
                  <a:pt x="52" y="12"/>
                  <a:pt x="104" y="0"/>
                  <a:pt x="162" y="0"/>
                </a:cubicBezTo>
                <a:cubicBezTo>
                  <a:pt x="220" y="0"/>
                  <a:pt x="284" y="12"/>
                  <a:pt x="348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5181480"/>
            <a:ext cx="266760" cy="333360"/>
          </a:xfrm>
          <a:custGeom>
            <a:avLst/>
            <a:gdLst/>
            <a:ahLst/>
            <a:rect l="l" t="t" r="r" b="b"/>
            <a:pathLst>
              <a:path w="168" h="210">
                <a:moveTo>
                  <a:pt x="168" y="0"/>
                </a:moveTo>
                <a:cubicBezTo>
                  <a:pt x="158" y="48"/>
                  <a:pt x="148" y="97"/>
                  <a:pt x="120" y="132"/>
                </a:cubicBezTo>
                <a:cubicBezTo>
                  <a:pt x="92" y="167"/>
                  <a:pt x="46" y="188"/>
                  <a:pt x="0" y="2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24120" y="5035680"/>
            <a:ext cx="1409760" cy="79200"/>
          </a:xfrm>
          <a:custGeom>
            <a:avLst/>
            <a:gdLst/>
            <a:ahLst/>
            <a:rect l="l" t="t" r="r" b="b"/>
            <a:pathLst>
              <a:path w="888" h="50">
                <a:moveTo>
                  <a:pt x="888" y="50"/>
                </a:moveTo>
                <a:cubicBezTo>
                  <a:pt x="707" y="27"/>
                  <a:pt x="526" y="4"/>
                  <a:pt x="378" y="2"/>
                </a:cubicBezTo>
                <a:cubicBezTo>
                  <a:pt x="230" y="0"/>
                  <a:pt x="115" y="19"/>
                  <a:pt x="0" y="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65480" y="3267000"/>
            <a:ext cx="115920" cy="1809720"/>
          </a:xfrm>
          <a:custGeom>
            <a:avLst/>
            <a:gdLst/>
            <a:ahLst/>
            <a:rect l="l" t="t" r="r" b="b"/>
            <a:pathLst>
              <a:path w="73" h="1140">
                <a:moveTo>
                  <a:pt x="67" y="0"/>
                </a:moveTo>
                <a:cubicBezTo>
                  <a:pt x="33" y="193"/>
                  <a:pt x="0" y="386"/>
                  <a:pt x="1" y="576"/>
                </a:cubicBezTo>
                <a:cubicBezTo>
                  <a:pt x="2" y="766"/>
                  <a:pt x="37" y="953"/>
                  <a:pt x="73" y="11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10200" y="3171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37432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92" y="0"/>
                </a:moveTo>
                <a:cubicBezTo>
                  <a:pt x="139" y="17"/>
                  <a:pt x="86" y="34"/>
                  <a:pt x="54" y="66"/>
                </a:cubicBezTo>
                <a:cubicBezTo>
                  <a:pt x="22" y="98"/>
                  <a:pt x="11" y="145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51000" y="4133880"/>
            <a:ext cx="96840" cy="324000"/>
          </a:xfrm>
          <a:custGeom>
            <a:avLst/>
            <a:gdLst/>
            <a:ahLst/>
            <a:rect l="l" t="t" r="r" b="b"/>
            <a:pathLst>
              <a:path w="25" h="192">
                <a:moveTo>
                  <a:pt x="19" y="0"/>
                </a:moveTo>
                <a:cubicBezTo>
                  <a:pt x="9" y="38"/>
                  <a:pt x="0" y="76"/>
                  <a:pt x="1" y="108"/>
                </a:cubicBezTo>
                <a:cubicBezTo>
                  <a:pt x="2" y="140"/>
                  <a:pt x="13" y="166"/>
                  <a:pt x="25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78200" y="3781440"/>
            <a:ext cx="250560" cy="647640"/>
          </a:xfrm>
          <a:custGeom>
            <a:avLst/>
            <a:gdLst/>
            <a:ahLst/>
            <a:rect l="l" t="t" r="r" b="b"/>
            <a:pathLst>
              <a:path w="158" h="408">
                <a:moveTo>
                  <a:pt x="2" y="0"/>
                </a:moveTo>
                <a:cubicBezTo>
                  <a:pt x="1" y="101"/>
                  <a:pt x="0" y="202"/>
                  <a:pt x="26" y="270"/>
                </a:cubicBezTo>
                <a:cubicBezTo>
                  <a:pt x="52" y="338"/>
                  <a:pt x="105" y="373"/>
                  <a:pt x="158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573280" y="3772080"/>
            <a:ext cx="115920" cy="352080"/>
            <a:chOff x="2573280" y="3772080"/>
            <a:chExt cx="115920" cy="352080"/>
          </a:xfrm>
        </p:grpSpPr>
        <p:sp>
          <p:nvSpPr>
            <p:cNvPr id="557" name=""/>
            <p:cNvSpPr/>
            <p:nvPr/>
          </p:nvSpPr>
          <p:spPr>
            <a:xfrm>
              <a:off x="2573280" y="3781440"/>
              <a:ext cx="74520" cy="342720"/>
            </a:xfrm>
            <a:custGeom>
              <a:avLst/>
              <a:gdLst/>
              <a:ahLst/>
              <a:rect l="l" t="t" r="r" b="b"/>
              <a:pathLst>
                <a:path w="57" h="216">
                  <a:moveTo>
                    <a:pt x="39" y="0"/>
                  </a:moveTo>
                  <a:cubicBezTo>
                    <a:pt x="19" y="48"/>
                    <a:pt x="0" y="96"/>
                    <a:pt x="3" y="132"/>
                  </a:cubicBezTo>
                  <a:cubicBezTo>
                    <a:pt x="6" y="168"/>
                    <a:pt x="31" y="192"/>
                    <a:pt x="57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29080" y="3772080"/>
              <a:ext cx="60120" cy="352080"/>
            </a:xfrm>
            <a:custGeom>
              <a:avLst/>
              <a:gdLst/>
              <a:ahLst/>
              <a:rect l="l" t="t" r="r" b="b"/>
              <a:pathLst>
                <a:path w="38" h="222">
                  <a:moveTo>
                    <a:pt x="0" y="0"/>
                  </a:moveTo>
                  <a:cubicBezTo>
                    <a:pt x="17" y="41"/>
                    <a:pt x="34" y="83"/>
                    <a:pt x="36" y="120"/>
                  </a:cubicBezTo>
                  <a:cubicBezTo>
                    <a:pt x="38" y="157"/>
                    <a:pt x="25" y="189"/>
                    <a:pt x="12" y="2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38440" y="4048200"/>
              <a:ext cx="190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619360" y="2295360"/>
            <a:ext cx="28440" cy="428760"/>
          </a:xfrm>
          <a:custGeom>
            <a:avLst/>
            <a:gdLst/>
            <a:ahLst/>
            <a:rect l="l" t="t" r="r" b="b"/>
            <a:pathLst>
              <a:path w="18" h="270">
                <a:moveTo>
                  <a:pt x="18" y="270"/>
                </a:moveTo>
                <a:cubicBezTo>
                  <a:pt x="9" y="211"/>
                  <a:pt x="0" y="153"/>
                  <a:pt x="0" y="108"/>
                </a:cubicBezTo>
                <a:cubicBezTo>
                  <a:pt x="0" y="63"/>
                  <a:pt x="9" y="31"/>
                  <a:pt x="1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657520" y="2295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239920" y="5600880"/>
            <a:ext cx="115920" cy="352080"/>
            <a:chOff x="2239920" y="5600880"/>
            <a:chExt cx="115920" cy="352080"/>
          </a:xfrm>
        </p:grpSpPr>
        <p:sp>
          <p:nvSpPr>
            <p:cNvPr id="563" name=""/>
            <p:cNvSpPr/>
            <p:nvPr/>
          </p:nvSpPr>
          <p:spPr>
            <a:xfrm>
              <a:off x="2239920" y="5610240"/>
              <a:ext cx="74520" cy="342720"/>
            </a:xfrm>
            <a:custGeom>
              <a:avLst/>
              <a:gdLst/>
              <a:ahLst/>
              <a:rect l="l" t="t" r="r" b="b"/>
              <a:pathLst>
                <a:path w="57" h="216">
                  <a:moveTo>
                    <a:pt x="39" y="0"/>
                  </a:moveTo>
                  <a:cubicBezTo>
                    <a:pt x="19" y="48"/>
                    <a:pt x="0" y="96"/>
                    <a:pt x="3" y="132"/>
                  </a:cubicBezTo>
                  <a:cubicBezTo>
                    <a:pt x="6" y="168"/>
                    <a:pt x="31" y="192"/>
                    <a:pt x="57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95720" y="5600880"/>
              <a:ext cx="60120" cy="352080"/>
            </a:xfrm>
            <a:custGeom>
              <a:avLst/>
              <a:gdLst/>
              <a:ahLst/>
              <a:rect l="l" t="t" r="r" b="b"/>
              <a:pathLst>
                <a:path w="38" h="222">
                  <a:moveTo>
                    <a:pt x="0" y="0"/>
                  </a:moveTo>
                  <a:cubicBezTo>
                    <a:pt x="17" y="41"/>
                    <a:pt x="34" y="83"/>
                    <a:pt x="36" y="120"/>
                  </a:cubicBezTo>
                  <a:cubicBezTo>
                    <a:pt x="38" y="157"/>
                    <a:pt x="25" y="189"/>
                    <a:pt x="12" y="2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05080" y="5877000"/>
              <a:ext cx="190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448080" y="466560"/>
            <a:ext cx="19080" cy="5639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647800" y="621036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, j = 1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14600" y="638280"/>
            <a:ext cx="145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390760" y="2057400"/>
            <a:ext cx="1714680" cy="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05040" y="2266920"/>
            <a:ext cx="145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43200" y="4181400"/>
            <a:ext cx="158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00480" y="4495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00480" y="6029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00400" y="3147840"/>
            <a:ext cx="952560" cy="81000"/>
          </a:xfrm>
          <a:custGeom>
            <a:avLst/>
            <a:gdLst/>
            <a:ahLst/>
            <a:rect l="l" t="t" r="r" b="b"/>
            <a:pathLst>
              <a:path w="600" h="51">
                <a:moveTo>
                  <a:pt x="600" y="51"/>
                </a:moveTo>
                <a:cubicBezTo>
                  <a:pt x="515" y="28"/>
                  <a:pt x="430" y="6"/>
                  <a:pt x="330" y="3"/>
                </a:cubicBezTo>
                <a:cubicBezTo>
                  <a:pt x="230" y="0"/>
                  <a:pt x="115" y="16"/>
                  <a:pt x="0" y="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67040" y="3276720"/>
            <a:ext cx="17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66920" y="3571920"/>
            <a:ext cx="17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28920" y="5124600"/>
            <a:ext cx="17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95520" y="2876400"/>
            <a:ext cx="17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38480" y="1123920"/>
            <a:ext cx="17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09880" y="2828880"/>
            <a:ext cx="600120" cy="38160"/>
          </a:xfrm>
          <a:custGeom>
            <a:avLst/>
            <a:gdLst/>
            <a:ahLst/>
            <a:rect l="l" t="t" r="r" b="b"/>
            <a:pathLst>
              <a:path w="378" h="24">
                <a:moveTo>
                  <a:pt x="0" y="0"/>
                </a:moveTo>
                <a:cubicBezTo>
                  <a:pt x="61" y="12"/>
                  <a:pt x="123" y="24"/>
                  <a:pt x="186" y="24"/>
                </a:cubicBezTo>
                <a:cubicBezTo>
                  <a:pt x="249" y="24"/>
                  <a:pt x="313" y="12"/>
                  <a:pt x="3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19240" y="2809800"/>
            <a:ext cx="581040" cy="108000"/>
          </a:xfrm>
          <a:custGeom>
            <a:avLst/>
            <a:gdLst/>
            <a:ahLst/>
            <a:rect l="l" t="t" r="r" b="b"/>
            <a:pathLst>
              <a:path w="366" h="68">
                <a:moveTo>
                  <a:pt x="0" y="12"/>
                </a:moveTo>
                <a:cubicBezTo>
                  <a:pt x="59" y="40"/>
                  <a:pt x="119" y="68"/>
                  <a:pt x="180" y="66"/>
                </a:cubicBezTo>
                <a:cubicBezTo>
                  <a:pt x="241" y="64"/>
                  <a:pt x="303" y="32"/>
                  <a:pt x="3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81240" y="26859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52:16Z</dcterms:created>
  <dc:creator>Martin</dc:creator>
  <dc:description/>
  <dc:language>en-US</dc:language>
  <cp:lastModifiedBy>Rudolf</cp:lastModifiedBy>
  <dcterms:modified xsi:type="dcterms:W3CDTF">2004-02-28T10:02:59Z</dcterms:modified>
  <cp:revision>13</cp:revision>
  <dc:subject/>
  <dc:title>Kein Folientitel</dc:title>
</cp:coreProperties>
</file>