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105-B6B7-4ECB-BA27-D255EEAD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D095-53D2-4E1F-8A59-E4A56517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4B6-7211-488D-8838-4C462EA0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4EB-73D8-43AD-A0A5-C92A0166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DCC-E3BD-432A-A52B-9CE6CEF3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77F-B49C-4464-9F5F-33B8E1A5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CC5-0938-49A2-983F-C5DCA116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C8F-9F06-499C-B693-89305EF7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C0D-B82D-4A88-94E4-4891A9F0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DDA-0DEC-41A1-B008-606E52AC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832-75D5-485E-AE0D-B5A16D21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F2B-4567-4E10-A0B6-EBC0A407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3D97-A453-4FC4-8D13-844426AFA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fortoplano%20bazo.ppt" TargetMode="External"/><Relationship Id="rId2" Type="http://schemas.openxmlformats.org/officeDocument/2006/relationships/hyperlink" Target="file:///fortoplano%20grafiko%20.ppt" TargetMode="External"/><Relationship Id="rId3" Type="http://schemas.openxmlformats.org/officeDocument/2006/relationships/hyperlink" Target="file:///fortoplano%20analitiko.ppt" TargetMode="External"/><Relationship Id="rId4" Type="http://schemas.openxmlformats.org/officeDocument/2006/relationships/slide" Target=""/><Relationship Id="rId5" Type="http://schemas.openxmlformats.org/officeDocument/2006/relationships/hyperlink" Target="file:///fortoplano%20bazo.ppt" TargetMode="External"/><Relationship Id="rId6" Type="http://schemas.openxmlformats.org/officeDocument/2006/relationships/hyperlink" Target="file:///fortoplano%20bazo.ppt" TargetMode="External"/><Relationship Id="rId7" Type="http://schemas.openxmlformats.org/officeDocument/2006/relationships/hyperlink" Target="file:///fortoplano%20bazo.ppt" TargetMode="External"/><Relationship Id="rId8" Type="http://schemas.openxmlformats.org/officeDocument/2006/relationships/hyperlink" Target="file:///fortoplano%20bazo.ppt" TargetMode="External"/><Relationship Id="rId9" Type="http://schemas.openxmlformats.org/officeDocument/2006/relationships/hyperlink" Target="file:///fortoplano%20bazo.ppt" TargetMode="External"/><Relationship Id="rId10" Type="http://schemas.openxmlformats.org/officeDocument/2006/relationships/hyperlink" Target="file:///fortoplano%20bazo.ppt" TargetMode="External"/><Relationship Id="rId11" Type="http://schemas.openxmlformats.org/officeDocument/2006/relationships/hyperlink" Target="file:///fortoplano%20bazo.ppt" TargetMode="External"/><Relationship Id="rId12" Type="http://schemas.openxmlformats.org/officeDocument/2006/relationships/hyperlink" Target="file:///fortoplano%20bazo.ppt" TargetMode="External"/><Relationship Id="rId13" Type="http://schemas.openxmlformats.org/officeDocument/2006/relationships/hyperlink" Target="file:///fortoplano%20bazo.ppt" TargetMode="External"/><Relationship Id="rId14" Type="http://schemas.openxmlformats.org/officeDocument/2006/relationships/hyperlink" Target="file:///fortoplano%20stato.ppt" TargetMode="External"/><Relationship Id="rId15" Type="http://schemas.openxmlformats.org/officeDocument/2006/relationships/hyperlink" Target="file:///fortoplano%20bazo.ppt" TargetMode="External"/><Relationship Id="rId16" Type="http://schemas.openxmlformats.org/officeDocument/2006/relationships/hyperlink" Target="file:///fortoplano%20metodo%20.ppt" TargetMode="External"/><Relationship Id="rId17" Type="http://schemas.openxmlformats.org/officeDocument/2006/relationships/hyperlink" Target="file:///C:/Dokumente%20und%20Einstellungen/Rudolf/Eigene%20Dateien/Fortoshnuro%20.ppt" TargetMode="External"/><Relationship Id="rId18" Type="http://schemas.openxmlformats.org/officeDocument/2006/relationships/hyperlink" Target="file:///C:/Dokumente%20und%20Einstellungen/Rudolf/Eigene%20Dateien/Strukturo%20de%20mekaniko(03)/fortoplano%20literaturo.ppt" TargetMode="External"/><Relationship Id="rId19" Type="http://schemas.openxmlformats.org/officeDocument/2006/relationships/hyperlink" Target="file:///fortoplano%20bazo.ppt" TargetMode="External"/><Relationship Id="rId20" Type="http://schemas.openxmlformats.org/officeDocument/2006/relationships/hyperlink" Target="file:///fortoplano%20DIN1301.ppt" TargetMode="External"/><Relationship Id="rId21" Type="http://schemas.openxmlformats.org/officeDocument/2006/relationships/hyperlink" Target="file:///fortoplano%20bazo.ppt" TargetMode="External"/><Relationship Id="rId22" Type="http://schemas.openxmlformats.org/officeDocument/2006/relationships/hyperlink" Target="file:///fortoplano%20analitiko.ppt" TargetMode="External"/><Relationship Id="rId23" Type="http://schemas.openxmlformats.org/officeDocument/2006/relationships/hyperlink" Target="file:///C:/Dokumente%20und%20Einstellungen/Rudolf/Eigene%20Dateien/Strukturo%20de%20mekaniko(03)/fortoplano%20metodo%20.ppt" TargetMode="External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6440" y="324000"/>
            <a:ext cx="7772400" cy="34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</a:t>
            </a:r>
            <a:br>
              <a:rPr sz="20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ortoplano </a:t>
            </a:r>
            <a:br>
              <a:rPr sz="44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initaj elemento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8580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996633"/>
                </a:solidFill>
                <a:latin typeface="Arial"/>
              </a:rPr>
              <a:t>kibernetike pri strukturo de mekani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1523880" y="685440"/>
            <a:ext cx="152640" cy="343836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609480"/>
            <a:ext cx="6934320" cy="3579840"/>
            <a:chOff x="838080" y="609480"/>
            <a:chExt cx="6934320" cy="3579840"/>
          </a:xfrm>
        </p:grpSpPr>
        <p:sp>
          <p:nvSpPr>
            <p:cNvPr id="47" name=""/>
            <p:cNvSpPr/>
            <p:nvPr/>
          </p:nvSpPr>
          <p:spPr>
            <a:xfrm flipH="1" flipV="1">
              <a:off x="1599840" y="685440"/>
              <a:ext cx="2847960" cy="428760"/>
            </a:xfrm>
            <a:prstGeom prst="line">
              <a:avLst/>
            </a:prstGeom>
            <a:ln w="9360">
              <a:solidFill>
                <a:srgbClr val="ffcc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914040" y="2514600"/>
              <a:ext cx="762120" cy="165744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676160" y="1371600"/>
              <a:ext cx="2647800" cy="2781360"/>
            </a:xfrm>
            <a:prstGeom prst="line">
              <a:avLst/>
            </a:prstGeom>
            <a:ln w="9360">
              <a:solidFill>
                <a:srgbClr val="ffcc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914400" y="1676520"/>
              <a:ext cx="1066680" cy="75240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1523880" y="685800"/>
              <a:ext cx="457200" cy="91440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71840" y="1104840"/>
              <a:ext cx="381240" cy="362160"/>
            </a:xfrm>
            <a:prstGeom prst="ellipse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133360" y="1181160"/>
              <a:ext cx="2276280" cy="419040"/>
            </a:xfrm>
            <a:prstGeom prst="line">
              <a:avLst/>
            </a:prstGeom>
            <a:ln w="9360">
              <a:solidFill>
                <a:srgbClr val="ffcc66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990720" y="1276200"/>
              <a:ext cx="3381120" cy="1162080"/>
            </a:xfrm>
            <a:prstGeom prst="line">
              <a:avLst/>
            </a:prstGeom>
            <a:ln w="9360">
              <a:solidFill>
                <a:srgbClr val="ffcc66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2076480"/>
              <a:ext cx="409680" cy="380880"/>
            </a:xfrm>
            <a:prstGeom prst="ellipse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53080" y="2257560"/>
              <a:ext cx="2562120" cy="0"/>
            </a:xfrm>
            <a:prstGeom prst="line">
              <a:avLst/>
            </a:prstGeom>
            <a:ln w="9360">
              <a:solidFill>
                <a:srgbClr val="ffcc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48320" y="2438280"/>
              <a:ext cx="1181160" cy="1438560"/>
            </a:xfrm>
            <a:prstGeom prst="line">
              <a:avLst/>
            </a:prstGeom>
            <a:ln w="9360">
              <a:solidFill>
                <a:srgbClr val="ffcc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91440" y="3191040"/>
              <a:ext cx="599760" cy="266400"/>
            </a:xfrm>
            <a:custGeom>
              <a:avLst/>
              <a:gdLst/>
              <a:ahLst/>
              <a:rect l="l" t="t" r="r" b="b"/>
              <a:pathLst>
                <a:path w="378" h="168">
                  <a:moveTo>
                    <a:pt x="0" y="0"/>
                  </a:moveTo>
                  <a:lnTo>
                    <a:pt x="156" y="168"/>
                  </a:lnTo>
                  <a:lnTo>
                    <a:pt x="378" y="16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58160" y="3495600"/>
              <a:ext cx="600120" cy="266760"/>
            </a:xfrm>
            <a:custGeom>
              <a:avLst/>
              <a:gdLst/>
              <a:ahLst/>
              <a:rect l="l" t="t" r="r" b="b"/>
              <a:pathLst>
                <a:path w="378" h="168">
                  <a:moveTo>
                    <a:pt x="0" y="0"/>
                  </a:moveTo>
                  <a:lnTo>
                    <a:pt x="156" y="168"/>
                  </a:lnTo>
                  <a:lnTo>
                    <a:pt x="378" y="16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81680" y="3191040"/>
              <a:ext cx="600120" cy="266400"/>
            </a:xfrm>
            <a:custGeom>
              <a:avLst/>
              <a:gdLst/>
              <a:ahLst/>
              <a:rect l="l" t="t" r="r" b="b"/>
              <a:pathLst>
                <a:path w="378" h="168">
                  <a:moveTo>
                    <a:pt x="0" y="0"/>
                  </a:moveTo>
                  <a:lnTo>
                    <a:pt x="156" y="168"/>
                  </a:lnTo>
                  <a:lnTo>
                    <a:pt x="378" y="16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72280" y="3191040"/>
              <a:ext cx="600120" cy="266400"/>
            </a:xfrm>
            <a:custGeom>
              <a:avLst/>
              <a:gdLst/>
              <a:ahLst/>
              <a:rect l="l" t="t" r="r" b="b"/>
              <a:pathLst>
                <a:path w="378" h="168">
                  <a:moveTo>
                    <a:pt x="0" y="0"/>
                  </a:moveTo>
                  <a:lnTo>
                    <a:pt x="156" y="168"/>
                  </a:lnTo>
                  <a:lnTo>
                    <a:pt x="378" y="16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15240" y="2895480"/>
              <a:ext cx="600120" cy="266760"/>
            </a:xfrm>
            <a:custGeom>
              <a:avLst/>
              <a:gdLst/>
              <a:ahLst/>
              <a:rect l="l" t="t" r="r" b="b"/>
              <a:pathLst>
                <a:path w="378" h="168">
                  <a:moveTo>
                    <a:pt x="0" y="0"/>
                  </a:moveTo>
                  <a:lnTo>
                    <a:pt x="156" y="168"/>
                  </a:lnTo>
                  <a:lnTo>
                    <a:pt x="378" y="16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0040" y="2590920"/>
              <a:ext cx="599760" cy="266760"/>
            </a:xfrm>
            <a:custGeom>
              <a:avLst/>
              <a:gdLst/>
              <a:ahLst/>
              <a:rect l="l" t="t" r="r" b="b"/>
              <a:pathLst>
                <a:path w="378" h="168">
                  <a:moveTo>
                    <a:pt x="0" y="0"/>
                  </a:moveTo>
                  <a:lnTo>
                    <a:pt x="156" y="168"/>
                  </a:lnTo>
                  <a:lnTo>
                    <a:pt x="378" y="16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24640" y="2895480"/>
              <a:ext cx="600120" cy="266760"/>
            </a:xfrm>
            <a:custGeom>
              <a:avLst/>
              <a:gdLst/>
              <a:ahLst/>
              <a:rect l="l" t="t" r="r" b="b"/>
              <a:pathLst>
                <a:path w="378" h="168">
                  <a:moveTo>
                    <a:pt x="0" y="0"/>
                  </a:moveTo>
                  <a:lnTo>
                    <a:pt x="156" y="168"/>
                  </a:lnTo>
                  <a:lnTo>
                    <a:pt x="378" y="16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62920" y="2819520"/>
              <a:ext cx="74520" cy="745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3124080"/>
              <a:ext cx="74880" cy="748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0" y="2819520"/>
              <a:ext cx="74520" cy="745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91520" y="3429000"/>
              <a:ext cx="74520" cy="745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86600" y="3124080"/>
              <a:ext cx="74520" cy="748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05720" y="3124080"/>
              <a:ext cx="74520" cy="748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10280" y="3429000"/>
              <a:ext cx="74880" cy="745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6600600" y="2219040"/>
              <a:ext cx="35244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447880" y="3467160"/>
              <a:ext cx="11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1600200"/>
              <a:ext cx="74880" cy="745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23880" y="609480"/>
              <a:ext cx="74880" cy="748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8080" y="2438280"/>
              <a:ext cx="74880" cy="748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00200" y="4114800"/>
              <a:ext cx="74520" cy="745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200400" y="4952880"/>
            <a:ext cx="273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udolf  Koppel  (German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64008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sio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264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520" y="368280"/>
            <a:ext cx="7496280" cy="5381640"/>
          </a:xfrm>
          <a:custGeom>
            <a:avLst/>
            <a:gdLst/>
            <a:ahLst/>
            <a:rect l="l" t="t" r="r" b="b"/>
            <a:pathLst>
              <a:path w="4722" h="3042">
                <a:moveTo>
                  <a:pt x="734" y="126"/>
                </a:moveTo>
                <a:lnTo>
                  <a:pt x="4716" y="711"/>
                </a:lnTo>
                <a:lnTo>
                  <a:pt x="4722" y="3042"/>
                </a:lnTo>
                <a:lnTo>
                  <a:pt x="241" y="3016"/>
                </a:lnTo>
                <a:lnTo>
                  <a:pt x="18" y="465"/>
                </a:lnTo>
                <a:lnTo>
                  <a:pt x="0" y="240"/>
                </a:lnTo>
                <a:lnTo>
                  <a:pt x="0" y="0"/>
                </a:lnTo>
                <a:lnTo>
                  <a:pt x="734" y="12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28600"/>
            <a:ext cx="1447560" cy="685800"/>
          </a:xfrm>
          <a:prstGeom prst="rect">
            <a:avLst/>
          </a:prstGeom>
          <a:solidFill>
            <a:srgbClr val="6666ff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66960" y="3949560"/>
            <a:ext cx="1060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igida ko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68800" y="4454640"/>
            <a:ext cx="11271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rnaj fort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81200" y="5714640"/>
            <a:ext cx="1104840" cy="39996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55680" y="3479760"/>
            <a:ext cx="1069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ciprok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4440" y="3209760"/>
            <a:ext cx="1403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erpozici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2640" y="2755800"/>
            <a:ext cx="1403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alitika priskri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3720" y="2438280"/>
            <a:ext cx="1403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rafikaj operac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809720" y="5324400"/>
            <a:ext cx="952560" cy="54288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133720"/>
            <a:ext cx="16588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kanika vidpunk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0160" y="2143080"/>
            <a:ext cx="1857600" cy="10288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zaj operaci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orto-vektoro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76520" y="2438280"/>
            <a:ext cx="2019240" cy="1352520"/>
          </a:xfrm>
          <a:prstGeom prst="ellipse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za ele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09960" y="3714840"/>
            <a:ext cx="11653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rto-specoj sharghoj, reakcioj, komponanat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3838680"/>
            <a:ext cx="11746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azaj efiko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tiro, premo  kurbigo, tor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43600" y="3571920"/>
            <a:ext cx="2114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ial konstrukcio rompigh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3200" y="5559480"/>
            <a:ext cx="2190600" cy="276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jloshtonoj de mekani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0440" y="4206960"/>
            <a:ext cx="1225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isort-mod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/>
          </p:cNvPr>
          <p:cNvSpPr/>
          <p:nvPr/>
        </p:nvSpPr>
        <p:spPr>
          <a:xfrm>
            <a:off x="685800" y="2133720"/>
            <a:ext cx="171360" cy="18072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77">
                <a:moveTo>
                  <a:pt x="0" y="0"/>
                </a:moveTo>
                <a:lnTo>
                  <a:pt x="21600" y="0"/>
                </a:lnTo>
                <a:lnTo>
                  <a:pt x="21600" y="22777"/>
                </a:lnTo>
                <a:lnTo>
                  <a:pt x="0" y="22777"/>
                </a:lnTo>
                <a:close/>
              </a:path>
              <a:path fill="lightenLess" w="21600" h="227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7">
                <a:moveTo>
                  <a:pt x="21600" y="0"/>
                </a:moveTo>
                <a:lnTo>
                  <a:pt x="21600" y="22777"/>
                </a:lnTo>
                <a:lnTo>
                  <a:pt x="20200" y="21377"/>
                </a:lnTo>
                <a:lnTo>
                  <a:pt x="20200" y="1400"/>
                </a:lnTo>
                <a:close/>
              </a:path>
              <a:path fill="darkenLess" w="21600" h="22777">
                <a:moveTo>
                  <a:pt x="21600" y="22777"/>
                </a:moveTo>
                <a:lnTo>
                  <a:pt x="0" y="22777"/>
                </a:lnTo>
                <a:lnTo>
                  <a:pt x="1400" y="21377"/>
                </a:lnTo>
                <a:lnTo>
                  <a:pt x="20200" y="21377"/>
                </a:lnTo>
                <a:close/>
              </a:path>
              <a:path fill="lighten" w="21600" h="22777">
                <a:moveTo>
                  <a:pt x="0" y="227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7"/>
                </a:lnTo>
                <a:close/>
              </a:path>
              <a:path fill="darken" w="21600" h="22777">
                <a:moveTo>
                  <a:pt x="3794" y="4382"/>
                </a:moveTo>
                <a:lnTo>
                  <a:pt x="17806" y="11389"/>
                </a:lnTo>
                <a:lnTo>
                  <a:pt x="3794" y="1839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/>
          </p:cNvPr>
          <p:cNvSpPr/>
          <p:nvPr/>
        </p:nvSpPr>
        <p:spPr>
          <a:xfrm>
            <a:off x="533520" y="243828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"/>
          </p:cNvPr>
          <p:cNvSpPr/>
          <p:nvPr/>
        </p:nvSpPr>
        <p:spPr>
          <a:xfrm>
            <a:off x="609480" y="2819520"/>
            <a:ext cx="171720" cy="180720"/>
          </a:xfrm>
          <a:custGeom>
            <a:avLst/>
            <a:gdLst>
              <a:gd name="textAreaLeft" fmla="*/ 10800 w 171720"/>
              <a:gd name="textAreaRight" fmla="*/ 160920 w 17172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30">
                <a:moveTo>
                  <a:pt x="0" y="0"/>
                </a:moveTo>
                <a:lnTo>
                  <a:pt x="21600" y="0"/>
                </a:lnTo>
                <a:lnTo>
                  <a:pt x="21600" y="22730"/>
                </a:lnTo>
                <a:lnTo>
                  <a:pt x="0" y="22730"/>
                </a:lnTo>
                <a:close/>
              </a:path>
              <a:path fill="lightenLess" w="21600" h="227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30">
                <a:moveTo>
                  <a:pt x="21600" y="0"/>
                </a:moveTo>
                <a:lnTo>
                  <a:pt x="21600" y="22730"/>
                </a:lnTo>
                <a:lnTo>
                  <a:pt x="20200" y="21330"/>
                </a:lnTo>
                <a:lnTo>
                  <a:pt x="20200" y="1400"/>
                </a:lnTo>
                <a:close/>
              </a:path>
              <a:path fill="darkenLess" w="21600" h="22730">
                <a:moveTo>
                  <a:pt x="21600" y="22730"/>
                </a:moveTo>
                <a:lnTo>
                  <a:pt x="0" y="22730"/>
                </a:lnTo>
                <a:lnTo>
                  <a:pt x="1400" y="21330"/>
                </a:lnTo>
                <a:lnTo>
                  <a:pt x="20200" y="21330"/>
                </a:lnTo>
                <a:close/>
              </a:path>
              <a:path fill="lighten" w="21600" h="22730">
                <a:moveTo>
                  <a:pt x="0" y="227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30"/>
                </a:lnTo>
                <a:close/>
              </a:path>
              <a:path fill="darken" w="21600" h="22730">
                <a:moveTo>
                  <a:pt x="3794" y="4358"/>
                </a:moveTo>
                <a:lnTo>
                  <a:pt x="17806" y="11365"/>
                </a:lnTo>
                <a:lnTo>
                  <a:pt x="3794" y="183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1006560" y="327024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5"/>
          </p:cNvPr>
          <p:cNvSpPr/>
          <p:nvPr/>
        </p:nvSpPr>
        <p:spPr>
          <a:xfrm>
            <a:off x="1111320" y="3540240"/>
            <a:ext cx="171360" cy="18072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77">
                <a:moveTo>
                  <a:pt x="0" y="0"/>
                </a:moveTo>
                <a:lnTo>
                  <a:pt x="21600" y="0"/>
                </a:lnTo>
                <a:lnTo>
                  <a:pt x="21600" y="22777"/>
                </a:lnTo>
                <a:lnTo>
                  <a:pt x="0" y="22777"/>
                </a:lnTo>
                <a:close/>
              </a:path>
              <a:path fill="lightenLess" w="21600" h="227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7">
                <a:moveTo>
                  <a:pt x="21600" y="0"/>
                </a:moveTo>
                <a:lnTo>
                  <a:pt x="21600" y="22777"/>
                </a:lnTo>
                <a:lnTo>
                  <a:pt x="20200" y="21377"/>
                </a:lnTo>
                <a:lnTo>
                  <a:pt x="20200" y="1400"/>
                </a:lnTo>
                <a:close/>
              </a:path>
              <a:path fill="darkenLess" w="21600" h="22777">
                <a:moveTo>
                  <a:pt x="21600" y="22777"/>
                </a:moveTo>
                <a:lnTo>
                  <a:pt x="0" y="22777"/>
                </a:lnTo>
                <a:lnTo>
                  <a:pt x="1400" y="21377"/>
                </a:lnTo>
                <a:lnTo>
                  <a:pt x="20200" y="21377"/>
                </a:lnTo>
                <a:close/>
              </a:path>
              <a:path fill="lighten" w="21600" h="22777">
                <a:moveTo>
                  <a:pt x="0" y="227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7"/>
                </a:lnTo>
                <a:close/>
              </a:path>
              <a:path fill="darken" w="21600" h="22777">
                <a:moveTo>
                  <a:pt x="3794" y="4382"/>
                </a:moveTo>
                <a:lnTo>
                  <a:pt x="17806" y="11389"/>
                </a:lnTo>
                <a:lnTo>
                  <a:pt x="3794" y="1839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6"/>
          </p:cNvPr>
          <p:cNvSpPr/>
          <p:nvPr/>
        </p:nvSpPr>
        <p:spPr>
          <a:xfrm>
            <a:off x="2394000" y="4241880"/>
            <a:ext cx="171360" cy="18072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77">
                <a:moveTo>
                  <a:pt x="0" y="0"/>
                </a:moveTo>
                <a:lnTo>
                  <a:pt x="21600" y="0"/>
                </a:lnTo>
                <a:lnTo>
                  <a:pt x="21600" y="22777"/>
                </a:lnTo>
                <a:lnTo>
                  <a:pt x="0" y="22777"/>
                </a:lnTo>
                <a:close/>
              </a:path>
              <a:path fill="lightenLess" w="21600" h="227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7">
                <a:moveTo>
                  <a:pt x="21600" y="0"/>
                </a:moveTo>
                <a:lnTo>
                  <a:pt x="21600" y="22777"/>
                </a:lnTo>
                <a:lnTo>
                  <a:pt x="20200" y="21377"/>
                </a:lnTo>
                <a:lnTo>
                  <a:pt x="20200" y="1400"/>
                </a:lnTo>
                <a:close/>
              </a:path>
              <a:path fill="darkenLess" w="21600" h="22777">
                <a:moveTo>
                  <a:pt x="21600" y="22777"/>
                </a:moveTo>
                <a:lnTo>
                  <a:pt x="0" y="22777"/>
                </a:lnTo>
                <a:lnTo>
                  <a:pt x="1400" y="21377"/>
                </a:lnTo>
                <a:lnTo>
                  <a:pt x="20200" y="21377"/>
                </a:lnTo>
                <a:close/>
              </a:path>
              <a:path fill="lighten" w="21600" h="22777">
                <a:moveTo>
                  <a:pt x="0" y="227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7"/>
                </a:lnTo>
                <a:close/>
              </a:path>
              <a:path fill="darken" w="21600" h="22777">
                <a:moveTo>
                  <a:pt x="3794" y="4382"/>
                </a:moveTo>
                <a:lnTo>
                  <a:pt x="17806" y="11389"/>
                </a:lnTo>
                <a:lnTo>
                  <a:pt x="3794" y="1839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7"/>
          </p:cNvPr>
          <p:cNvSpPr/>
          <p:nvPr/>
        </p:nvSpPr>
        <p:spPr>
          <a:xfrm>
            <a:off x="4378320" y="4489560"/>
            <a:ext cx="171360" cy="18072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77">
                <a:moveTo>
                  <a:pt x="0" y="0"/>
                </a:moveTo>
                <a:lnTo>
                  <a:pt x="21600" y="0"/>
                </a:lnTo>
                <a:lnTo>
                  <a:pt x="21600" y="22777"/>
                </a:lnTo>
                <a:lnTo>
                  <a:pt x="0" y="22777"/>
                </a:lnTo>
                <a:close/>
              </a:path>
              <a:path fill="lightenLess" w="21600" h="227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7">
                <a:moveTo>
                  <a:pt x="21600" y="0"/>
                </a:moveTo>
                <a:lnTo>
                  <a:pt x="21600" y="22777"/>
                </a:lnTo>
                <a:lnTo>
                  <a:pt x="20200" y="21377"/>
                </a:lnTo>
                <a:lnTo>
                  <a:pt x="20200" y="1400"/>
                </a:lnTo>
                <a:close/>
              </a:path>
              <a:path fill="darkenLess" w="21600" h="22777">
                <a:moveTo>
                  <a:pt x="21600" y="22777"/>
                </a:moveTo>
                <a:lnTo>
                  <a:pt x="0" y="22777"/>
                </a:lnTo>
                <a:lnTo>
                  <a:pt x="1400" y="21377"/>
                </a:lnTo>
                <a:lnTo>
                  <a:pt x="20200" y="21377"/>
                </a:lnTo>
                <a:close/>
              </a:path>
              <a:path fill="lighten" w="21600" h="22777">
                <a:moveTo>
                  <a:pt x="0" y="227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7"/>
                </a:lnTo>
                <a:close/>
              </a:path>
              <a:path fill="darken" w="21600" h="22777">
                <a:moveTo>
                  <a:pt x="3794" y="4382"/>
                </a:moveTo>
                <a:lnTo>
                  <a:pt x="17806" y="11389"/>
                </a:lnTo>
                <a:lnTo>
                  <a:pt x="3794" y="1839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8"/>
          </p:cNvPr>
          <p:cNvSpPr/>
          <p:nvPr/>
        </p:nvSpPr>
        <p:spPr>
          <a:xfrm>
            <a:off x="2635200" y="398772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9"/>
          </p:cNvPr>
          <p:cNvSpPr/>
          <p:nvPr/>
        </p:nvSpPr>
        <p:spPr>
          <a:xfrm>
            <a:off x="6143760" y="4524480"/>
            <a:ext cx="171360" cy="18072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77">
                <a:moveTo>
                  <a:pt x="0" y="0"/>
                </a:moveTo>
                <a:lnTo>
                  <a:pt x="21600" y="0"/>
                </a:lnTo>
                <a:lnTo>
                  <a:pt x="21600" y="22777"/>
                </a:lnTo>
                <a:lnTo>
                  <a:pt x="0" y="22777"/>
                </a:lnTo>
                <a:close/>
              </a:path>
              <a:path fill="lightenLess" w="21600" h="227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7">
                <a:moveTo>
                  <a:pt x="21600" y="0"/>
                </a:moveTo>
                <a:lnTo>
                  <a:pt x="21600" y="22777"/>
                </a:lnTo>
                <a:lnTo>
                  <a:pt x="20200" y="21377"/>
                </a:lnTo>
                <a:lnTo>
                  <a:pt x="20200" y="1400"/>
                </a:lnTo>
                <a:close/>
              </a:path>
              <a:path fill="darkenLess" w="21600" h="22777">
                <a:moveTo>
                  <a:pt x="21600" y="22777"/>
                </a:moveTo>
                <a:lnTo>
                  <a:pt x="0" y="22777"/>
                </a:lnTo>
                <a:lnTo>
                  <a:pt x="1400" y="21377"/>
                </a:lnTo>
                <a:lnTo>
                  <a:pt x="20200" y="21377"/>
                </a:lnTo>
                <a:close/>
              </a:path>
              <a:path fill="lighten" w="21600" h="22777">
                <a:moveTo>
                  <a:pt x="0" y="227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7"/>
                </a:lnTo>
                <a:close/>
              </a:path>
              <a:path fill="darken" w="21600" h="22777">
                <a:moveTo>
                  <a:pt x="3794" y="4382"/>
                </a:moveTo>
                <a:lnTo>
                  <a:pt x="17806" y="11389"/>
                </a:lnTo>
                <a:lnTo>
                  <a:pt x="3794" y="1839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5320" y="3029040"/>
            <a:ext cx="1298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strukcio 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0"/>
          </p:cNvPr>
          <p:cNvSpPr/>
          <p:nvPr/>
        </p:nvSpPr>
        <p:spPr>
          <a:xfrm>
            <a:off x="7080120" y="3606840"/>
            <a:ext cx="171720" cy="181080"/>
          </a:xfrm>
          <a:custGeom>
            <a:avLst/>
            <a:gdLst>
              <a:gd name="textAreaLeft" fmla="*/ 10800 w 171720"/>
              <a:gd name="textAreaRight" fmla="*/ 160920 w 17172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775">
                <a:moveTo>
                  <a:pt x="0" y="0"/>
                </a:moveTo>
                <a:lnTo>
                  <a:pt x="21600" y="0"/>
                </a:lnTo>
                <a:lnTo>
                  <a:pt x="21600" y="22775"/>
                </a:lnTo>
                <a:lnTo>
                  <a:pt x="0" y="22775"/>
                </a:lnTo>
                <a:close/>
              </a:path>
              <a:path fill="lightenLess" w="21600" h="22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5">
                <a:moveTo>
                  <a:pt x="21600" y="0"/>
                </a:moveTo>
                <a:lnTo>
                  <a:pt x="21600" y="22775"/>
                </a:lnTo>
                <a:lnTo>
                  <a:pt x="20200" y="21375"/>
                </a:lnTo>
                <a:lnTo>
                  <a:pt x="20200" y="1400"/>
                </a:lnTo>
                <a:close/>
              </a:path>
              <a:path fill="darkenLess" w="21600" h="22775">
                <a:moveTo>
                  <a:pt x="21600" y="22775"/>
                </a:moveTo>
                <a:lnTo>
                  <a:pt x="0" y="22775"/>
                </a:lnTo>
                <a:lnTo>
                  <a:pt x="1400" y="21375"/>
                </a:lnTo>
                <a:lnTo>
                  <a:pt x="20200" y="21375"/>
                </a:lnTo>
                <a:close/>
              </a:path>
              <a:path fill="lighten" w="21600" h="22775">
                <a:moveTo>
                  <a:pt x="0" y="22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5"/>
                </a:lnTo>
                <a:close/>
              </a:path>
              <a:path fill="darken" w="21600" h="22775">
                <a:moveTo>
                  <a:pt x="3794" y="4381"/>
                </a:moveTo>
                <a:lnTo>
                  <a:pt x="17806" y="11387"/>
                </a:lnTo>
                <a:lnTo>
                  <a:pt x="3794" y="183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1"/>
          </p:cNvPr>
          <p:cNvSpPr/>
          <p:nvPr/>
        </p:nvSpPr>
        <p:spPr>
          <a:xfrm>
            <a:off x="6114960" y="4057560"/>
            <a:ext cx="171720" cy="181080"/>
          </a:xfrm>
          <a:custGeom>
            <a:avLst/>
            <a:gdLst>
              <a:gd name="textAreaLeft" fmla="*/ 10800 w 171720"/>
              <a:gd name="textAreaRight" fmla="*/ 160920 w 17172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775">
                <a:moveTo>
                  <a:pt x="0" y="0"/>
                </a:moveTo>
                <a:lnTo>
                  <a:pt x="21600" y="0"/>
                </a:lnTo>
                <a:lnTo>
                  <a:pt x="21600" y="22775"/>
                </a:lnTo>
                <a:lnTo>
                  <a:pt x="0" y="22775"/>
                </a:lnTo>
                <a:close/>
              </a:path>
              <a:path fill="lightenLess" w="21600" h="22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5">
                <a:moveTo>
                  <a:pt x="21600" y="0"/>
                </a:moveTo>
                <a:lnTo>
                  <a:pt x="21600" y="22775"/>
                </a:lnTo>
                <a:lnTo>
                  <a:pt x="20200" y="21375"/>
                </a:lnTo>
                <a:lnTo>
                  <a:pt x="20200" y="1400"/>
                </a:lnTo>
                <a:close/>
              </a:path>
              <a:path fill="darkenLess" w="21600" h="22775">
                <a:moveTo>
                  <a:pt x="21600" y="22775"/>
                </a:moveTo>
                <a:lnTo>
                  <a:pt x="0" y="22775"/>
                </a:lnTo>
                <a:lnTo>
                  <a:pt x="1400" y="21375"/>
                </a:lnTo>
                <a:lnTo>
                  <a:pt x="20200" y="21375"/>
                </a:lnTo>
                <a:close/>
              </a:path>
              <a:path fill="lighten" w="21600" h="22775">
                <a:moveTo>
                  <a:pt x="0" y="22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5"/>
                </a:lnTo>
                <a:close/>
              </a:path>
              <a:path fill="darken" w="21600" h="22775">
                <a:moveTo>
                  <a:pt x="3794" y="4381"/>
                </a:moveTo>
                <a:lnTo>
                  <a:pt x="17806" y="11387"/>
                </a:lnTo>
                <a:lnTo>
                  <a:pt x="3794" y="183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80280" y="2035080"/>
            <a:ext cx="1355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strukcio S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2209680"/>
            <a:ext cx="1876320" cy="990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tika anali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2"/>
          </p:cNvPr>
          <p:cNvSpPr/>
          <p:nvPr/>
        </p:nvSpPr>
        <p:spPr>
          <a:xfrm>
            <a:off x="7620120" y="297180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3"/>
          </p:cNvPr>
          <p:cNvSpPr/>
          <p:nvPr/>
        </p:nvSpPr>
        <p:spPr>
          <a:xfrm>
            <a:off x="7629480" y="198108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8000" y="1419120"/>
            <a:ext cx="1231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to-meto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4"/>
          </p:cNvPr>
          <p:cNvSpPr/>
          <p:nvPr/>
        </p:nvSpPr>
        <p:spPr>
          <a:xfrm>
            <a:off x="6629400" y="1447920"/>
            <a:ext cx="171360" cy="18072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77">
                <a:moveTo>
                  <a:pt x="0" y="0"/>
                </a:moveTo>
                <a:lnTo>
                  <a:pt x="21600" y="0"/>
                </a:lnTo>
                <a:lnTo>
                  <a:pt x="21600" y="22777"/>
                </a:lnTo>
                <a:lnTo>
                  <a:pt x="0" y="22777"/>
                </a:lnTo>
                <a:close/>
              </a:path>
              <a:path fill="lightenLess" w="21600" h="227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7">
                <a:moveTo>
                  <a:pt x="21600" y="0"/>
                </a:moveTo>
                <a:lnTo>
                  <a:pt x="21600" y="22777"/>
                </a:lnTo>
                <a:lnTo>
                  <a:pt x="20200" y="21377"/>
                </a:lnTo>
                <a:lnTo>
                  <a:pt x="20200" y="1400"/>
                </a:lnTo>
                <a:close/>
              </a:path>
              <a:path fill="darkenLess" w="21600" h="22777">
                <a:moveTo>
                  <a:pt x="21600" y="22777"/>
                </a:moveTo>
                <a:lnTo>
                  <a:pt x="0" y="22777"/>
                </a:lnTo>
                <a:lnTo>
                  <a:pt x="1400" y="21377"/>
                </a:lnTo>
                <a:lnTo>
                  <a:pt x="20200" y="21377"/>
                </a:lnTo>
                <a:close/>
              </a:path>
              <a:path fill="lighten" w="21600" h="22777">
                <a:moveTo>
                  <a:pt x="0" y="227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7"/>
                </a:lnTo>
                <a:close/>
              </a:path>
              <a:path fill="darken" w="21600" h="22777">
                <a:moveTo>
                  <a:pt x="3794" y="4382"/>
                </a:moveTo>
                <a:lnTo>
                  <a:pt x="17806" y="11389"/>
                </a:lnTo>
                <a:lnTo>
                  <a:pt x="3794" y="1839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98880" y="1247760"/>
            <a:ext cx="142236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ransloko-meto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53200" y="120960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1482840"/>
            <a:ext cx="145908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ato-ekvac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1482840"/>
            <a:ext cx="171360" cy="18072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77">
                <a:moveTo>
                  <a:pt x="0" y="0"/>
                </a:moveTo>
                <a:lnTo>
                  <a:pt x="21600" y="0"/>
                </a:lnTo>
                <a:lnTo>
                  <a:pt x="21600" y="22777"/>
                </a:lnTo>
                <a:lnTo>
                  <a:pt x="0" y="22777"/>
                </a:lnTo>
                <a:close/>
              </a:path>
              <a:path fill="lightenLess" w="21600" h="227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7">
                <a:moveTo>
                  <a:pt x="21600" y="0"/>
                </a:moveTo>
                <a:lnTo>
                  <a:pt x="21600" y="22777"/>
                </a:lnTo>
                <a:lnTo>
                  <a:pt x="20200" y="21377"/>
                </a:lnTo>
                <a:lnTo>
                  <a:pt x="20200" y="1400"/>
                </a:lnTo>
                <a:close/>
              </a:path>
              <a:path fill="darkenLess" w="21600" h="22777">
                <a:moveTo>
                  <a:pt x="21600" y="22777"/>
                </a:moveTo>
                <a:lnTo>
                  <a:pt x="0" y="22777"/>
                </a:lnTo>
                <a:lnTo>
                  <a:pt x="1400" y="21377"/>
                </a:lnTo>
                <a:lnTo>
                  <a:pt x="20200" y="21377"/>
                </a:lnTo>
                <a:close/>
              </a:path>
              <a:path fill="lighten" w="21600" h="22777">
                <a:moveTo>
                  <a:pt x="0" y="227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7"/>
                </a:lnTo>
                <a:close/>
              </a:path>
              <a:path fill="darken" w="21600" h="22777">
                <a:moveTo>
                  <a:pt x="3794" y="4382"/>
                </a:moveTo>
                <a:lnTo>
                  <a:pt x="17806" y="11389"/>
                </a:lnTo>
                <a:lnTo>
                  <a:pt x="3794" y="1839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3772080"/>
            <a:ext cx="1203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irtuala lab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5"/>
          </p:cNvPr>
          <p:cNvSpPr/>
          <p:nvPr/>
        </p:nvSpPr>
        <p:spPr>
          <a:xfrm>
            <a:off x="1600200" y="762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6"/>
          </p:cNvPr>
          <p:cNvSpPr/>
          <p:nvPr/>
        </p:nvSpPr>
        <p:spPr>
          <a:xfrm>
            <a:off x="1254240" y="381960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76520" y="2438280"/>
            <a:ext cx="2019240" cy="13525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tika ele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7"/>
          </p:cNvPr>
          <p:cNvSpPr/>
          <p:nvPr/>
        </p:nvSpPr>
        <p:spPr>
          <a:xfrm>
            <a:off x="457200" y="3049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ibernetika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idpunk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8"/>
          </p:cNvPr>
          <p:cNvSpPr/>
          <p:nvPr/>
        </p:nvSpPr>
        <p:spPr>
          <a:xfrm>
            <a:off x="2778120" y="5651640"/>
            <a:ext cx="171360" cy="18072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77">
                <a:moveTo>
                  <a:pt x="0" y="0"/>
                </a:moveTo>
                <a:lnTo>
                  <a:pt x="21600" y="0"/>
                </a:lnTo>
                <a:lnTo>
                  <a:pt x="21600" y="22777"/>
                </a:lnTo>
                <a:lnTo>
                  <a:pt x="0" y="22777"/>
                </a:lnTo>
                <a:close/>
              </a:path>
              <a:path fill="lightenLess" w="21600" h="227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7">
                <a:moveTo>
                  <a:pt x="21600" y="0"/>
                </a:moveTo>
                <a:lnTo>
                  <a:pt x="21600" y="22777"/>
                </a:lnTo>
                <a:lnTo>
                  <a:pt x="20200" y="21377"/>
                </a:lnTo>
                <a:lnTo>
                  <a:pt x="20200" y="1400"/>
                </a:lnTo>
                <a:close/>
              </a:path>
              <a:path fill="darkenLess" w="21600" h="22777">
                <a:moveTo>
                  <a:pt x="21600" y="22777"/>
                </a:moveTo>
                <a:lnTo>
                  <a:pt x="0" y="22777"/>
                </a:lnTo>
                <a:lnTo>
                  <a:pt x="1400" y="21377"/>
                </a:lnTo>
                <a:lnTo>
                  <a:pt x="20200" y="21377"/>
                </a:lnTo>
                <a:close/>
              </a:path>
              <a:path fill="lighten" w="21600" h="22777">
                <a:moveTo>
                  <a:pt x="0" y="227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7"/>
                </a:lnTo>
                <a:close/>
              </a:path>
              <a:path fill="darken" w="21600" h="22777">
                <a:moveTo>
                  <a:pt x="3794" y="4382"/>
                </a:moveTo>
                <a:lnTo>
                  <a:pt x="17806" y="11389"/>
                </a:lnTo>
                <a:lnTo>
                  <a:pt x="3794" y="1839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38480" y="3067200"/>
            <a:ext cx="1685880" cy="933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incipo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 mekanik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5581800"/>
            <a:ext cx="1851120" cy="276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tematika helpi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68880" y="565776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1000" y="5295960"/>
            <a:ext cx="1587240" cy="55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knikaj unu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N 1301-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67160" y="1828800"/>
            <a:ext cx="115236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lastec-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9"/>
          </p:cNvPr>
          <p:cNvSpPr/>
          <p:nvPr/>
        </p:nvSpPr>
        <p:spPr>
          <a:xfrm>
            <a:off x="7404120" y="5359320"/>
            <a:ext cx="209520" cy="228600"/>
          </a:xfrm>
          <a:custGeom>
            <a:avLst/>
            <a:gdLst>
              <a:gd name="textAreaLeft" fmla="*/ 13320 w 209520"/>
              <a:gd name="textAreaRight" fmla="*/ 196200 w 209520"/>
              <a:gd name="textAreaTop" fmla="*/ 13320 h 228600"/>
              <a:gd name="textAreaBottom" fmla="*/ 215280 h 228600"/>
            </a:gdLst>
            <a:ahLst/>
            <a:rect l="textAreaLeft" t="textAreaTop" r="textAreaRight" b="textAreaBottom"/>
            <a:pathLst>
              <a:path w="21600" h="23564">
                <a:moveTo>
                  <a:pt x="0" y="0"/>
                </a:moveTo>
                <a:lnTo>
                  <a:pt x="21600" y="0"/>
                </a:lnTo>
                <a:lnTo>
                  <a:pt x="21600" y="23564"/>
                </a:lnTo>
                <a:lnTo>
                  <a:pt x="0" y="23564"/>
                </a:lnTo>
                <a:close/>
              </a:path>
              <a:path fill="lightenLess" w="21600" h="235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4">
                <a:moveTo>
                  <a:pt x="21600" y="0"/>
                </a:moveTo>
                <a:lnTo>
                  <a:pt x="21600" y="23564"/>
                </a:lnTo>
                <a:lnTo>
                  <a:pt x="20200" y="22164"/>
                </a:lnTo>
                <a:lnTo>
                  <a:pt x="20200" y="1400"/>
                </a:lnTo>
                <a:close/>
              </a:path>
              <a:path fill="darkenLess" w="21600" h="23564">
                <a:moveTo>
                  <a:pt x="21600" y="23564"/>
                </a:moveTo>
                <a:lnTo>
                  <a:pt x="0" y="23564"/>
                </a:lnTo>
                <a:lnTo>
                  <a:pt x="1400" y="22164"/>
                </a:lnTo>
                <a:lnTo>
                  <a:pt x="20200" y="22164"/>
                </a:lnTo>
                <a:close/>
              </a:path>
              <a:path fill="lighten" w="21600" h="23564">
                <a:moveTo>
                  <a:pt x="0" y="235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4"/>
                </a:lnTo>
                <a:close/>
              </a:path>
              <a:path fill="darken" w="21600" h="23564">
                <a:moveTo>
                  <a:pt x="3794" y="4775"/>
                </a:moveTo>
                <a:lnTo>
                  <a:pt x="17806" y="11782"/>
                </a:lnTo>
                <a:lnTo>
                  <a:pt x="3794" y="1878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0"/>
          </p:cNvPr>
          <p:cNvSpPr/>
          <p:nvPr/>
        </p:nvSpPr>
        <p:spPr>
          <a:xfrm>
            <a:off x="7391520" y="5638680"/>
            <a:ext cx="209520" cy="228600"/>
          </a:xfrm>
          <a:custGeom>
            <a:avLst/>
            <a:gdLst>
              <a:gd name="textAreaLeft" fmla="*/ 13320 w 209520"/>
              <a:gd name="textAreaRight" fmla="*/ 196200 w 209520"/>
              <a:gd name="textAreaTop" fmla="*/ 13320 h 228600"/>
              <a:gd name="textAreaBottom" fmla="*/ 215280 h 228600"/>
            </a:gdLst>
            <a:ahLst/>
            <a:rect l="textAreaLeft" t="textAreaTop" r="textAreaRight" b="textAreaBottom"/>
            <a:pathLst>
              <a:path w="21600" h="23564">
                <a:moveTo>
                  <a:pt x="0" y="0"/>
                </a:moveTo>
                <a:lnTo>
                  <a:pt x="21600" y="0"/>
                </a:lnTo>
                <a:lnTo>
                  <a:pt x="21600" y="23564"/>
                </a:lnTo>
                <a:lnTo>
                  <a:pt x="0" y="23564"/>
                </a:lnTo>
                <a:close/>
              </a:path>
              <a:path fill="lightenLess" w="21600" h="235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4">
                <a:moveTo>
                  <a:pt x="21600" y="0"/>
                </a:moveTo>
                <a:lnTo>
                  <a:pt x="21600" y="23564"/>
                </a:lnTo>
                <a:lnTo>
                  <a:pt x="20200" y="22164"/>
                </a:lnTo>
                <a:lnTo>
                  <a:pt x="20200" y="1400"/>
                </a:lnTo>
                <a:close/>
              </a:path>
              <a:path fill="darkenLess" w="21600" h="23564">
                <a:moveTo>
                  <a:pt x="21600" y="23564"/>
                </a:moveTo>
                <a:lnTo>
                  <a:pt x="0" y="23564"/>
                </a:lnTo>
                <a:lnTo>
                  <a:pt x="1400" y="22164"/>
                </a:lnTo>
                <a:lnTo>
                  <a:pt x="20200" y="22164"/>
                </a:lnTo>
                <a:close/>
              </a:path>
              <a:path fill="lighten" w="21600" h="23564">
                <a:moveTo>
                  <a:pt x="0" y="235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4"/>
                </a:lnTo>
                <a:close/>
              </a:path>
              <a:path fill="darken" w="21600" h="23564">
                <a:moveTo>
                  <a:pt x="3794" y="4775"/>
                </a:moveTo>
                <a:lnTo>
                  <a:pt x="17806" y="11782"/>
                </a:lnTo>
                <a:lnTo>
                  <a:pt x="3794" y="1878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01920" y="4044960"/>
            <a:ext cx="825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nami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1"/>
          </p:cNvPr>
          <p:cNvSpPr/>
          <p:nvPr/>
        </p:nvSpPr>
        <p:spPr>
          <a:xfrm>
            <a:off x="1368360" y="408312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22"/>
          </p:cNvPr>
          <p:cNvSpPr/>
          <p:nvPr/>
        </p:nvSpPr>
        <p:spPr>
          <a:xfrm>
            <a:off x="2400480" y="182880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1143000"/>
            <a:ext cx="142236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nitaj element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1080" y="1698480"/>
            <a:ext cx="1368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ROSS-meto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3"/>
          </p:cNvPr>
          <p:cNvSpPr/>
          <p:nvPr/>
        </p:nvSpPr>
        <p:spPr>
          <a:xfrm>
            <a:off x="2389320" y="1143000"/>
            <a:ext cx="201600" cy="216000"/>
          </a:xfrm>
          <a:custGeom>
            <a:avLst/>
            <a:gdLst>
              <a:gd name="textAreaLeft" fmla="*/ 12960 w 201600"/>
              <a:gd name="textAreaRight" fmla="*/ 188640 w 20160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3140">
                <a:moveTo>
                  <a:pt x="0" y="0"/>
                </a:moveTo>
                <a:lnTo>
                  <a:pt x="21600" y="0"/>
                </a:lnTo>
                <a:lnTo>
                  <a:pt x="21600" y="23140"/>
                </a:lnTo>
                <a:lnTo>
                  <a:pt x="0" y="23140"/>
                </a:lnTo>
                <a:close/>
              </a:path>
              <a:path fill="lightenLess" w="21600" h="231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0">
                <a:moveTo>
                  <a:pt x="21600" y="0"/>
                </a:moveTo>
                <a:lnTo>
                  <a:pt x="21600" y="23140"/>
                </a:lnTo>
                <a:lnTo>
                  <a:pt x="20200" y="21740"/>
                </a:lnTo>
                <a:lnTo>
                  <a:pt x="20200" y="1400"/>
                </a:lnTo>
                <a:close/>
              </a:path>
              <a:path fill="darkenLess" w="21600" h="23140">
                <a:moveTo>
                  <a:pt x="21600" y="23140"/>
                </a:moveTo>
                <a:lnTo>
                  <a:pt x="0" y="23140"/>
                </a:lnTo>
                <a:lnTo>
                  <a:pt x="1400" y="21740"/>
                </a:lnTo>
                <a:lnTo>
                  <a:pt x="20200" y="21740"/>
                </a:lnTo>
                <a:close/>
              </a:path>
              <a:path fill="lighten" w="21600" h="23140">
                <a:moveTo>
                  <a:pt x="0" y="231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0"/>
                </a:lnTo>
                <a:close/>
              </a:path>
              <a:path fill="darken" w="21600" h="23140">
                <a:moveTo>
                  <a:pt x="3794" y="4564"/>
                </a:moveTo>
                <a:lnTo>
                  <a:pt x="17806" y="11570"/>
                </a:lnTo>
                <a:lnTo>
                  <a:pt x="3794" y="1857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64008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sio 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10080" y="1504800"/>
            <a:ext cx="2324160" cy="10954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ruktur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nstruteori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77240" y="174132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11:04:56Z</dcterms:created>
  <dc:creator>Rudolf</dc:creator>
  <dc:description/>
  <dc:language>en-US</dc:language>
  <cp:lastModifiedBy>quednau</cp:lastModifiedBy>
  <dcterms:modified xsi:type="dcterms:W3CDTF">2004-04-20T14:54:20Z</dcterms:modified>
  <cp:revision>12</cp:revision>
  <dc:subject/>
  <dc:title>el fortoplano  al  finitaj elementoj</dc:title>
</cp:coreProperties>
</file>