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EC27-9493-4861-B7C6-5476367B8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C14E-7F52-4F54-A289-C6361255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7CC8-C71F-4249-B2A0-1AB8DB68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FE56-CB5F-401D-9F57-4E72E9ECD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6EEE-19BD-4124-80EF-6E7C1459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D30B-52C3-4904-9DCE-FCBE3897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7D0A-8593-4AFF-AEDB-9A4AF5A0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2A9E-E742-419D-A077-DDF2E98F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3C8A-AB77-4AEB-8E82-3113A535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33EB-0D8C-41AF-A73E-C954E06E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F770-37CA-4C5A-8B37-FE747097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7F13-60B9-4DC0-A21B-4BC92519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C497-D820-4056-B5DD-128C523DB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Matematikaj rimed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76440" y="3381480"/>
            <a:ext cx="370512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8088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tematika helpilo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38088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zentado de objekt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aj ekvaci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38088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38088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ktora kaj tensora kalk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38088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ferenciala geomet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38088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38088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419960" y="0"/>
            <a:ext cx="12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ersio 2003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09640" y="4114800"/>
            <a:ext cx="295200" cy="142920"/>
          </a:xfrm>
          <a:custGeom>
            <a:avLst/>
            <a:gdLst>
              <a:gd name="textAreaLeft" fmla="*/ 9000 w 295200"/>
              <a:gd name="textAreaRight" fmla="*/ 286200 w 29520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44557" h="21600">
                <a:moveTo>
                  <a:pt x="0" y="0"/>
                </a:moveTo>
                <a:lnTo>
                  <a:pt x="44557" y="0"/>
                </a:lnTo>
                <a:lnTo>
                  <a:pt x="44557" y="21600"/>
                </a:lnTo>
                <a:lnTo>
                  <a:pt x="0" y="21600"/>
                </a:lnTo>
                <a:close/>
              </a:path>
              <a:path fill="lightenLess" w="44557" h="21600">
                <a:moveTo>
                  <a:pt x="0" y="0"/>
                </a:moveTo>
                <a:lnTo>
                  <a:pt x="44557" y="0"/>
                </a:lnTo>
                <a:lnTo>
                  <a:pt x="43157" y="1400"/>
                </a:lnTo>
                <a:lnTo>
                  <a:pt x="1400" y="1400"/>
                </a:lnTo>
                <a:close/>
              </a:path>
              <a:path fill="darken" w="44557" h="21600">
                <a:moveTo>
                  <a:pt x="44557" y="0"/>
                </a:moveTo>
                <a:lnTo>
                  <a:pt x="44557" y="21600"/>
                </a:lnTo>
                <a:lnTo>
                  <a:pt x="43157" y="20200"/>
                </a:lnTo>
                <a:lnTo>
                  <a:pt x="43157" y="1400"/>
                </a:lnTo>
                <a:close/>
              </a:path>
              <a:path fill="darkenLess" w="44557" h="21600">
                <a:moveTo>
                  <a:pt x="445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157" y="20200"/>
                </a:lnTo>
                <a:close/>
              </a:path>
              <a:path fill="lighten" w="445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557" h="21600">
                <a:moveTo>
                  <a:pt x="15272" y="3794"/>
                </a:moveTo>
                <a:lnTo>
                  <a:pt x="29285" y="10800"/>
                </a:lnTo>
                <a:lnTo>
                  <a:pt x="1527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1" action="ppaction://hlinksldjump"/>
          </p:cNvPr>
          <p:cNvSpPr/>
          <p:nvPr/>
        </p:nvSpPr>
        <p:spPr>
          <a:xfrm>
            <a:off x="1133640" y="4438800"/>
            <a:ext cx="161640" cy="152280"/>
          </a:xfrm>
          <a:custGeom>
            <a:avLst/>
            <a:gdLst>
              <a:gd name="textAreaLeft" fmla="*/ 9720 w 161640"/>
              <a:gd name="textAreaRight" fmla="*/ 151920 w 16164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2925" h="21600">
                <a:moveTo>
                  <a:pt x="0" y="0"/>
                </a:moveTo>
                <a:lnTo>
                  <a:pt x="22925" y="0"/>
                </a:lnTo>
                <a:lnTo>
                  <a:pt x="22925" y="21600"/>
                </a:lnTo>
                <a:lnTo>
                  <a:pt x="0" y="21600"/>
                </a:lnTo>
                <a:close/>
              </a:path>
              <a:path fill="lightenLess" w="22925" h="21600">
                <a:moveTo>
                  <a:pt x="0" y="0"/>
                </a:moveTo>
                <a:lnTo>
                  <a:pt x="22925" y="0"/>
                </a:lnTo>
                <a:lnTo>
                  <a:pt x="21525" y="1400"/>
                </a:lnTo>
                <a:lnTo>
                  <a:pt x="1400" y="1400"/>
                </a:lnTo>
                <a:close/>
              </a:path>
              <a:path fill="darken" w="22925" h="21600">
                <a:moveTo>
                  <a:pt x="22925" y="0"/>
                </a:moveTo>
                <a:lnTo>
                  <a:pt x="22925" y="21600"/>
                </a:lnTo>
                <a:lnTo>
                  <a:pt x="21525" y="20200"/>
                </a:lnTo>
                <a:lnTo>
                  <a:pt x="21525" y="1400"/>
                </a:lnTo>
                <a:close/>
              </a:path>
              <a:path fill="darkenLess" w="22925" h="21600">
                <a:moveTo>
                  <a:pt x="229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25" y="20200"/>
                </a:lnTo>
                <a:close/>
              </a:path>
              <a:path fill="lighten" w="229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25" h="21600">
                <a:moveTo>
                  <a:pt x="4456" y="3794"/>
                </a:moveTo>
                <a:lnTo>
                  <a:pt x="18469" y="10800"/>
                </a:lnTo>
                <a:lnTo>
                  <a:pt x="445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790560" y="5067360"/>
            <a:ext cx="295200" cy="142920"/>
          </a:xfrm>
          <a:custGeom>
            <a:avLst/>
            <a:gdLst>
              <a:gd name="textAreaLeft" fmla="*/ 9000 w 295200"/>
              <a:gd name="textAreaRight" fmla="*/ 286200 w 29520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44557" h="21600">
                <a:moveTo>
                  <a:pt x="0" y="0"/>
                </a:moveTo>
                <a:lnTo>
                  <a:pt x="44557" y="0"/>
                </a:lnTo>
                <a:lnTo>
                  <a:pt x="44557" y="21600"/>
                </a:lnTo>
                <a:lnTo>
                  <a:pt x="0" y="21600"/>
                </a:lnTo>
                <a:close/>
              </a:path>
              <a:path fill="lightenLess" w="44557" h="21600">
                <a:moveTo>
                  <a:pt x="0" y="0"/>
                </a:moveTo>
                <a:lnTo>
                  <a:pt x="44557" y="0"/>
                </a:lnTo>
                <a:lnTo>
                  <a:pt x="43157" y="1400"/>
                </a:lnTo>
                <a:lnTo>
                  <a:pt x="1400" y="1400"/>
                </a:lnTo>
                <a:close/>
              </a:path>
              <a:path fill="darken" w="44557" h="21600">
                <a:moveTo>
                  <a:pt x="44557" y="0"/>
                </a:moveTo>
                <a:lnTo>
                  <a:pt x="44557" y="21600"/>
                </a:lnTo>
                <a:lnTo>
                  <a:pt x="43157" y="20200"/>
                </a:lnTo>
                <a:lnTo>
                  <a:pt x="43157" y="1400"/>
                </a:lnTo>
                <a:close/>
              </a:path>
              <a:path fill="darkenLess" w="44557" h="21600">
                <a:moveTo>
                  <a:pt x="445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157" y="20200"/>
                </a:lnTo>
                <a:close/>
              </a:path>
              <a:path fill="lighten" w="445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557" h="21600">
                <a:moveTo>
                  <a:pt x="15272" y="3794"/>
                </a:moveTo>
                <a:lnTo>
                  <a:pt x="29285" y="10800"/>
                </a:lnTo>
                <a:lnTo>
                  <a:pt x="1527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90560" y="5381640"/>
            <a:ext cx="295200" cy="142920"/>
          </a:xfrm>
          <a:custGeom>
            <a:avLst/>
            <a:gdLst>
              <a:gd name="textAreaLeft" fmla="*/ 9000 w 295200"/>
              <a:gd name="textAreaRight" fmla="*/ 286200 w 29520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44557" h="21600">
                <a:moveTo>
                  <a:pt x="0" y="0"/>
                </a:moveTo>
                <a:lnTo>
                  <a:pt x="44557" y="0"/>
                </a:lnTo>
                <a:lnTo>
                  <a:pt x="44557" y="21600"/>
                </a:lnTo>
                <a:lnTo>
                  <a:pt x="0" y="21600"/>
                </a:lnTo>
                <a:close/>
              </a:path>
              <a:path fill="lightenLess" w="44557" h="21600">
                <a:moveTo>
                  <a:pt x="0" y="0"/>
                </a:moveTo>
                <a:lnTo>
                  <a:pt x="44557" y="0"/>
                </a:lnTo>
                <a:lnTo>
                  <a:pt x="43157" y="1400"/>
                </a:lnTo>
                <a:lnTo>
                  <a:pt x="1400" y="1400"/>
                </a:lnTo>
                <a:close/>
              </a:path>
              <a:path fill="darken" w="44557" h="21600">
                <a:moveTo>
                  <a:pt x="44557" y="0"/>
                </a:moveTo>
                <a:lnTo>
                  <a:pt x="44557" y="21600"/>
                </a:lnTo>
                <a:lnTo>
                  <a:pt x="43157" y="20200"/>
                </a:lnTo>
                <a:lnTo>
                  <a:pt x="43157" y="1400"/>
                </a:lnTo>
                <a:close/>
              </a:path>
              <a:path fill="darkenLess" w="44557" h="21600">
                <a:moveTo>
                  <a:pt x="445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157" y="20200"/>
                </a:lnTo>
                <a:close/>
              </a:path>
              <a:path fill="lighten" w="445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557" h="21600">
                <a:moveTo>
                  <a:pt x="15272" y="3794"/>
                </a:moveTo>
                <a:lnTo>
                  <a:pt x="29285" y="10800"/>
                </a:lnTo>
                <a:lnTo>
                  <a:pt x="1527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28600"/>
            <a:ext cx="7772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l</a:t>
            </a:r>
            <a:br>
              <a:rPr sz="4400"/>
            </a:b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fortoplano </a:t>
            </a:r>
            <a:br>
              <a:rPr sz="44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finitaj elemento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124840" y="6553080"/>
            <a:ext cx="8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rsio 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352520" y="2743200"/>
            <a:ext cx="380880" cy="317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09680" y="2266920"/>
            <a:ext cx="648000" cy="348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ik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Matematikaj rimed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743360" y="704880"/>
            <a:ext cx="4248360" cy="45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876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inearaj ekvaci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5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kzemple, tradicie notita linearaj ekvaci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876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+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+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 =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br>
              <a:rPr sz="1200"/>
            </a:b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+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+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 =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+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+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 =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5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vas esti prezentataj helpe de indeksitaj objektoj je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5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br>
              <a:rPr sz="1200"/>
            </a:b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1200"/>
            </a:b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876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5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j solvo de tiu ekvaciaro posedas simplan for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876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876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ij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(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/A)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876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ant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 =  |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| = 0 ,   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ro de elemento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876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171440" y="3029040"/>
            <a:ext cx="343080" cy="317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152800" y="1419120"/>
            <a:ext cx="342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81120" y="1876320"/>
            <a:ext cx="1467000" cy="166680"/>
          </a:xfrm>
          <a:custGeom>
            <a:avLst/>
            <a:gdLst/>
            <a:ahLst/>
            <a:rect l="l" t="t" r="r" b="b"/>
            <a:pathLst>
              <a:path w="924" h="105">
                <a:moveTo>
                  <a:pt x="0" y="18"/>
                </a:moveTo>
                <a:cubicBezTo>
                  <a:pt x="160" y="61"/>
                  <a:pt x="320" y="105"/>
                  <a:pt x="474" y="102"/>
                </a:cubicBezTo>
                <a:cubicBezTo>
                  <a:pt x="628" y="99"/>
                  <a:pt x="776" y="49"/>
                  <a:pt x="924" y="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09800" y="5667480"/>
            <a:ext cx="4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371600" y="819000"/>
            <a:ext cx="1952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onitaj estas du objektoj: x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kaj x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- kunligitaj per linearaj ekvacio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rovu inversigon de tiu relacio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6381360" y="4362480"/>
            <a:ext cx="2844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198520" y="180036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05000" y="2666880"/>
            <a:ext cx="93960" cy="93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495440" y="2705040"/>
            <a:ext cx="93600" cy="93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2647800"/>
            <a:ext cx="466560" cy="317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200400" y="2114640"/>
            <a:ext cx="466560" cy="317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i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133640" y="1571760"/>
            <a:ext cx="380880" cy="317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28840" y="1790640"/>
            <a:ext cx="142920" cy="1429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581120" y="1716120"/>
            <a:ext cx="1467000" cy="141120"/>
          </a:xfrm>
          <a:custGeom>
            <a:avLst/>
            <a:gdLst/>
            <a:ahLst/>
            <a:rect l="l" t="t" r="r" b="b"/>
            <a:pathLst>
              <a:path w="924" h="89">
                <a:moveTo>
                  <a:pt x="0" y="89"/>
                </a:moveTo>
                <a:cubicBezTo>
                  <a:pt x="139" y="49"/>
                  <a:pt x="278" y="10"/>
                  <a:pt x="432" y="5"/>
                </a:cubicBezTo>
                <a:cubicBezTo>
                  <a:pt x="586" y="0"/>
                  <a:pt x="755" y="29"/>
                  <a:pt x="924" y="5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57480" y="1752480"/>
            <a:ext cx="162000" cy="16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83480" y="1541520"/>
            <a:ext cx="293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52880" y="1914480"/>
            <a:ext cx="118800" cy="771480"/>
          </a:xfrm>
          <a:custGeom>
            <a:avLst/>
            <a:gdLst/>
            <a:ahLst/>
            <a:rect l="l" t="t" r="r" b="b"/>
            <a:pathLst>
              <a:path w="75" h="486">
                <a:moveTo>
                  <a:pt x="0" y="0"/>
                </a:moveTo>
                <a:cubicBezTo>
                  <a:pt x="34" y="79"/>
                  <a:pt x="69" y="159"/>
                  <a:pt x="72" y="240"/>
                </a:cubicBezTo>
                <a:cubicBezTo>
                  <a:pt x="75" y="321"/>
                  <a:pt x="46" y="403"/>
                  <a:pt x="18" y="486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04800" y="1933560"/>
            <a:ext cx="1609920" cy="781200"/>
          </a:xfrm>
          <a:custGeom>
            <a:avLst/>
            <a:gdLst/>
            <a:ahLst/>
            <a:rect l="l" t="t" r="r" b="b"/>
            <a:pathLst>
              <a:path w="1014" h="492">
                <a:moveTo>
                  <a:pt x="0" y="0"/>
                </a:moveTo>
                <a:cubicBezTo>
                  <a:pt x="149" y="139"/>
                  <a:pt x="299" y="278"/>
                  <a:pt x="468" y="360"/>
                </a:cubicBezTo>
                <a:cubicBezTo>
                  <a:pt x="637" y="442"/>
                  <a:pt x="825" y="467"/>
                  <a:pt x="1014" y="4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308240" y="1943280"/>
            <a:ext cx="187200" cy="780840"/>
          </a:xfrm>
          <a:custGeom>
            <a:avLst/>
            <a:gdLst/>
            <a:ahLst/>
            <a:rect l="l" t="t" r="r" b="b"/>
            <a:pathLst>
              <a:path w="118" h="492">
                <a:moveTo>
                  <a:pt x="94" y="0"/>
                </a:moveTo>
                <a:cubicBezTo>
                  <a:pt x="47" y="82"/>
                  <a:pt x="0" y="164"/>
                  <a:pt x="4" y="246"/>
                </a:cubicBezTo>
                <a:cubicBezTo>
                  <a:pt x="8" y="328"/>
                  <a:pt x="63" y="410"/>
                  <a:pt x="118" y="49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504800" y="1933560"/>
            <a:ext cx="141480" cy="762120"/>
          </a:xfrm>
          <a:custGeom>
            <a:avLst/>
            <a:gdLst/>
            <a:ahLst/>
            <a:rect l="l" t="t" r="r" b="b"/>
            <a:pathLst>
              <a:path w="89" h="450">
                <a:moveTo>
                  <a:pt x="30" y="450"/>
                </a:moveTo>
                <a:cubicBezTo>
                  <a:pt x="59" y="373"/>
                  <a:pt x="89" y="297"/>
                  <a:pt x="84" y="222"/>
                </a:cubicBezTo>
                <a:cubicBezTo>
                  <a:pt x="79" y="147"/>
                  <a:pt x="39" y="73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571760" y="2266920"/>
            <a:ext cx="419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28880" y="2276640"/>
            <a:ext cx="419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81120" y="2762280"/>
            <a:ext cx="1523880" cy="176040"/>
          </a:xfrm>
          <a:custGeom>
            <a:avLst/>
            <a:gdLst/>
            <a:ahLst/>
            <a:rect l="l" t="t" r="r" b="b"/>
            <a:pathLst>
              <a:path w="960" h="111">
                <a:moveTo>
                  <a:pt x="0" y="18"/>
                </a:moveTo>
                <a:cubicBezTo>
                  <a:pt x="166" y="64"/>
                  <a:pt x="332" y="111"/>
                  <a:pt x="492" y="108"/>
                </a:cubicBezTo>
                <a:cubicBezTo>
                  <a:pt x="652" y="105"/>
                  <a:pt x="806" y="52"/>
                  <a:pt x="96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47680" y="3029040"/>
            <a:ext cx="238140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terminanto A dispartigita je minoroj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versigu branchon A , poste branch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4762440"/>
            <a:ext cx="466920" cy="317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86120" y="3990960"/>
            <a:ext cx="466560" cy="317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i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09600" y="3457440"/>
            <a:ext cx="381240" cy="317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504800" y="3676680"/>
            <a:ext cx="142920" cy="1429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657440" y="3602160"/>
            <a:ext cx="1466640" cy="141120"/>
          </a:xfrm>
          <a:custGeom>
            <a:avLst/>
            <a:gdLst/>
            <a:ahLst/>
            <a:rect l="l" t="t" r="r" b="b"/>
            <a:pathLst>
              <a:path w="924" h="89">
                <a:moveTo>
                  <a:pt x="0" y="89"/>
                </a:moveTo>
                <a:cubicBezTo>
                  <a:pt x="139" y="49"/>
                  <a:pt x="278" y="10"/>
                  <a:pt x="432" y="5"/>
                </a:cubicBezTo>
                <a:cubicBezTo>
                  <a:pt x="586" y="0"/>
                  <a:pt x="755" y="29"/>
                  <a:pt x="924" y="5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33800" y="3638520"/>
            <a:ext cx="162000" cy="16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78880" y="3475080"/>
            <a:ext cx="293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84200" y="3828960"/>
            <a:ext cx="187560" cy="781200"/>
          </a:xfrm>
          <a:custGeom>
            <a:avLst/>
            <a:gdLst/>
            <a:ahLst/>
            <a:rect l="l" t="t" r="r" b="b"/>
            <a:pathLst>
              <a:path w="118" h="492">
                <a:moveTo>
                  <a:pt x="94" y="0"/>
                </a:moveTo>
                <a:cubicBezTo>
                  <a:pt x="47" y="82"/>
                  <a:pt x="0" y="164"/>
                  <a:pt x="4" y="246"/>
                </a:cubicBezTo>
                <a:cubicBezTo>
                  <a:pt x="8" y="328"/>
                  <a:pt x="63" y="410"/>
                  <a:pt x="118" y="49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581120" y="3819600"/>
            <a:ext cx="141480" cy="761760"/>
          </a:xfrm>
          <a:custGeom>
            <a:avLst/>
            <a:gdLst/>
            <a:ahLst/>
            <a:rect l="l" t="t" r="r" b="b"/>
            <a:pathLst>
              <a:path w="89" h="450">
                <a:moveTo>
                  <a:pt x="30" y="450"/>
                </a:moveTo>
                <a:cubicBezTo>
                  <a:pt x="59" y="373"/>
                  <a:pt x="89" y="297"/>
                  <a:pt x="84" y="222"/>
                </a:cubicBezTo>
                <a:cubicBezTo>
                  <a:pt x="79" y="147"/>
                  <a:pt x="39" y="73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47720" y="4048200"/>
            <a:ext cx="419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104840" y="4029120"/>
            <a:ext cx="419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57440" y="4648320"/>
            <a:ext cx="1523880" cy="176040"/>
          </a:xfrm>
          <a:custGeom>
            <a:avLst/>
            <a:gdLst/>
            <a:ahLst/>
            <a:rect l="l" t="t" r="r" b="b"/>
            <a:pathLst>
              <a:path w="960" h="111">
                <a:moveTo>
                  <a:pt x="0" y="18"/>
                </a:moveTo>
                <a:cubicBezTo>
                  <a:pt x="166" y="64"/>
                  <a:pt x="332" y="111"/>
                  <a:pt x="492" y="108"/>
                </a:cubicBezTo>
                <a:cubicBezTo>
                  <a:pt x="652" y="105"/>
                  <a:pt x="806" y="52"/>
                  <a:pt x="96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62040" y="4581360"/>
            <a:ext cx="93600" cy="93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81320" y="4572000"/>
            <a:ext cx="93600" cy="93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638360" y="3781440"/>
            <a:ext cx="401400" cy="819000"/>
          </a:xfrm>
          <a:custGeom>
            <a:avLst/>
            <a:gdLst/>
            <a:ahLst/>
            <a:rect l="l" t="t" r="r" b="b"/>
            <a:pathLst>
              <a:path w="253" h="516">
                <a:moveTo>
                  <a:pt x="0" y="0"/>
                </a:moveTo>
                <a:cubicBezTo>
                  <a:pt x="35" y="22"/>
                  <a:pt x="173" y="73"/>
                  <a:pt x="210" y="132"/>
                </a:cubicBezTo>
                <a:cubicBezTo>
                  <a:pt x="247" y="191"/>
                  <a:pt x="253" y="290"/>
                  <a:pt x="222" y="354"/>
                </a:cubicBezTo>
                <a:cubicBezTo>
                  <a:pt x="191" y="418"/>
                  <a:pt x="65" y="482"/>
                  <a:pt x="24" y="5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704960" y="3819600"/>
            <a:ext cx="1486080" cy="809640"/>
          </a:xfrm>
          <a:custGeom>
            <a:avLst/>
            <a:gdLst/>
            <a:ahLst/>
            <a:rect l="l" t="t" r="r" b="b"/>
            <a:pathLst>
              <a:path w="882" h="516">
                <a:moveTo>
                  <a:pt x="882" y="0"/>
                </a:moveTo>
                <a:cubicBezTo>
                  <a:pt x="828" y="56"/>
                  <a:pt x="705" y="250"/>
                  <a:pt x="558" y="336"/>
                </a:cubicBezTo>
                <a:cubicBezTo>
                  <a:pt x="411" y="422"/>
                  <a:pt x="116" y="479"/>
                  <a:pt x="0" y="516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952720" y="4248000"/>
            <a:ext cx="219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886120" y="4191120"/>
            <a:ext cx="466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962000" y="3790800"/>
            <a:ext cx="6480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ik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066760" y="4067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076480" y="4019400"/>
            <a:ext cx="466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76640" y="6381720"/>
            <a:ext cx="466560" cy="28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305160" y="5695920"/>
            <a:ext cx="466920" cy="28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i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276200" y="5076720"/>
            <a:ext cx="381240" cy="317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71760" y="5295960"/>
            <a:ext cx="142920" cy="1429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200400" y="5257800"/>
            <a:ext cx="162000" cy="16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345480" y="5094360"/>
            <a:ext cx="293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450800" y="5448240"/>
            <a:ext cx="187560" cy="781200"/>
          </a:xfrm>
          <a:custGeom>
            <a:avLst/>
            <a:gdLst/>
            <a:ahLst/>
            <a:rect l="l" t="t" r="r" b="b"/>
            <a:pathLst>
              <a:path w="118" h="492">
                <a:moveTo>
                  <a:pt x="94" y="0"/>
                </a:moveTo>
                <a:cubicBezTo>
                  <a:pt x="47" y="82"/>
                  <a:pt x="0" y="164"/>
                  <a:pt x="4" y="246"/>
                </a:cubicBezTo>
                <a:cubicBezTo>
                  <a:pt x="8" y="328"/>
                  <a:pt x="63" y="410"/>
                  <a:pt x="118" y="49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57440" y="5448240"/>
            <a:ext cx="131760" cy="752400"/>
          </a:xfrm>
          <a:custGeom>
            <a:avLst/>
            <a:gdLst/>
            <a:ahLst/>
            <a:rect l="l" t="t" r="r" b="b"/>
            <a:pathLst>
              <a:path w="89" h="450">
                <a:moveTo>
                  <a:pt x="30" y="450"/>
                </a:moveTo>
                <a:cubicBezTo>
                  <a:pt x="59" y="373"/>
                  <a:pt x="89" y="297"/>
                  <a:pt x="84" y="222"/>
                </a:cubicBezTo>
                <a:cubicBezTo>
                  <a:pt x="79" y="147"/>
                  <a:pt x="39" y="73"/>
                  <a:pt x="0" y="0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743120" y="5686560"/>
            <a:ext cx="419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171440" y="5781600"/>
            <a:ext cx="419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724040" y="6267600"/>
            <a:ext cx="1523880" cy="176040"/>
          </a:xfrm>
          <a:custGeom>
            <a:avLst/>
            <a:gdLst/>
            <a:ahLst/>
            <a:rect l="l" t="t" r="r" b="b"/>
            <a:pathLst>
              <a:path w="960" h="111">
                <a:moveTo>
                  <a:pt x="0" y="18"/>
                </a:moveTo>
                <a:cubicBezTo>
                  <a:pt x="166" y="64"/>
                  <a:pt x="332" y="111"/>
                  <a:pt x="492" y="108"/>
                </a:cubicBezTo>
                <a:cubicBezTo>
                  <a:pt x="652" y="105"/>
                  <a:pt x="806" y="52"/>
                  <a:pt x="96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67000" y="5419800"/>
            <a:ext cx="95400" cy="809640"/>
          </a:xfrm>
          <a:custGeom>
            <a:avLst/>
            <a:gdLst/>
            <a:ahLst/>
            <a:rect l="l" t="t" r="r" b="b"/>
            <a:pathLst>
              <a:path w="60" h="510">
                <a:moveTo>
                  <a:pt x="0" y="0"/>
                </a:moveTo>
                <a:cubicBezTo>
                  <a:pt x="30" y="80"/>
                  <a:pt x="60" y="161"/>
                  <a:pt x="60" y="246"/>
                </a:cubicBezTo>
                <a:cubicBezTo>
                  <a:pt x="60" y="331"/>
                  <a:pt x="30" y="420"/>
                  <a:pt x="0" y="51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228840" y="6210360"/>
            <a:ext cx="93960" cy="93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638360" y="6210360"/>
            <a:ext cx="93600" cy="93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752480" y="5381640"/>
            <a:ext cx="1447920" cy="857160"/>
          </a:xfrm>
          <a:custGeom>
            <a:avLst/>
            <a:gdLst/>
            <a:ahLst/>
            <a:rect l="l" t="t" r="r" b="b"/>
            <a:pathLst>
              <a:path w="882" h="516">
                <a:moveTo>
                  <a:pt x="882" y="0"/>
                </a:moveTo>
                <a:cubicBezTo>
                  <a:pt x="828" y="56"/>
                  <a:pt x="705" y="250"/>
                  <a:pt x="558" y="336"/>
                </a:cubicBezTo>
                <a:cubicBezTo>
                  <a:pt x="411" y="422"/>
                  <a:pt x="116" y="479"/>
                  <a:pt x="0" y="516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457280" y="6238800"/>
            <a:ext cx="3808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390680" y="4629240"/>
            <a:ext cx="3808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714680" y="5362560"/>
            <a:ext cx="1466640" cy="93600"/>
          </a:xfrm>
          <a:custGeom>
            <a:avLst/>
            <a:gdLst/>
            <a:ahLst/>
            <a:rect l="l" t="t" r="r" b="b"/>
            <a:pathLst>
              <a:path w="924" h="59">
                <a:moveTo>
                  <a:pt x="0" y="30"/>
                </a:moveTo>
                <a:cubicBezTo>
                  <a:pt x="166" y="44"/>
                  <a:pt x="332" y="59"/>
                  <a:pt x="486" y="54"/>
                </a:cubicBezTo>
                <a:cubicBezTo>
                  <a:pt x="640" y="49"/>
                  <a:pt x="782" y="24"/>
                  <a:pt x="924" y="0"/>
                </a:cubicBezTo>
              </a:path>
            </a:pathLst>
          </a:custGeom>
          <a:noFill/>
          <a:ln w="28440">
            <a:solidFill>
              <a:srgbClr val="808080"/>
            </a:solidFill>
            <a:prstDash val="dash"/>
            <a:round/>
            <a:headEnd len="med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352600" y="5162400"/>
            <a:ext cx="4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i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247840" y="5419800"/>
            <a:ext cx="542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19480" y="3828960"/>
            <a:ext cx="158760" cy="752400"/>
          </a:xfrm>
          <a:custGeom>
            <a:avLst/>
            <a:gdLst/>
            <a:ahLst/>
            <a:rect l="l" t="t" r="r" b="b"/>
            <a:pathLst>
              <a:path w="100" h="474">
                <a:moveTo>
                  <a:pt x="0" y="0"/>
                </a:moveTo>
                <a:cubicBezTo>
                  <a:pt x="46" y="80"/>
                  <a:pt x="92" y="161"/>
                  <a:pt x="96" y="240"/>
                </a:cubicBezTo>
                <a:cubicBezTo>
                  <a:pt x="100" y="319"/>
                  <a:pt x="62" y="396"/>
                  <a:pt x="24" y="47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810400" y="4352760"/>
            <a:ext cx="36180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57200" y="3800520"/>
            <a:ext cx="4096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247920" y="4371840"/>
            <a:ext cx="37152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275400" y="723960"/>
            <a:ext cx="2181240" cy="2104920"/>
          </a:xfrm>
          <a:prstGeom prst="wedgeEllipseCallout">
            <a:avLst>
              <a:gd name="adj1" fmla="val -33189"/>
              <a:gd name="adj2" fmla="val 699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Matematikaj rimed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67120" y="476280"/>
            <a:ext cx="18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ktor-kalk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57200" y="1057320"/>
            <a:ext cx="185724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 m 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lon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 °C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emperatu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100 = 100 $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onokva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tp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mbro </a:t>
            </a:r>
            <a:r>
              <a:rPr b="0" lang="en-US" sz="1400" spc="-1" strike="noStrike" baseline="20000">
                <a:solidFill>
                  <a:srgbClr val="000000"/>
                </a:solidFill>
                <a:latin typeface="Arial"/>
              </a:rPr>
              <a:t>&amp;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Unu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an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638280" y="2752560"/>
            <a:ext cx="600120" cy="905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819000" y="3038400"/>
            <a:ext cx="228600" cy="333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2600" y="3143160"/>
            <a:ext cx="35244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62120" y="2809800"/>
            <a:ext cx="35244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28560" y="292428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38280" y="3457440"/>
            <a:ext cx="209520" cy="19080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0" y="120"/>
                </a:moveTo>
                <a:lnTo>
                  <a:pt x="132" y="120"/>
                </a:lnTo>
                <a:lnTo>
                  <a:pt x="126" y="60"/>
                </a:lnTo>
                <a:lnTo>
                  <a:pt x="102" y="24"/>
                </a:lnTo>
                <a:lnTo>
                  <a:pt x="72" y="0"/>
                </a:lnTo>
                <a:lnTo>
                  <a:pt x="0" y="12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5640" y="3638520"/>
            <a:ext cx="81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36240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85960" y="31338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rot="16200000">
            <a:off x="189720" y="4492800"/>
            <a:ext cx="11048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u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so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rot="16200000">
            <a:off x="606960" y="4584960"/>
            <a:ext cx="139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ombro) koordina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16200000">
            <a:off x="1158120" y="4403880"/>
            <a:ext cx="140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and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kto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819440" y="387684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00280" y="3844800"/>
            <a:ext cx="1000080" cy="79560"/>
          </a:xfrm>
          <a:custGeom>
            <a:avLst/>
            <a:gdLst/>
            <a:ahLst/>
            <a:rect l="l" t="t" r="r" b="b"/>
            <a:pathLst>
              <a:path w="630" h="50">
                <a:moveTo>
                  <a:pt x="0" y="50"/>
                </a:moveTo>
                <a:cubicBezTo>
                  <a:pt x="103" y="27"/>
                  <a:pt x="207" y="4"/>
                  <a:pt x="312" y="2"/>
                </a:cubicBezTo>
                <a:cubicBezTo>
                  <a:pt x="417" y="0"/>
                  <a:pt x="523" y="19"/>
                  <a:pt x="630" y="3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47840" y="37814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162080" y="37814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1905120" y="2200320"/>
            <a:ext cx="828720" cy="12477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009880" y="2552400"/>
            <a:ext cx="485640" cy="733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666800" y="26384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647720" y="3000240"/>
            <a:ext cx="419040" cy="3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114640" y="2971800"/>
            <a:ext cx="1620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324160" y="2685960"/>
            <a:ext cx="1332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52760" y="2362320"/>
            <a:ext cx="11412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143080" y="2314440"/>
            <a:ext cx="419040" cy="3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048040" y="31050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238480" y="281952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486160" y="247644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rot="18351600">
            <a:off x="2181600" y="2980800"/>
            <a:ext cx="6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= 2,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47640" y="5457960"/>
            <a:ext cx="14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ino de vekto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914640" y="2886120"/>
            <a:ext cx="7488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905280" y="230508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753000" y="260028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19600" y="2019240"/>
            <a:ext cx="62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733400" y="3610080"/>
            <a:ext cx="84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219480" y="2324160"/>
            <a:ext cx="2190600" cy="895680"/>
            <a:chOff x="3219480" y="2324160"/>
            <a:chExt cx="2190600" cy="895680"/>
          </a:xfrm>
        </p:grpSpPr>
        <p:sp>
          <p:nvSpPr>
            <p:cNvPr id="500" name=""/>
            <p:cNvSpPr/>
            <p:nvPr/>
          </p:nvSpPr>
          <p:spPr>
            <a:xfrm>
              <a:off x="4600440" y="2581200"/>
              <a:ext cx="93960" cy="14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48040" y="2657520"/>
              <a:ext cx="7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4029120" y="2704680"/>
              <a:ext cx="571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90960" y="2371680"/>
              <a:ext cx="58104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219480" y="2400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 = b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67120" y="2943360"/>
              <a:ext cx="6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= c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533840" y="2324160"/>
              <a:ext cx="295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352760" y="2733840"/>
              <a:ext cx="105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a+kb+c)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981600" y="2457360"/>
              <a:ext cx="34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3152880" y="621972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o de vektoroj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200480" y="4410000"/>
            <a:ext cx="285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971960" y="4876920"/>
            <a:ext cx="93600" cy="141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4390920" y="4962240"/>
            <a:ext cx="561960" cy="1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124680" y="4524480"/>
            <a:ext cx="61920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381560" y="4714920"/>
            <a:ext cx="590400" cy="21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81400" y="51530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819680" y="5095800"/>
            <a:ext cx="600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429080" y="4886280"/>
            <a:ext cx="3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91320" y="4362480"/>
            <a:ext cx="7488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76800" y="4657680"/>
            <a:ext cx="84240" cy="122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267080" y="5076720"/>
            <a:ext cx="84240" cy="122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753160" y="6238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toj de vektoroj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05360" y="463860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591000" y="4743360"/>
            <a:ext cx="676080" cy="1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571920" y="4552920"/>
            <a:ext cx="685800" cy="1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3581280" y="4790880"/>
            <a:ext cx="676440" cy="48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33320" y="3886200"/>
            <a:ext cx="7488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172280" y="5153040"/>
            <a:ext cx="285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714840" y="4371840"/>
            <a:ext cx="342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19600" y="4581360"/>
            <a:ext cx="342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038480" y="4791240"/>
            <a:ext cx="343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24400" y="4591080"/>
            <a:ext cx="342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591000" y="4915080"/>
            <a:ext cx="342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95760" y="5200560"/>
            <a:ext cx="342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571920" y="4572000"/>
            <a:ext cx="676080" cy="52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486240" y="4514760"/>
            <a:ext cx="74520" cy="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486240" y="4876920"/>
            <a:ext cx="7452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495600" y="5248440"/>
            <a:ext cx="7452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228840" y="4400640"/>
            <a:ext cx="343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219480" y="4753080"/>
            <a:ext cx="342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209760" y="5124600"/>
            <a:ext cx="343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581280" y="4924440"/>
            <a:ext cx="648000" cy="20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3591000" y="5153040"/>
            <a:ext cx="647640" cy="1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124080" y="5419800"/>
            <a:ext cx="60012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zo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19920" y="4486320"/>
            <a:ext cx="7452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019920" y="4848120"/>
            <a:ext cx="74520" cy="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029280" y="5219640"/>
            <a:ext cx="7452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62520" y="4371840"/>
            <a:ext cx="343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53160" y="4724280"/>
            <a:ext cx="342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743440" y="5095800"/>
            <a:ext cx="343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114960" y="4896000"/>
            <a:ext cx="62892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552840" y="4092480"/>
            <a:ext cx="1438200" cy="784440"/>
          </a:xfrm>
          <a:custGeom>
            <a:avLst/>
            <a:gdLst/>
            <a:ahLst/>
            <a:rect l="l" t="t" r="r" b="b"/>
            <a:pathLst>
              <a:path w="906" h="494">
                <a:moveTo>
                  <a:pt x="0" y="266"/>
                </a:moveTo>
                <a:cubicBezTo>
                  <a:pt x="182" y="133"/>
                  <a:pt x="365" y="0"/>
                  <a:pt x="516" y="38"/>
                </a:cubicBezTo>
                <a:cubicBezTo>
                  <a:pt x="667" y="76"/>
                  <a:pt x="786" y="285"/>
                  <a:pt x="906" y="49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533760" y="5029200"/>
            <a:ext cx="1467000" cy="687240"/>
          </a:xfrm>
          <a:custGeom>
            <a:avLst/>
            <a:gdLst/>
            <a:ahLst/>
            <a:rect l="l" t="t" r="r" b="b"/>
            <a:pathLst>
              <a:path w="924" h="433">
                <a:moveTo>
                  <a:pt x="0" y="186"/>
                </a:moveTo>
                <a:cubicBezTo>
                  <a:pt x="187" y="309"/>
                  <a:pt x="374" y="433"/>
                  <a:pt x="528" y="402"/>
                </a:cubicBezTo>
                <a:cubicBezTo>
                  <a:pt x="682" y="371"/>
                  <a:pt x="803" y="185"/>
                  <a:pt x="924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1280" y="4856040"/>
            <a:ext cx="1238400" cy="77760"/>
          </a:xfrm>
          <a:custGeom>
            <a:avLst/>
            <a:gdLst/>
            <a:ahLst/>
            <a:rect l="l" t="t" r="r" b="b"/>
            <a:pathLst>
              <a:path w="780" h="49">
                <a:moveTo>
                  <a:pt x="0" y="43"/>
                </a:moveTo>
                <a:cubicBezTo>
                  <a:pt x="160" y="21"/>
                  <a:pt x="320" y="0"/>
                  <a:pt x="450" y="1"/>
                </a:cubicBezTo>
                <a:cubicBezTo>
                  <a:pt x="580" y="2"/>
                  <a:pt x="725" y="41"/>
                  <a:pt x="780" y="49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029120" y="4114800"/>
            <a:ext cx="5619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010040" y="5410080"/>
            <a:ext cx="590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+kb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772320" y="4638600"/>
            <a:ext cx="84240" cy="122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762600" y="5048280"/>
            <a:ext cx="93960" cy="122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6114960" y="5105160"/>
            <a:ext cx="647640" cy="16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6105600" y="4724280"/>
            <a:ext cx="647640" cy="1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124680" y="4552920"/>
            <a:ext cx="666720" cy="51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6114960" y="4762440"/>
            <a:ext cx="67644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676920" y="4410000"/>
            <a:ext cx="285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667560" y="5114880"/>
            <a:ext cx="285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610400" y="529596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858000" y="4410000"/>
            <a:ext cx="743040" cy="285840"/>
          </a:xfrm>
          <a:custGeom>
            <a:avLst/>
            <a:gdLst/>
            <a:ahLst/>
            <a:rect l="l" t="t" r="r" b="b"/>
            <a:pathLst>
              <a:path w="480" h="186">
                <a:moveTo>
                  <a:pt x="0" y="186"/>
                </a:moveTo>
                <a:cubicBezTo>
                  <a:pt x="33" y="166"/>
                  <a:pt x="118" y="97"/>
                  <a:pt x="198" y="66"/>
                </a:cubicBezTo>
                <a:cubicBezTo>
                  <a:pt x="278" y="35"/>
                  <a:pt x="421" y="14"/>
                  <a:pt x="48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0" y="4400640"/>
            <a:ext cx="752400" cy="695160"/>
          </a:xfrm>
          <a:custGeom>
            <a:avLst/>
            <a:gdLst/>
            <a:ahLst/>
            <a:rect l="l" t="t" r="r" b="b"/>
            <a:pathLst>
              <a:path w="474" h="438">
                <a:moveTo>
                  <a:pt x="0" y="438"/>
                </a:moveTo>
                <a:cubicBezTo>
                  <a:pt x="62" y="345"/>
                  <a:pt x="125" y="253"/>
                  <a:pt x="204" y="180"/>
                </a:cubicBezTo>
                <a:cubicBezTo>
                  <a:pt x="283" y="107"/>
                  <a:pt x="378" y="53"/>
                  <a:pt x="47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48640" y="5143680"/>
            <a:ext cx="761760" cy="231480"/>
          </a:xfrm>
          <a:custGeom>
            <a:avLst/>
            <a:gdLst/>
            <a:ahLst/>
            <a:rect l="l" t="t" r="r" b="b"/>
            <a:pathLst>
              <a:path w="480" h="146">
                <a:moveTo>
                  <a:pt x="0" y="0"/>
                </a:moveTo>
                <a:cubicBezTo>
                  <a:pt x="68" y="53"/>
                  <a:pt x="136" y="106"/>
                  <a:pt x="216" y="126"/>
                </a:cubicBezTo>
                <a:cubicBezTo>
                  <a:pt x="296" y="146"/>
                  <a:pt x="388" y="133"/>
                  <a:pt x="480" y="1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67360" y="4724280"/>
            <a:ext cx="743040" cy="609840"/>
          </a:xfrm>
          <a:custGeom>
            <a:avLst/>
            <a:gdLst/>
            <a:ahLst/>
            <a:rect l="l" t="t" r="r" b="b"/>
            <a:pathLst>
              <a:path w="468" h="384">
                <a:moveTo>
                  <a:pt x="0" y="0"/>
                </a:moveTo>
                <a:cubicBezTo>
                  <a:pt x="72" y="118"/>
                  <a:pt x="144" y="236"/>
                  <a:pt x="222" y="300"/>
                </a:cubicBezTo>
                <a:cubicBezTo>
                  <a:pt x="300" y="364"/>
                  <a:pt x="384" y="374"/>
                  <a:pt x="468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218360" y="41814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886440" y="4495680"/>
            <a:ext cx="46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838920" y="5038560"/>
            <a:ext cx="46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7315200" y="4752720"/>
            <a:ext cx="2667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315200" y="4876920"/>
            <a:ext cx="295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343640" y="4915080"/>
            <a:ext cx="285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334280" y="4600440"/>
            <a:ext cx="285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629480" y="4324320"/>
            <a:ext cx="14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= |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cos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601040" y="5324400"/>
            <a:ext cx="12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|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sin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600440" y="4210200"/>
            <a:ext cx="352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629240" y="5353200"/>
            <a:ext cx="352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762600" y="5581800"/>
            <a:ext cx="7488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667560" y="5600880"/>
            <a:ext cx="285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381800" y="4829040"/>
            <a:ext cx="123840" cy="123840"/>
          </a:xfrm>
          <a:custGeom>
            <a:avLst/>
            <a:gdLst/>
            <a:ahLst/>
            <a:rect l="l" t="t" r="r" b="b"/>
            <a:pathLst>
              <a:path w="78" h="78">
                <a:moveTo>
                  <a:pt x="0" y="48"/>
                </a:moveTo>
                <a:lnTo>
                  <a:pt x="66" y="78"/>
                </a:lnTo>
                <a:lnTo>
                  <a:pt x="78" y="42"/>
                </a:lnTo>
                <a:lnTo>
                  <a:pt x="66" y="0"/>
                </a:lnTo>
                <a:lnTo>
                  <a:pt x="0" y="4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467480" y="4753080"/>
            <a:ext cx="26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601040" y="589608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838920" y="5619600"/>
            <a:ext cx="771480" cy="295560"/>
          </a:xfrm>
          <a:custGeom>
            <a:avLst/>
            <a:gdLst/>
            <a:ahLst/>
            <a:rect l="l" t="t" r="r" b="b"/>
            <a:pathLst>
              <a:path w="486" h="186">
                <a:moveTo>
                  <a:pt x="0" y="6"/>
                </a:moveTo>
                <a:cubicBezTo>
                  <a:pt x="70" y="3"/>
                  <a:pt x="141" y="0"/>
                  <a:pt x="222" y="30"/>
                </a:cubicBezTo>
                <a:cubicBezTo>
                  <a:pt x="303" y="60"/>
                  <a:pt x="394" y="123"/>
                  <a:pt x="486" y="18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513560" y="5381640"/>
            <a:ext cx="115920" cy="542880"/>
          </a:xfrm>
          <a:custGeom>
            <a:avLst/>
            <a:gdLst/>
            <a:ahLst/>
            <a:rect l="l" t="t" r="r" b="b"/>
            <a:pathLst>
              <a:path w="73" h="342">
                <a:moveTo>
                  <a:pt x="73" y="0"/>
                </a:moveTo>
                <a:cubicBezTo>
                  <a:pt x="37" y="52"/>
                  <a:pt x="2" y="105"/>
                  <a:pt x="1" y="162"/>
                </a:cubicBezTo>
                <a:cubicBezTo>
                  <a:pt x="0" y="219"/>
                  <a:pt x="33" y="280"/>
                  <a:pt x="67" y="34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361280" y="543888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620120" y="4143240"/>
            <a:ext cx="46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610400" y="5086440"/>
            <a:ext cx="4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010120" y="4800600"/>
            <a:ext cx="46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153120" y="5457960"/>
            <a:ext cx="590760" cy="171360"/>
          </a:xfrm>
          <a:custGeom>
            <a:avLst/>
            <a:gdLst/>
            <a:ahLst/>
            <a:rect l="l" t="t" r="r" b="b"/>
            <a:pathLst>
              <a:path w="372" h="108">
                <a:moveTo>
                  <a:pt x="0" y="0"/>
                </a:moveTo>
                <a:cubicBezTo>
                  <a:pt x="14" y="14"/>
                  <a:pt x="16" y="66"/>
                  <a:pt x="78" y="84"/>
                </a:cubicBezTo>
                <a:cubicBezTo>
                  <a:pt x="140" y="102"/>
                  <a:pt x="264" y="106"/>
                  <a:pt x="372" y="10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639200" y="5705640"/>
            <a:ext cx="65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143840" y="5486400"/>
            <a:ext cx="46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639200" y="5905440"/>
            <a:ext cx="28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134040" y="4352760"/>
            <a:ext cx="343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114960" y="4600440"/>
            <a:ext cx="343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095880" y="4896000"/>
            <a:ext cx="343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286680" y="5143680"/>
            <a:ext cx="342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248520" y="4772160"/>
            <a:ext cx="342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572160" y="4800600"/>
            <a:ext cx="343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124840" y="4143240"/>
            <a:ext cx="504720" cy="162000"/>
          </a:xfrm>
          <a:custGeom>
            <a:avLst/>
            <a:gdLst/>
            <a:ahLst/>
            <a:rect l="l" t="t" r="r" b="b"/>
            <a:pathLst>
              <a:path w="318" h="102">
                <a:moveTo>
                  <a:pt x="90" y="0"/>
                </a:moveTo>
                <a:lnTo>
                  <a:pt x="0" y="102"/>
                </a:lnTo>
                <a:lnTo>
                  <a:pt x="228" y="102"/>
                </a:lnTo>
                <a:lnTo>
                  <a:pt x="318" y="6"/>
                </a:lnTo>
                <a:lnTo>
                  <a:pt x="90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163000" y="5095800"/>
            <a:ext cx="504720" cy="162000"/>
          </a:xfrm>
          <a:custGeom>
            <a:avLst/>
            <a:gdLst/>
            <a:ahLst/>
            <a:rect l="l" t="t" r="r" b="b"/>
            <a:pathLst>
              <a:path w="318" h="102">
                <a:moveTo>
                  <a:pt x="90" y="0"/>
                </a:moveTo>
                <a:lnTo>
                  <a:pt x="0" y="102"/>
                </a:lnTo>
                <a:lnTo>
                  <a:pt x="228" y="102"/>
                </a:lnTo>
                <a:lnTo>
                  <a:pt x="318" y="6"/>
                </a:lnTo>
                <a:lnTo>
                  <a:pt x="9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8182080" y="4848120"/>
            <a:ext cx="0" cy="4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210520" y="5877000"/>
            <a:ext cx="324000" cy="304560"/>
          </a:xfrm>
          <a:custGeom>
            <a:avLst/>
            <a:gdLst/>
            <a:ahLst/>
            <a:rect l="l" t="t" r="r" b="b"/>
            <a:pathLst>
              <a:path w="204" h="192">
                <a:moveTo>
                  <a:pt x="72" y="0"/>
                </a:moveTo>
                <a:lnTo>
                  <a:pt x="0" y="186"/>
                </a:lnTo>
                <a:lnTo>
                  <a:pt x="144" y="192"/>
                </a:lnTo>
                <a:lnTo>
                  <a:pt x="204" y="6"/>
                </a:lnTo>
                <a:lnTo>
                  <a:pt x="72" y="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05920" y="5772240"/>
            <a:ext cx="361800" cy="95040"/>
          </a:xfrm>
          <a:custGeom>
            <a:avLst/>
            <a:gdLst/>
            <a:ahLst/>
            <a:rect l="l" t="t" r="r" b="b"/>
            <a:pathLst>
              <a:path w="228" h="60">
                <a:moveTo>
                  <a:pt x="78" y="0"/>
                </a:moveTo>
                <a:lnTo>
                  <a:pt x="0" y="60"/>
                </a:lnTo>
                <a:lnTo>
                  <a:pt x="150" y="60"/>
                </a:lnTo>
                <a:lnTo>
                  <a:pt x="228" y="0"/>
                </a:lnTo>
                <a:lnTo>
                  <a:pt x="7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8210160" y="5877000"/>
            <a:ext cx="95400" cy="3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440560" y="5886360"/>
            <a:ext cx="84240" cy="314280"/>
          </a:xfrm>
          <a:custGeom>
            <a:avLst/>
            <a:gdLst/>
            <a:ahLst/>
            <a:rect l="l" t="t" r="r" b="b"/>
            <a:pathLst>
              <a:path w="59" h="192">
                <a:moveTo>
                  <a:pt x="59" y="0"/>
                </a:moveTo>
                <a:lnTo>
                  <a:pt x="0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564400" y="5781600"/>
            <a:ext cx="84240" cy="333360"/>
          </a:xfrm>
          <a:custGeom>
            <a:avLst/>
            <a:gdLst/>
            <a:ahLst/>
            <a:rect l="l" t="t" r="r" b="b"/>
            <a:pathLst>
              <a:path w="53" h="210">
                <a:moveTo>
                  <a:pt x="53" y="0"/>
                </a:moveTo>
                <a:lnTo>
                  <a:pt x="0" y="21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191440" y="619128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8439120" y="6086160"/>
            <a:ext cx="12384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267080" y="837720"/>
            <a:ext cx="4057920" cy="52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Objek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stas io, kiu ricevi nomon,  minimume unu literon. Normale tiun nomo ne reprezentas unu elementon, sed aron da similaj obiektoj. El matematiko ni bone konas tian notacion - priskribo helpe de indeksoj:   i, j, k, l .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deksoj povas trovighi ie ajn, sube al supre de nomo. </a:t>
            </a:r>
            <a:br>
              <a:rPr sz="12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tenton! Supra indekso ne indikas potencigon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ni povas klasifiki la obiektojn rilate je nombro de iliaj indeksoj - oni diras je valen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aloron de indeksoj oni elektas nur kiel entjera nombro. La supra kaj suba limoj estas jam che komenco konataj. (Pro komputeraj aspektoj oni elektas suban limon ofte la nul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Valenco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bjekto 0-valenca  ne posedas indekson. Ghi estas nur unu-elementa obiekto, kiu posedas nur nomon, ekz. q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Valenco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bjekto 1-valenca posedas unu indekson. Oni povas konstrui du tipojn de tiaj obiektoj, kun suba au supra indek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ni imagu, ke elementoj de tiuj obiektoj ordigitaj estas en linea au kolona tabel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Matematikaj rimed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71480" y="504720"/>
            <a:ext cx="2819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rezentado de objekto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124080" y="3962520"/>
            <a:ext cx="228600" cy="304200"/>
            <a:chOff x="3124080" y="3962520"/>
            <a:chExt cx="228600" cy="304200"/>
          </a:xfrm>
        </p:grpSpPr>
        <p:sp>
          <p:nvSpPr>
            <p:cNvPr id="54" name=""/>
            <p:cNvSpPr/>
            <p:nvPr/>
          </p:nvSpPr>
          <p:spPr>
            <a:xfrm>
              <a:off x="3124080" y="419076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24080" y="396252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666880" y="2590920"/>
            <a:ext cx="8384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= 1, 2,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0, 1,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, l = 0,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90720" y="1676520"/>
            <a:ext cx="259920" cy="398520"/>
            <a:chOff x="990720" y="1676520"/>
            <a:chExt cx="259920" cy="398520"/>
          </a:xfrm>
        </p:grpSpPr>
        <p:sp>
          <p:nvSpPr>
            <p:cNvPr id="58" name=""/>
            <p:cNvSpPr/>
            <p:nvPr/>
          </p:nvSpPr>
          <p:spPr>
            <a:xfrm>
              <a:off x="990720" y="1676520"/>
              <a:ext cx="22824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82880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295280" y="1676520"/>
            <a:ext cx="260280" cy="315720"/>
            <a:chOff x="1295280" y="1676520"/>
            <a:chExt cx="260280" cy="315720"/>
          </a:xfrm>
        </p:grpSpPr>
        <p:sp>
          <p:nvSpPr>
            <p:cNvPr id="61" name=""/>
            <p:cNvSpPr/>
            <p:nvPr/>
          </p:nvSpPr>
          <p:spPr>
            <a:xfrm>
              <a:off x="1295280" y="1676520"/>
              <a:ext cx="22860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71600" y="167652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600200" y="1676520"/>
            <a:ext cx="260280" cy="398520"/>
            <a:chOff x="1600200" y="1676520"/>
            <a:chExt cx="260280" cy="398520"/>
          </a:xfrm>
        </p:grpSpPr>
        <p:grpSp>
          <p:nvGrpSpPr>
            <p:cNvPr id="64" name=""/>
            <p:cNvGrpSpPr/>
            <p:nvPr/>
          </p:nvGrpSpPr>
          <p:grpSpPr>
            <a:xfrm>
              <a:off x="1600200" y="1676520"/>
              <a:ext cx="260280" cy="398520"/>
              <a:chOff x="1600200" y="1676520"/>
              <a:chExt cx="260280" cy="398520"/>
            </a:xfrm>
          </p:grpSpPr>
          <p:sp>
            <p:nvSpPr>
              <p:cNvPr id="65" name=""/>
              <p:cNvSpPr/>
              <p:nvPr/>
            </p:nvSpPr>
            <p:spPr>
              <a:xfrm>
                <a:off x="1600200" y="1676520"/>
                <a:ext cx="22860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676520" y="1828800"/>
                <a:ext cx="183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1676520" y="167652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057320" y="4886280"/>
            <a:ext cx="270000" cy="398520"/>
            <a:chOff x="1057320" y="4886280"/>
            <a:chExt cx="270000" cy="398520"/>
          </a:xfrm>
        </p:grpSpPr>
        <p:sp>
          <p:nvSpPr>
            <p:cNvPr id="69" name=""/>
            <p:cNvSpPr/>
            <p:nvPr/>
          </p:nvSpPr>
          <p:spPr>
            <a:xfrm>
              <a:off x="1057320" y="5172120"/>
              <a:ext cx="76320" cy="76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066680" y="4886280"/>
              <a:ext cx="260640" cy="398520"/>
              <a:chOff x="1066680" y="4886280"/>
              <a:chExt cx="260640" cy="398520"/>
            </a:xfrm>
          </p:grpSpPr>
          <p:sp>
            <p:nvSpPr>
              <p:cNvPr id="71" name=""/>
              <p:cNvSpPr/>
              <p:nvPr/>
            </p:nvSpPr>
            <p:spPr>
              <a:xfrm>
                <a:off x="1066680" y="4886280"/>
                <a:ext cx="22860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143000" y="503856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" name=""/>
          <p:cNvGrpSpPr/>
          <p:nvPr/>
        </p:nvGrpSpPr>
        <p:grpSpPr>
          <a:xfrm>
            <a:off x="2219400" y="4819680"/>
            <a:ext cx="260280" cy="315720"/>
            <a:chOff x="2219400" y="4819680"/>
            <a:chExt cx="260280" cy="315720"/>
          </a:xfrm>
        </p:grpSpPr>
        <p:sp>
          <p:nvSpPr>
            <p:cNvPr id="74" name=""/>
            <p:cNvSpPr/>
            <p:nvPr/>
          </p:nvSpPr>
          <p:spPr>
            <a:xfrm>
              <a:off x="2219400" y="4819680"/>
              <a:ext cx="22860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95720" y="481968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181240" y="513396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1080" y="461016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= 1, 2,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2266920" y="5343480"/>
            <a:ext cx="116208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85960" y="5305320"/>
            <a:ext cx="3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76600" y="5695920"/>
            <a:ext cx="3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714760" y="4962600"/>
            <a:ext cx="260280" cy="315720"/>
            <a:chOff x="2714760" y="4962600"/>
            <a:chExt cx="260280" cy="315720"/>
          </a:xfrm>
        </p:grpSpPr>
        <p:sp>
          <p:nvSpPr>
            <p:cNvPr id="82" name=""/>
            <p:cNvSpPr/>
            <p:nvPr/>
          </p:nvSpPr>
          <p:spPr>
            <a:xfrm>
              <a:off x="2714760" y="4962600"/>
              <a:ext cx="22860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91080" y="496260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724120" y="5715000"/>
            <a:ext cx="260280" cy="315720"/>
            <a:chOff x="2724120" y="5715000"/>
            <a:chExt cx="260280" cy="315720"/>
          </a:xfrm>
        </p:grpSpPr>
        <p:sp>
          <p:nvSpPr>
            <p:cNvPr id="85" name=""/>
            <p:cNvSpPr/>
            <p:nvPr/>
          </p:nvSpPr>
          <p:spPr>
            <a:xfrm>
              <a:off x="2724120" y="5715000"/>
              <a:ext cx="22860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800440" y="571500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695680" y="5343480"/>
            <a:ext cx="260280" cy="315720"/>
            <a:chOff x="2695680" y="5343480"/>
            <a:chExt cx="260280" cy="315720"/>
          </a:xfrm>
        </p:grpSpPr>
        <p:sp>
          <p:nvSpPr>
            <p:cNvPr id="88" name=""/>
            <p:cNvSpPr/>
            <p:nvPr/>
          </p:nvSpPr>
          <p:spPr>
            <a:xfrm>
              <a:off x="2695680" y="5343480"/>
              <a:ext cx="22860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72000" y="534348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743200" y="6019920"/>
            <a:ext cx="260280" cy="315720"/>
            <a:chOff x="2743200" y="6019920"/>
            <a:chExt cx="260280" cy="315720"/>
          </a:xfrm>
        </p:grpSpPr>
        <p:sp>
          <p:nvSpPr>
            <p:cNvPr id="91" name=""/>
            <p:cNvSpPr/>
            <p:nvPr/>
          </p:nvSpPr>
          <p:spPr>
            <a:xfrm>
              <a:off x="2743200" y="6019920"/>
              <a:ext cx="22860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19520" y="6019920"/>
              <a:ext cx="1839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2676600" y="4734000"/>
            <a:ext cx="352440" cy="1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514520" y="4648320"/>
            <a:ext cx="259920" cy="396720"/>
            <a:chOff x="1514520" y="4648320"/>
            <a:chExt cx="259920" cy="396720"/>
          </a:xfrm>
        </p:grpSpPr>
        <p:sp>
          <p:nvSpPr>
            <p:cNvPr id="95" name=""/>
            <p:cNvSpPr/>
            <p:nvPr/>
          </p:nvSpPr>
          <p:spPr>
            <a:xfrm>
              <a:off x="1514520" y="4648320"/>
              <a:ext cx="22824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90480" y="4800600"/>
              <a:ext cx="1839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428840" y="6153120"/>
            <a:ext cx="352440" cy="10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57320" y="5286240"/>
            <a:ext cx="8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5162400"/>
            <a:ext cx="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81240" y="51055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1028160" y="5371920"/>
            <a:ext cx="116208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476360" y="4971960"/>
            <a:ext cx="259920" cy="398520"/>
            <a:chOff x="1476360" y="4971960"/>
            <a:chExt cx="259920" cy="398520"/>
          </a:xfrm>
        </p:grpSpPr>
        <p:sp>
          <p:nvSpPr>
            <p:cNvPr id="103" name=""/>
            <p:cNvSpPr/>
            <p:nvPr/>
          </p:nvSpPr>
          <p:spPr>
            <a:xfrm>
              <a:off x="1476360" y="4971960"/>
              <a:ext cx="22824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52320" y="512424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476360" y="5315040"/>
            <a:ext cx="259920" cy="398520"/>
            <a:chOff x="1476360" y="5315040"/>
            <a:chExt cx="259920" cy="398520"/>
          </a:xfrm>
        </p:grpSpPr>
        <p:sp>
          <p:nvSpPr>
            <p:cNvPr id="106" name=""/>
            <p:cNvSpPr/>
            <p:nvPr/>
          </p:nvSpPr>
          <p:spPr>
            <a:xfrm>
              <a:off x="1476360" y="5315040"/>
              <a:ext cx="22824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52320" y="546732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504800" y="5686560"/>
            <a:ext cx="260640" cy="398520"/>
            <a:chOff x="1504800" y="5686560"/>
            <a:chExt cx="260640" cy="398520"/>
          </a:xfrm>
        </p:grpSpPr>
        <p:sp>
          <p:nvSpPr>
            <p:cNvPr id="109" name=""/>
            <p:cNvSpPr/>
            <p:nvPr/>
          </p:nvSpPr>
          <p:spPr>
            <a:xfrm>
              <a:off x="1504800" y="5686560"/>
              <a:ext cx="22860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81120" y="583884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447920" y="5334120"/>
            <a:ext cx="3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57280" y="5734080"/>
            <a:ext cx="30492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57560" y="1238400"/>
            <a:ext cx="371520" cy="112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90720" y="723960"/>
            <a:ext cx="426708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Ekzemploj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)  Koordinatoj x, y, z  povas esti notitaj:   x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au x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(k = 1, 2,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)  Helpe de indeksa notacio oni povas eviti simbolon de sumado,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    kio esence simplifigas kalkulad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3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=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ultipliko de konformaj 1-valenciaj obiektoj videbla sur bil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Matematikaj rimed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6440" y="1571760"/>
            <a:ext cx="74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= 1, 2,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19400" y="2705040"/>
            <a:ext cx="1400040" cy="31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1200" y="1409760"/>
            <a:ext cx="371520" cy="10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38480" y="2314440"/>
            <a:ext cx="295200" cy="1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76600" y="1219320"/>
            <a:ext cx="29520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57560" y="2286000"/>
            <a:ext cx="28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85960" y="118116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847880" y="3238560"/>
            <a:ext cx="259920" cy="419040"/>
            <a:chOff x="1847880" y="3238560"/>
            <a:chExt cx="259920" cy="419040"/>
          </a:xfrm>
        </p:grpSpPr>
        <p:grpSp>
          <p:nvGrpSpPr>
            <p:cNvPr id="124" name=""/>
            <p:cNvGrpSpPr/>
            <p:nvPr/>
          </p:nvGrpSpPr>
          <p:grpSpPr>
            <a:xfrm>
              <a:off x="1847880" y="3238560"/>
              <a:ext cx="259920" cy="398520"/>
              <a:chOff x="1847880" y="3238560"/>
              <a:chExt cx="259920" cy="398520"/>
            </a:xfrm>
          </p:grpSpPr>
          <p:sp>
            <p:nvSpPr>
              <p:cNvPr id="125" name=""/>
              <p:cNvSpPr/>
              <p:nvPr/>
            </p:nvSpPr>
            <p:spPr>
              <a:xfrm>
                <a:off x="1895400" y="3552840"/>
                <a:ext cx="76320" cy="76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1847880" y="3238560"/>
                <a:ext cx="259920" cy="398520"/>
                <a:chOff x="1847880" y="3238560"/>
                <a:chExt cx="259920" cy="39852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847880" y="3238560"/>
                  <a:ext cx="228240" cy="31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923840" y="3390840"/>
                  <a:ext cx="183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9" name=""/>
            <p:cNvSpPr/>
            <p:nvPr/>
          </p:nvSpPr>
          <p:spPr>
            <a:xfrm>
              <a:off x="1895400" y="3657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771640" y="3191040"/>
            <a:ext cx="289080" cy="353520"/>
            <a:chOff x="2771640" y="3191040"/>
            <a:chExt cx="289080" cy="353520"/>
          </a:xfrm>
        </p:grpSpPr>
        <p:sp>
          <p:nvSpPr>
            <p:cNvPr id="131" name=""/>
            <p:cNvSpPr/>
            <p:nvPr/>
          </p:nvSpPr>
          <p:spPr>
            <a:xfrm>
              <a:off x="2771640" y="3228840"/>
              <a:ext cx="28764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28880" y="3191040"/>
              <a:ext cx="23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724120" y="3543480"/>
            <a:ext cx="95400" cy="10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24120" y="3514680"/>
            <a:ext cx="8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76680" y="3476520"/>
            <a:ext cx="114120" cy="114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3552840"/>
            <a:ext cx="1685880" cy="150840"/>
          </a:xfrm>
          <a:custGeom>
            <a:avLst/>
            <a:gdLst/>
            <a:ahLst/>
            <a:rect l="l" t="t" r="r" b="b"/>
            <a:pathLst>
              <a:path w="1062" h="95">
                <a:moveTo>
                  <a:pt x="0" y="30"/>
                </a:moveTo>
                <a:cubicBezTo>
                  <a:pt x="178" y="62"/>
                  <a:pt x="357" y="95"/>
                  <a:pt x="534" y="90"/>
                </a:cubicBezTo>
                <a:cubicBezTo>
                  <a:pt x="711" y="85"/>
                  <a:pt x="886" y="42"/>
                  <a:pt x="106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86040" y="320976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71640" y="923760"/>
            <a:ext cx="48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61920" y="923760"/>
            <a:ext cx="0" cy="29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961920" y="781200"/>
            <a:ext cx="266760" cy="13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38240" y="990720"/>
            <a:ext cx="380880" cy="28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57280" y="1781280"/>
            <a:ext cx="447840" cy="3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19320" y="1771560"/>
            <a:ext cx="2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24200" y="1790640"/>
            <a:ext cx="26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2000" y="2676600"/>
            <a:ext cx="2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1476360"/>
            <a:ext cx="190440" cy="16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76440" y="1866960"/>
            <a:ext cx="18108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86160" y="2238480"/>
            <a:ext cx="142920" cy="123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00240" y="5486400"/>
            <a:ext cx="371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24280" y="5562720"/>
            <a:ext cx="371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81240" y="5495760"/>
            <a:ext cx="371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81000" y="5819760"/>
            <a:ext cx="21924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23920" y="5219640"/>
            <a:ext cx="22860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90720" y="723960"/>
            <a:ext cx="438156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Valenco 2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biekto 2-valenca, kun du indeksoj, ebligas tri tipoj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,  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au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a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acile konstati, ke por r,s = 1, 2, 3 chiu tipo posedas 9 elementoj. Oni povas ilin tabeligi kaj prezenti per grafikaj simbol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ultipliko de konformaj 2-valenciaj obiektoj videbla sur bil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Valenco 3,  kaj pli a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imile oni povas konstrui objektojn tri-valenciajn da 4 tipoj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,  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,  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jk 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a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ijk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or  i,j,k = 1, 2, 3  chiu obiekto posedas  3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 27 elementoj kaj povas esti prezentita per kub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Matematikaj rimed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90640" y="2752560"/>
            <a:ext cx="2533680" cy="31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+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81280" y="1638360"/>
            <a:ext cx="780840" cy="720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76440" y="1809720"/>
            <a:ext cx="790560" cy="66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1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62200" y="2362320"/>
            <a:ext cx="657000" cy="19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09800" y="3552840"/>
            <a:ext cx="98280" cy="95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847880" y="3238560"/>
            <a:ext cx="390600" cy="370080"/>
            <a:chOff x="1847880" y="3238560"/>
            <a:chExt cx="390600" cy="370080"/>
          </a:xfrm>
        </p:grpSpPr>
        <p:sp>
          <p:nvSpPr>
            <p:cNvPr id="162" name=""/>
            <p:cNvSpPr/>
            <p:nvPr/>
          </p:nvSpPr>
          <p:spPr>
            <a:xfrm>
              <a:off x="1847880" y="3238560"/>
              <a:ext cx="39060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17720" y="3362400"/>
              <a:ext cx="31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909800" y="3686040"/>
            <a:ext cx="9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771640" y="3191040"/>
            <a:ext cx="393840" cy="353520"/>
            <a:chOff x="2771640" y="3191040"/>
            <a:chExt cx="393840" cy="353520"/>
          </a:xfrm>
        </p:grpSpPr>
        <p:sp>
          <p:nvSpPr>
            <p:cNvPr id="166" name=""/>
            <p:cNvSpPr/>
            <p:nvPr/>
          </p:nvSpPr>
          <p:spPr>
            <a:xfrm>
              <a:off x="2771640" y="3228840"/>
              <a:ext cx="28764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28880" y="3191040"/>
              <a:ext cx="336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2724120" y="3543480"/>
            <a:ext cx="95400" cy="10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24120" y="3514680"/>
            <a:ext cx="1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76680" y="3476520"/>
            <a:ext cx="114120" cy="114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81080" y="3552840"/>
            <a:ext cx="1685880" cy="150840"/>
          </a:xfrm>
          <a:custGeom>
            <a:avLst/>
            <a:gdLst/>
            <a:ahLst/>
            <a:rect l="l" t="t" r="r" b="b"/>
            <a:pathLst>
              <a:path w="1062" h="95">
                <a:moveTo>
                  <a:pt x="0" y="30"/>
                </a:moveTo>
                <a:cubicBezTo>
                  <a:pt x="178" y="62"/>
                  <a:pt x="357" y="95"/>
                  <a:pt x="534" y="90"/>
                </a:cubicBezTo>
                <a:cubicBezTo>
                  <a:pt x="711" y="85"/>
                  <a:pt x="886" y="42"/>
                  <a:pt x="106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86040" y="320976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2324160"/>
            <a:ext cx="7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, s = 1,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00280" y="1514520"/>
            <a:ext cx="7430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, s = 1, 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0280" y="1905120"/>
            <a:ext cx="590400" cy="3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28840" y="1905120"/>
            <a:ext cx="2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71760" y="1866960"/>
            <a:ext cx="2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14520" y="2724120"/>
            <a:ext cx="2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09720" y="1657440"/>
            <a:ext cx="65736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38160" y="2314440"/>
            <a:ext cx="65736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52760" y="1666800"/>
            <a:ext cx="65700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57480" y="4533840"/>
            <a:ext cx="2800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jk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ij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619440" y="5505480"/>
            <a:ext cx="476280" cy="495000"/>
            <a:chOff x="3619440" y="5505480"/>
            <a:chExt cx="476280" cy="495000"/>
          </a:xfrm>
        </p:grpSpPr>
        <p:sp>
          <p:nvSpPr>
            <p:cNvPr id="184" name=""/>
            <p:cNvSpPr/>
            <p:nvPr/>
          </p:nvSpPr>
          <p:spPr>
            <a:xfrm>
              <a:off x="3724200" y="5505480"/>
              <a:ext cx="3715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76320" y="5562360"/>
              <a:ext cx="37152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19440" y="5619600"/>
              <a:ext cx="3715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1366920" y="5010120"/>
            <a:ext cx="98280" cy="95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66920" y="5143680"/>
            <a:ext cx="9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52520" y="5181480"/>
            <a:ext cx="1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85920" y="5010120"/>
            <a:ext cx="98640" cy="95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95640" y="5133960"/>
            <a:ext cx="9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00320" y="4971960"/>
            <a:ext cx="8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86200" y="5019840"/>
            <a:ext cx="98280" cy="95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72080" y="49816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00240" y="4981680"/>
            <a:ext cx="95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76760" y="5019840"/>
            <a:ext cx="98280" cy="95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72080" y="4943520"/>
            <a:ext cx="123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90880" y="5162400"/>
            <a:ext cx="9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09560" y="942840"/>
            <a:ext cx="6480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 = 1, 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81000" y="1247760"/>
            <a:ext cx="6285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 = 1, 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647720" y="1219320"/>
            <a:ext cx="561960" cy="447480"/>
            <a:chOff x="1647720" y="1219320"/>
            <a:chExt cx="561960" cy="447480"/>
          </a:xfrm>
        </p:grpSpPr>
        <p:sp>
          <p:nvSpPr>
            <p:cNvPr id="202" name=""/>
            <p:cNvSpPr/>
            <p:nvPr/>
          </p:nvSpPr>
          <p:spPr>
            <a:xfrm>
              <a:off x="1666800" y="1228680"/>
              <a:ext cx="54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47720" y="1219320"/>
              <a:ext cx="0" cy="44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33400" y="1324080"/>
              <a:ext cx="352440" cy="104760"/>
            </a:xfrm>
            <a:custGeom>
              <a:avLst/>
              <a:gdLst/>
              <a:ahLst/>
              <a:rect l="l" t="t" r="r" b="b"/>
              <a:pathLst>
                <a:path w="222" h="66">
                  <a:moveTo>
                    <a:pt x="0" y="0"/>
                  </a:moveTo>
                  <a:lnTo>
                    <a:pt x="222" y="0"/>
                  </a:lnTo>
                  <a:lnTo>
                    <a:pt x="0" y="66"/>
                  </a:lnTo>
                  <a:lnTo>
                    <a:pt x="180" y="6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162080" y="5533920"/>
            <a:ext cx="561960" cy="447840"/>
            <a:chOff x="1162080" y="5533920"/>
            <a:chExt cx="561960" cy="447840"/>
          </a:xfrm>
        </p:grpSpPr>
        <p:sp>
          <p:nvSpPr>
            <p:cNvPr id="206" name=""/>
            <p:cNvSpPr/>
            <p:nvPr/>
          </p:nvSpPr>
          <p:spPr>
            <a:xfrm>
              <a:off x="1181160" y="5543640"/>
              <a:ext cx="54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62080" y="5533920"/>
              <a:ext cx="0" cy="44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 flipV="1">
            <a:off x="1162080" y="5362560"/>
            <a:ext cx="181080" cy="1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2400" y="4362480"/>
            <a:ext cx="6192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,j,k = 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33400" y="5391000"/>
            <a:ext cx="26676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228680" y="5600880"/>
            <a:ext cx="476280" cy="485640"/>
            <a:chOff x="1228680" y="5600880"/>
            <a:chExt cx="476280" cy="485640"/>
          </a:xfrm>
        </p:grpSpPr>
        <p:sp>
          <p:nvSpPr>
            <p:cNvPr id="212" name=""/>
            <p:cNvSpPr/>
            <p:nvPr/>
          </p:nvSpPr>
          <p:spPr>
            <a:xfrm>
              <a:off x="1333440" y="5705640"/>
              <a:ext cx="371520" cy="3808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85560" y="5648400"/>
              <a:ext cx="371520" cy="381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28680" y="5600880"/>
              <a:ext cx="371520" cy="3808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085840" y="5600880"/>
            <a:ext cx="371520" cy="3808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52800" y="5676840"/>
            <a:ext cx="371160" cy="3812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57680" y="5648400"/>
            <a:ext cx="371160" cy="3808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14560" y="5981760"/>
            <a:ext cx="2574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38400" y="5276880"/>
            <a:ext cx="314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,k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24200" y="5286240"/>
            <a:ext cx="3906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,j,k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90600" y="5991120"/>
            <a:ext cx="30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,j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38480" y="5295960"/>
            <a:ext cx="2570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62240" y="6058080"/>
            <a:ext cx="3808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,j,k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Matematikaj rimed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81360" y="523800"/>
            <a:ext cx="44485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Regulo de sum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n analitika pritrakto de konstruteorioj helpe de vektor- kaj tensorkalkulo ofte aperas sumojn, kies notado povas esti simpligita pere sekvanta sumad-regulo (konvencio lau EINSTEIN) lau unu au pluraj indeksoj r, k, s = 1, 2 . .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      =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kr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1r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2r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3r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  = 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s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r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1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r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2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r3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3k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= 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imile oni povas krei sumojn je pluraj indeksoj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=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rks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rks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=  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11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11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11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11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+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12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12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12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122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+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21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21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21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21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+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22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22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+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22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22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=  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= 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iu sumad-regulo validas nur por du samaj indeksoj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umad-indeksoj (mutaj) povas esti anstatuigitaj per alia indeks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i  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Potenco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devas esti skribita je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r .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k 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d ne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95480" y="2838600"/>
            <a:ext cx="342720" cy="348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71880" y="2895480"/>
            <a:ext cx="390240" cy="317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k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67000" y="2857680"/>
            <a:ext cx="352440" cy="317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33640" y="3790800"/>
            <a:ext cx="419040" cy="348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90600" y="3705120"/>
            <a:ext cx="438480" cy="317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00080" y="1781280"/>
            <a:ext cx="343080" cy="348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76480" y="1647720"/>
            <a:ext cx="590400" cy="317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62240" y="1819440"/>
            <a:ext cx="314280" cy="317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362240" y="1916280"/>
            <a:ext cx="1609560" cy="207720"/>
            <a:chOff x="1362240" y="1916280"/>
            <a:chExt cx="1609560" cy="207720"/>
          </a:xfrm>
        </p:grpSpPr>
        <p:sp>
          <p:nvSpPr>
            <p:cNvPr id="235" name=""/>
            <p:cNvSpPr/>
            <p:nvPr/>
          </p:nvSpPr>
          <p:spPr>
            <a:xfrm>
              <a:off x="1362240" y="1981080"/>
              <a:ext cx="142560" cy="1429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04800" y="1916280"/>
              <a:ext cx="1467000" cy="141120"/>
            </a:xfrm>
            <a:custGeom>
              <a:avLst/>
              <a:gdLst/>
              <a:ahLst/>
              <a:rect l="l" t="t" r="r" b="b"/>
              <a:pathLst>
                <a:path w="924" h="89">
                  <a:moveTo>
                    <a:pt x="0" y="89"/>
                  </a:moveTo>
                  <a:cubicBezTo>
                    <a:pt x="139" y="49"/>
                    <a:pt x="278" y="10"/>
                    <a:pt x="432" y="5"/>
                  </a:cubicBezTo>
                  <a:cubicBezTo>
                    <a:pt x="586" y="0"/>
                    <a:pt x="755" y="29"/>
                    <a:pt x="924" y="5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000240" y="1943280"/>
            <a:ext cx="171720" cy="16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457280" y="2925720"/>
            <a:ext cx="1609560" cy="207720"/>
            <a:chOff x="1457280" y="2925720"/>
            <a:chExt cx="1609560" cy="207720"/>
          </a:xfrm>
        </p:grpSpPr>
        <p:sp>
          <p:nvSpPr>
            <p:cNvPr id="239" name=""/>
            <p:cNvSpPr/>
            <p:nvPr/>
          </p:nvSpPr>
          <p:spPr>
            <a:xfrm>
              <a:off x="1457280" y="2990520"/>
              <a:ext cx="142560" cy="142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99840" y="2925720"/>
              <a:ext cx="1467000" cy="141120"/>
            </a:xfrm>
            <a:custGeom>
              <a:avLst/>
              <a:gdLst/>
              <a:ahLst/>
              <a:rect l="l" t="t" r="r" b="b"/>
              <a:pathLst>
                <a:path w="924" h="89">
                  <a:moveTo>
                    <a:pt x="0" y="89"/>
                  </a:moveTo>
                  <a:cubicBezTo>
                    <a:pt x="139" y="49"/>
                    <a:pt x="278" y="10"/>
                    <a:pt x="432" y="5"/>
                  </a:cubicBezTo>
                  <a:cubicBezTo>
                    <a:pt x="586" y="0"/>
                    <a:pt x="755" y="29"/>
                    <a:pt x="924" y="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3076560" y="2924280"/>
            <a:ext cx="152280" cy="171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476360" y="4030560"/>
            <a:ext cx="1609560" cy="207720"/>
            <a:chOff x="1476360" y="4030560"/>
            <a:chExt cx="1609560" cy="207720"/>
          </a:xfrm>
        </p:grpSpPr>
        <p:sp>
          <p:nvSpPr>
            <p:cNvPr id="243" name=""/>
            <p:cNvSpPr/>
            <p:nvPr/>
          </p:nvSpPr>
          <p:spPr>
            <a:xfrm>
              <a:off x="1476360" y="4095360"/>
              <a:ext cx="142560" cy="142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618920" y="4030560"/>
              <a:ext cx="1467000" cy="141120"/>
            </a:xfrm>
            <a:custGeom>
              <a:avLst/>
              <a:gdLst/>
              <a:ahLst/>
              <a:rect l="l" t="t" r="r" b="b"/>
              <a:pathLst>
                <a:path w="924" h="89">
                  <a:moveTo>
                    <a:pt x="0" y="89"/>
                  </a:moveTo>
                  <a:cubicBezTo>
                    <a:pt x="139" y="49"/>
                    <a:pt x="278" y="10"/>
                    <a:pt x="432" y="5"/>
                  </a:cubicBezTo>
                  <a:cubicBezTo>
                    <a:pt x="586" y="0"/>
                    <a:pt x="755" y="29"/>
                    <a:pt x="924" y="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105000" y="4057560"/>
            <a:ext cx="162000" cy="16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57640" y="3971880"/>
            <a:ext cx="43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62080" y="4781520"/>
            <a:ext cx="476280" cy="348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r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81240" y="4705200"/>
            <a:ext cx="438120" cy="317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r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542960" y="5030640"/>
            <a:ext cx="1609560" cy="207720"/>
            <a:chOff x="1542960" y="5030640"/>
            <a:chExt cx="1609560" cy="207720"/>
          </a:xfrm>
        </p:grpSpPr>
        <p:sp>
          <p:nvSpPr>
            <p:cNvPr id="250" name=""/>
            <p:cNvSpPr/>
            <p:nvPr/>
          </p:nvSpPr>
          <p:spPr>
            <a:xfrm>
              <a:off x="1542960" y="5095440"/>
              <a:ext cx="142560" cy="142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85520" y="5030640"/>
              <a:ext cx="1467000" cy="141120"/>
            </a:xfrm>
            <a:custGeom>
              <a:avLst/>
              <a:gdLst/>
              <a:ahLst/>
              <a:rect l="l" t="t" r="r" b="b"/>
              <a:pathLst>
                <a:path w="924" h="89">
                  <a:moveTo>
                    <a:pt x="0" y="89"/>
                  </a:moveTo>
                  <a:cubicBezTo>
                    <a:pt x="139" y="49"/>
                    <a:pt x="278" y="10"/>
                    <a:pt x="432" y="5"/>
                  </a:cubicBezTo>
                  <a:cubicBezTo>
                    <a:pt x="586" y="0"/>
                    <a:pt x="755" y="29"/>
                    <a:pt x="924" y="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152880" y="5067360"/>
            <a:ext cx="171360" cy="162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52680" y="4991040"/>
            <a:ext cx="314280" cy="317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219800" y="6067440"/>
            <a:ext cx="49536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79600" y="2019240"/>
            <a:ext cx="260280" cy="709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108160" y="2009880"/>
            <a:ext cx="260280" cy="709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784600" y="2028960"/>
            <a:ext cx="260280" cy="709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76520" y="2143080"/>
            <a:ext cx="1162080" cy="68400"/>
          </a:xfrm>
          <a:custGeom>
            <a:avLst/>
            <a:gdLst/>
            <a:ahLst/>
            <a:rect l="l" t="t" r="r" b="b"/>
            <a:pathLst>
              <a:path w="732" h="43">
                <a:moveTo>
                  <a:pt x="0" y="0"/>
                </a:moveTo>
                <a:cubicBezTo>
                  <a:pt x="119" y="20"/>
                  <a:pt x="238" y="41"/>
                  <a:pt x="360" y="42"/>
                </a:cubicBezTo>
                <a:cubicBezTo>
                  <a:pt x="482" y="43"/>
                  <a:pt x="607" y="24"/>
                  <a:pt x="732" y="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57440" y="2371680"/>
            <a:ext cx="1162080" cy="68400"/>
          </a:xfrm>
          <a:custGeom>
            <a:avLst/>
            <a:gdLst/>
            <a:ahLst/>
            <a:rect l="l" t="t" r="r" b="b"/>
            <a:pathLst>
              <a:path w="732" h="43">
                <a:moveTo>
                  <a:pt x="0" y="0"/>
                </a:moveTo>
                <a:cubicBezTo>
                  <a:pt x="119" y="20"/>
                  <a:pt x="238" y="41"/>
                  <a:pt x="360" y="42"/>
                </a:cubicBezTo>
                <a:cubicBezTo>
                  <a:pt x="482" y="43"/>
                  <a:pt x="607" y="24"/>
                  <a:pt x="732" y="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66800" y="2600280"/>
            <a:ext cx="1162080" cy="68400"/>
          </a:xfrm>
          <a:custGeom>
            <a:avLst/>
            <a:gdLst/>
            <a:ahLst/>
            <a:rect l="l" t="t" r="r" b="b"/>
            <a:pathLst>
              <a:path w="732" h="43">
                <a:moveTo>
                  <a:pt x="0" y="0"/>
                </a:moveTo>
                <a:cubicBezTo>
                  <a:pt x="119" y="20"/>
                  <a:pt x="238" y="41"/>
                  <a:pt x="360" y="42"/>
                </a:cubicBezTo>
                <a:cubicBezTo>
                  <a:pt x="482" y="43"/>
                  <a:pt x="607" y="24"/>
                  <a:pt x="732" y="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286000" y="990720"/>
            <a:ext cx="561960" cy="11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62240" y="981000"/>
            <a:ext cx="495000" cy="11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Matematikaj rimed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81360" y="523800"/>
            <a:ext cx="4448520" cy="60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mo kaj produto de objekt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mad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s realigebla nur je obiektoj, kiuj posedas la samajn valencon kaj indekso-dim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= 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, s, k = 1, 2,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du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de du obiektoj formas obiekton, kies valenco  estas sumo de faktor-valencoj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 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k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 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k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 C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produt-elementojn oni formas multiplikante chiun elementon de unua obiekto per chiu elemento de dua obiek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multipliko de obiekton kun konstanto -1 oni povas realigi subtrahon de obiektoj pere sumad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33440" y="1609560"/>
            <a:ext cx="419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47720" y="1276200"/>
            <a:ext cx="95400" cy="10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38360" y="1790640"/>
            <a:ext cx="95040" cy="95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380960" y="1047600"/>
            <a:ext cx="447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86160" y="1447920"/>
            <a:ext cx="48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19200" y="1533600"/>
            <a:ext cx="104760" cy="10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43120" y="1343160"/>
            <a:ext cx="647640" cy="209520"/>
          </a:xfrm>
          <a:custGeom>
            <a:avLst/>
            <a:gdLst/>
            <a:ahLst/>
            <a:rect l="l" t="t" r="r" b="b"/>
            <a:pathLst>
              <a:path w="408" h="132">
                <a:moveTo>
                  <a:pt x="0" y="0"/>
                </a:moveTo>
                <a:cubicBezTo>
                  <a:pt x="33" y="16"/>
                  <a:pt x="130" y="74"/>
                  <a:pt x="198" y="96"/>
                </a:cubicBezTo>
                <a:cubicBezTo>
                  <a:pt x="266" y="118"/>
                  <a:pt x="364" y="124"/>
                  <a:pt x="408" y="13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33400" y="1609560"/>
            <a:ext cx="667080" cy="238320"/>
          </a:xfrm>
          <a:custGeom>
            <a:avLst/>
            <a:gdLst/>
            <a:ahLst/>
            <a:rect l="l" t="t" r="r" b="b"/>
            <a:pathLst>
              <a:path w="396" h="156">
                <a:moveTo>
                  <a:pt x="0" y="156"/>
                </a:moveTo>
                <a:cubicBezTo>
                  <a:pt x="45" y="133"/>
                  <a:pt x="90" y="110"/>
                  <a:pt x="156" y="84"/>
                </a:cubicBezTo>
                <a:cubicBezTo>
                  <a:pt x="222" y="58"/>
                  <a:pt x="309" y="29"/>
                  <a:pt x="396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62240" y="2152800"/>
            <a:ext cx="49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0" y="2171880"/>
            <a:ext cx="552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352520" y="94284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0" y="942840"/>
            <a:ext cx="5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133640" y="2886120"/>
            <a:ext cx="2499120" cy="527760"/>
            <a:chOff x="1133640" y="2886120"/>
            <a:chExt cx="2499120" cy="527760"/>
          </a:xfrm>
        </p:grpSpPr>
        <p:grpSp>
          <p:nvGrpSpPr>
            <p:cNvPr id="278" name=""/>
            <p:cNvGrpSpPr/>
            <p:nvPr/>
          </p:nvGrpSpPr>
          <p:grpSpPr>
            <a:xfrm>
              <a:off x="1133640" y="2886120"/>
              <a:ext cx="1971360" cy="514080"/>
              <a:chOff x="1133640" y="2886120"/>
              <a:chExt cx="1971360" cy="514080"/>
            </a:xfrm>
          </p:grpSpPr>
          <p:sp>
            <p:nvSpPr>
              <p:cNvPr id="279" name=""/>
              <p:cNvSpPr/>
              <p:nvPr/>
            </p:nvSpPr>
            <p:spPr>
              <a:xfrm>
                <a:off x="1133640" y="3057480"/>
                <a:ext cx="342720" cy="3175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209680" y="2886120"/>
                <a:ext cx="590760" cy="348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ij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1" name=""/>
              <p:cNvGrpSpPr/>
              <p:nvPr/>
            </p:nvGrpSpPr>
            <p:grpSpPr>
              <a:xfrm>
                <a:off x="1495440" y="3192480"/>
                <a:ext cx="1609560" cy="207720"/>
                <a:chOff x="1495440" y="3192480"/>
                <a:chExt cx="1609560" cy="20772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495440" y="3257280"/>
                  <a:ext cx="142560" cy="142920"/>
                </a:xfrm>
                <a:prstGeom prst="rect">
                  <a:avLst/>
                </a:prstGeom>
                <a:solidFill>
                  <a:srgbClr val="00cc99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638000" y="3192480"/>
                  <a:ext cx="1467000" cy="141120"/>
                </a:xfrm>
                <a:custGeom>
                  <a:avLst/>
                  <a:gdLst/>
                  <a:ahLst/>
                  <a:rect l="l" t="t" r="r" b="b"/>
                  <a:pathLst>
                    <a:path w="924" h="89">
                      <a:moveTo>
                        <a:pt x="0" y="89"/>
                      </a:moveTo>
                      <a:cubicBezTo>
                        <a:pt x="139" y="49"/>
                        <a:pt x="278" y="10"/>
                        <a:pt x="432" y="5"/>
                      </a:cubicBezTo>
                      <a:cubicBezTo>
                        <a:pt x="586" y="0"/>
                        <a:pt x="755" y="29"/>
                        <a:pt x="924" y="59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4" name=""/>
            <p:cNvSpPr/>
            <p:nvPr/>
          </p:nvSpPr>
          <p:spPr>
            <a:xfrm>
              <a:off x="3266280" y="3106800"/>
              <a:ext cx="3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114720" y="3219480"/>
              <a:ext cx="1620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1100160" y="3021120"/>
            <a:ext cx="493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k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181160" y="3971880"/>
            <a:ext cx="2499120" cy="527760"/>
            <a:chOff x="1181160" y="3971880"/>
            <a:chExt cx="2499120" cy="527760"/>
          </a:xfrm>
        </p:grpSpPr>
        <p:grpSp>
          <p:nvGrpSpPr>
            <p:cNvPr id="288" name=""/>
            <p:cNvGrpSpPr/>
            <p:nvPr/>
          </p:nvGrpSpPr>
          <p:grpSpPr>
            <a:xfrm>
              <a:off x="1181160" y="3971880"/>
              <a:ext cx="1971360" cy="514080"/>
              <a:chOff x="1181160" y="3971880"/>
              <a:chExt cx="1971360" cy="514080"/>
            </a:xfrm>
          </p:grpSpPr>
          <p:sp>
            <p:nvSpPr>
              <p:cNvPr id="289" name=""/>
              <p:cNvSpPr/>
              <p:nvPr/>
            </p:nvSpPr>
            <p:spPr>
              <a:xfrm>
                <a:off x="1181160" y="4143240"/>
                <a:ext cx="342720" cy="3175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257200" y="3971880"/>
                <a:ext cx="590760" cy="3175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1542960" y="4278240"/>
                <a:ext cx="1609560" cy="207720"/>
                <a:chOff x="1542960" y="4278240"/>
                <a:chExt cx="1609560" cy="2077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1542960" y="4343040"/>
                  <a:ext cx="142560" cy="142920"/>
                </a:xfrm>
                <a:prstGeom prst="rect">
                  <a:avLst/>
                </a:prstGeom>
                <a:solidFill>
                  <a:srgbClr val="00cc99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685520" y="4278240"/>
                  <a:ext cx="1467000" cy="141120"/>
                </a:xfrm>
                <a:custGeom>
                  <a:avLst/>
                  <a:gdLst/>
                  <a:ahLst/>
                  <a:rect l="l" t="t" r="r" b="b"/>
                  <a:pathLst>
                    <a:path w="924" h="89">
                      <a:moveTo>
                        <a:pt x="0" y="89"/>
                      </a:moveTo>
                      <a:cubicBezTo>
                        <a:pt x="139" y="49"/>
                        <a:pt x="278" y="10"/>
                        <a:pt x="432" y="5"/>
                      </a:cubicBezTo>
                      <a:cubicBezTo>
                        <a:pt x="586" y="0"/>
                        <a:pt x="755" y="29"/>
                        <a:pt x="924" y="59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4" name=""/>
            <p:cNvSpPr/>
            <p:nvPr/>
          </p:nvSpPr>
          <p:spPr>
            <a:xfrm>
              <a:off x="3313800" y="4192560"/>
              <a:ext cx="3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62240" y="4305240"/>
              <a:ext cx="1620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1276200" y="4078440"/>
            <a:ext cx="3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Matematikaj rimed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76720" y="704880"/>
            <a:ext cx="3390840" cy="42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ontrakcio de objekt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 pritraktu obiekton kun subaj kaj supraj indeksoj, kies valenco estas minimum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ekzemple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s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je valenco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kazo, kiam du indeksoj egalas, ekz. k = 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am ni ricevos obiekt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j povas mallongigi ghin lau sumad-regulo; sekve ni ricevas obiekton je valenco 3, kaj por indekso k=1,2,3 rezult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= 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j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j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j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= 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zulte de kontrakci-operacio la valenco de obiekto kuntirighas po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petado de kontrakci-operacioj por paraj indeksoj povas gvidi al obiekto de valenco 0, do al nevarianto / konstant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448000" y="2914560"/>
            <a:ext cx="50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1257480" y="1762200"/>
            <a:ext cx="2560680" cy="561960"/>
            <a:chOff x="1257480" y="1762200"/>
            <a:chExt cx="2560680" cy="561960"/>
          </a:xfrm>
        </p:grpSpPr>
        <p:grpSp>
          <p:nvGrpSpPr>
            <p:cNvPr id="301" name=""/>
            <p:cNvGrpSpPr/>
            <p:nvPr/>
          </p:nvGrpSpPr>
          <p:grpSpPr>
            <a:xfrm>
              <a:off x="1257480" y="1933560"/>
              <a:ext cx="2047680" cy="390600"/>
              <a:chOff x="1257480" y="1933560"/>
              <a:chExt cx="2047680" cy="390600"/>
            </a:xfrm>
          </p:grpSpPr>
          <p:sp>
            <p:nvSpPr>
              <p:cNvPr id="302" name=""/>
              <p:cNvSpPr/>
              <p:nvPr/>
            </p:nvSpPr>
            <p:spPr>
              <a:xfrm>
                <a:off x="1333440" y="1981080"/>
                <a:ext cx="343080" cy="3175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257480" y="1933560"/>
                <a:ext cx="590400" cy="348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ijk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rs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4" name=""/>
              <p:cNvGrpSpPr/>
              <p:nvPr/>
            </p:nvGrpSpPr>
            <p:grpSpPr>
              <a:xfrm>
                <a:off x="1695600" y="2116080"/>
                <a:ext cx="1609560" cy="208080"/>
                <a:chOff x="1695600" y="2116080"/>
                <a:chExt cx="1609560" cy="20808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1695600" y="2181240"/>
                  <a:ext cx="142560" cy="142920"/>
                </a:xfrm>
                <a:prstGeom prst="rect">
                  <a:avLst/>
                </a:prstGeom>
                <a:solidFill>
                  <a:srgbClr val="00cc99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838160" y="2116080"/>
                  <a:ext cx="1467000" cy="141480"/>
                </a:xfrm>
                <a:custGeom>
                  <a:avLst/>
                  <a:gdLst/>
                  <a:ahLst/>
                  <a:rect l="l" t="t" r="r" b="b"/>
                  <a:pathLst>
                    <a:path w="924" h="89">
                      <a:moveTo>
                        <a:pt x="0" y="89"/>
                      </a:moveTo>
                      <a:cubicBezTo>
                        <a:pt x="139" y="49"/>
                        <a:pt x="278" y="10"/>
                        <a:pt x="432" y="5"/>
                      </a:cubicBezTo>
                      <a:cubicBezTo>
                        <a:pt x="586" y="0"/>
                        <a:pt x="755" y="29"/>
                        <a:pt x="924" y="59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7" name=""/>
            <p:cNvGrpSpPr/>
            <p:nvPr/>
          </p:nvGrpSpPr>
          <p:grpSpPr>
            <a:xfrm>
              <a:off x="2325600" y="1762200"/>
              <a:ext cx="1492560" cy="552240"/>
              <a:chOff x="2325600" y="1762200"/>
              <a:chExt cx="1492560" cy="552240"/>
            </a:xfrm>
          </p:grpSpPr>
          <p:sp>
            <p:nvSpPr>
              <p:cNvPr id="308" name=""/>
              <p:cNvSpPr/>
              <p:nvPr/>
            </p:nvSpPr>
            <p:spPr>
              <a:xfrm>
                <a:off x="3314880" y="2143080"/>
                <a:ext cx="161640" cy="152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438000" y="1973160"/>
                <a:ext cx="380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ij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476440" y="1943280"/>
                <a:ext cx="95400" cy="371160"/>
              </a:xfrm>
              <a:custGeom>
                <a:avLst/>
                <a:gdLst/>
                <a:ahLst/>
                <a:rect l="l" t="t" r="r" b="b"/>
                <a:pathLst>
                  <a:path w="60" h="234">
                    <a:moveTo>
                      <a:pt x="18" y="0"/>
                    </a:moveTo>
                    <a:lnTo>
                      <a:pt x="60" y="0"/>
                    </a:lnTo>
                    <a:lnTo>
                      <a:pt x="0" y="234"/>
                    </a:lnTo>
                    <a:lnTo>
                      <a:pt x="42" y="23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325600" y="1762200"/>
                <a:ext cx="47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 = k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2" name=""/>
          <p:cNvSpPr/>
          <p:nvPr/>
        </p:nvSpPr>
        <p:spPr>
          <a:xfrm>
            <a:off x="2401920" y="2286000"/>
            <a:ext cx="26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400040" y="3848040"/>
            <a:ext cx="343080" cy="317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95280" y="3762360"/>
            <a:ext cx="476280" cy="348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62200" y="4038480"/>
            <a:ext cx="142920" cy="1429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905120" y="4030560"/>
            <a:ext cx="866520" cy="84240"/>
          </a:xfrm>
          <a:custGeom>
            <a:avLst/>
            <a:gdLst/>
            <a:ahLst/>
            <a:rect l="l" t="t" r="r" b="b"/>
            <a:pathLst>
              <a:path w="924" h="89">
                <a:moveTo>
                  <a:pt x="0" y="89"/>
                </a:moveTo>
                <a:cubicBezTo>
                  <a:pt x="139" y="49"/>
                  <a:pt x="278" y="10"/>
                  <a:pt x="432" y="5"/>
                </a:cubicBezTo>
                <a:cubicBezTo>
                  <a:pt x="586" y="0"/>
                  <a:pt x="755" y="29"/>
                  <a:pt x="924" y="5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90720" y="4010040"/>
            <a:ext cx="16200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21960" y="412596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43240" y="3848040"/>
            <a:ext cx="95040" cy="371520"/>
          </a:xfrm>
          <a:custGeom>
            <a:avLst/>
            <a:gdLst/>
            <a:ahLst/>
            <a:rect l="l" t="t" r="r" b="b"/>
            <a:pathLst>
              <a:path w="60" h="234">
                <a:moveTo>
                  <a:pt x="18" y="0"/>
                </a:moveTo>
                <a:lnTo>
                  <a:pt x="60" y="0"/>
                </a:lnTo>
                <a:lnTo>
                  <a:pt x="0" y="234"/>
                </a:lnTo>
                <a:lnTo>
                  <a:pt x="42" y="23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01760" y="3666960"/>
            <a:ext cx="4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 = k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68360" y="4172040"/>
            <a:ext cx="26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990880" y="4002120"/>
            <a:ext cx="866880" cy="84240"/>
          </a:xfrm>
          <a:custGeom>
            <a:avLst/>
            <a:gdLst/>
            <a:ahLst/>
            <a:rect l="l" t="t" r="r" b="b"/>
            <a:pathLst>
              <a:path w="924" h="89">
                <a:moveTo>
                  <a:pt x="0" y="89"/>
                </a:moveTo>
                <a:cubicBezTo>
                  <a:pt x="139" y="49"/>
                  <a:pt x="278" y="10"/>
                  <a:pt x="432" y="5"/>
                </a:cubicBezTo>
                <a:cubicBezTo>
                  <a:pt x="586" y="0"/>
                  <a:pt x="755" y="29"/>
                  <a:pt x="924" y="5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52680" y="3838680"/>
            <a:ext cx="95400" cy="371520"/>
          </a:xfrm>
          <a:custGeom>
            <a:avLst/>
            <a:gdLst/>
            <a:ahLst/>
            <a:rect l="l" t="t" r="r" b="b"/>
            <a:pathLst>
              <a:path w="60" h="234">
                <a:moveTo>
                  <a:pt x="18" y="0"/>
                </a:moveTo>
                <a:lnTo>
                  <a:pt x="60" y="0"/>
                </a:lnTo>
                <a:lnTo>
                  <a:pt x="0" y="234"/>
                </a:lnTo>
                <a:lnTo>
                  <a:pt x="42" y="23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20920" y="3648240"/>
            <a:ext cx="4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 = 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68800" y="4172040"/>
            <a:ext cx="24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76840" y="3962520"/>
            <a:ext cx="180720" cy="171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963960" y="3743280"/>
            <a:ext cx="46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943360" y="5086440"/>
            <a:ext cx="361800" cy="253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/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000160" y="5095800"/>
            <a:ext cx="362160" cy="253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/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Matematikaj rimed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076720" y="704880"/>
            <a:ext cx="3629160" cy="63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bjektoj simetria kaj antisimet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metri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biekto je valenco 2  estas tiu, kies elementoj ne shanghighas post aliigo de du indeksoj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 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kr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     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k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bsolute simetri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stas obiekto se chiu permutacio de du supraj au subaj indeksoj ne shanghas valoron de elementoj: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s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k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krs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sr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sk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k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tisimetri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biekto shanghas valoron de elementoj je kontraua che aliigo de du indeksoj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 -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kr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     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 -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k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e,  por  r = k  validas: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k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0,    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k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bsolute antisimetri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stas obiekto se permutacio de du supraj au subaj indeksoj nur la antausigno shanghigh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s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-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k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krs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-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sr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sk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-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k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he para permutacio antausigno ne shanghighas, che nepara permutacio shanghighas antausigno de elementoj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kzemp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kto je valenco 2 Povas esti dispartigita je simetria kaj antisimetria obiektoj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(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k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/2 + (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k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/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48000" y="2914560"/>
            <a:ext cx="50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276200" y="1933560"/>
            <a:ext cx="2028960" cy="390600"/>
            <a:chOff x="1276200" y="1933560"/>
            <a:chExt cx="2028960" cy="390600"/>
          </a:xfrm>
        </p:grpSpPr>
        <p:sp>
          <p:nvSpPr>
            <p:cNvPr id="334" name=""/>
            <p:cNvSpPr/>
            <p:nvPr/>
          </p:nvSpPr>
          <p:spPr>
            <a:xfrm>
              <a:off x="1333440" y="1981080"/>
              <a:ext cx="343080" cy="3175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276200" y="1933560"/>
              <a:ext cx="381240" cy="3175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k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1695600" y="2116080"/>
              <a:ext cx="1609560" cy="208080"/>
              <a:chOff x="1695600" y="2116080"/>
              <a:chExt cx="1609560" cy="208080"/>
            </a:xfrm>
          </p:grpSpPr>
          <p:sp>
            <p:nvSpPr>
              <p:cNvPr id="337" name=""/>
              <p:cNvSpPr/>
              <p:nvPr/>
            </p:nvSpPr>
            <p:spPr>
              <a:xfrm>
                <a:off x="1695600" y="2181240"/>
                <a:ext cx="142560" cy="14292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838160" y="2116080"/>
                <a:ext cx="1467000" cy="141480"/>
              </a:xfrm>
              <a:custGeom>
                <a:avLst/>
                <a:gdLst/>
                <a:ahLst/>
                <a:rect l="l" t="t" r="r" b="b"/>
                <a:pathLst>
                  <a:path w="924" h="89">
                    <a:moveTo>
                      <a:pt x="0" y="89"/>
                    </a:moveTo>
                    <a:cubicBezTo>
                      <a:pt x="139" y="49"/>
                      <a:pt x="278" y="10"/>
                      <a:pt x="432" y="5"/>
                    </a:cubicBezTo>
                    <a:cubicBezTo>
                      <a:pt x="586" y="0"/>
                      <a:pt x="755" y="29"/>
                      <a:pt x="924" y="5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9" name=""/>
          <p:cNvSpPr/>
          <p:nvPr/>
        </p:nvSpPr>
        <p:spPr>
          <a:xfrm>
            <a:off x="2325600" y="2095560"/>
            <a:ext cx="55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400040" y="3848040"/>
            <a:ext cx="343080" cy="317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86240" y="3409920"/>
            <a:ext cx="466560" cy="348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r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71760" y="3648240"/>
            <a:ext cx="142920" cy="14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457440" y="1924200"/>
            <a:ext cx="381240" cy="317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r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14880" y="2143080"/>
            <a:ext cx="161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685880" y="2152800"/>
            <a:ext cx="1620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95800" y="2133720"/>
            <a:ext cx="199800" cy="19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1324080" y="3448080"/>
            <a:ext cx="2027880" cy="390600"/>
            <a:chOff x="1324080" y="3448080"/>
            <a:chExt cx="2027880" cy="390600"/>
          </a:xfrm>
        </p:grpSpPr>
        <p:sp>
          <p:nvSpPr>
            <p:cNvPr id="348" name=""/>
            <p:cNvSpPr/>
            <p:nvPr/>
          </p:nvSpPr>
          <p:spPr>
            <a:xfrm>
              <a:off x="1380960" y="3495600"/>
              <a:ext cx="342720" cy="3175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324080" y="3448080"/>
              <a:ext cx="380880" cy="3481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k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1743120" y="3630600"/>
              <a:ext cx="1608840" cy="208080"/>
              <a:chOff x="1743120" y="3630600"/>
              <a:chExt cx="1608840" cy="208080"/>
            </a:xfrm>
          </p:grpSpPr>
          <p:sp>
            <p:nvSpPr>
              <p:cNvPr id="351" name=""/>
              <p:cNvSpPr/>
              <p:nvPr/>
            </p:nvSpPr>
            <p:spPr>
              <a:xfrm>
                <a:off x="1743120" y="3695760"/>
                <a:ext cx="142200" cy="14292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885320" y="3630600"/>
                <a:ext cx="1466640" cy="141480"/>
              </a:xfrm>
              <a:custGeom>
                <a:avLst/>
                <a:gdLst/>
                <a:ahLst/>
                <a:rect l="l" t="t" r="r" b="b"/>
                <a:pathLst>
                  <a:path w="924" h="89">
                    <a:moveTo>
                      <a:pt x="0" y="89"/>
                    </a:moveTo>
                    <a:cubicBezTo>
                      <a:pt x="139" y="49"/>
                      <a:pt x="278" y="10"/>
                      <a:pt x="432" y="5"/>
                    </a:cubicBezTo>
                    <a:cubicBezTo>
                      <a:pt x="586" y="0"/>
                      <a:pt x="755" y="29"/>
                      <a:pt x="924" y="5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3" name=""/>
          <p:cNvSpPr/>
          <p:nvPr/>
        </p:nvSpPr>
        <p:spPr>
          <a:xfrm>
            <a:off x="2344680" y="3314880"/>
            <a:ext cx="55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411280" y="3429000"/>
            <a:ext cx="30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8000" y="4552920"/>
            <a:ext cx="466560" cy="348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r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23960" y="4876920"/>
            <a:ext cx="16200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00200" y="5743440"/>
            <a:ext cx="114480" cy="133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09680" y="5734080"/>
            <a:ext cx="114480" cy="133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962440" y="5724360"/>
            <a:ext cx="114120" cy="133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7280" y="5829480"/>
            <a:ext cx="46692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r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066760" y="5819760"/>
            <a:ext cx="46692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k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857680" y="5800680"/>
            <a:ext cx="4665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r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409920" y="5800680"/>
            <a:ext cx="46692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k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390680" y="5600880"/>
            <a:ext cx="1076400" cy="59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800440" y="5581800"/>
            <a:ext cx="10382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895400" y="4962600"/>
            <a:ext cx="609840" cy="638280"/>
          </a:xfrm>
          <a:custGeom>
            <a:avLst/>
            <a:gdLst/>
            <a:ahLst/>
            <a:rect l="l" t="t" r="r" b="b"/>
            <a:pathLst>
              <a:path w="384" h="402">
                <a:moveTo>
                  <a:pt x="0" y="402"/>
                </a:moveTo>
                <a:cubicBezTo>
                  <a:pt x="25" y="285"/>
                  <a:pt x="50" y="169"/>
                  <a:pt x="114" y="102"/>
                </a:cubicBezTo>
                <a:cubicBezTo>
                  <a:pt x="178" y="35"/>
                  <a:pt x="281" y="17"/>
                  <a:pt x="384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695680" y="4952880"/>
            <a:ext cx="685800" cy="628920"/>
          </a:xfrm>
          <a:custGeom>
            <a:avLst/>
            <a:gdLst/>
            <a:ahLst/>
            <a:rect l="l" t="t" r="r" b="b"/>
            <a:pathLst>
              <a:path w="432" h="396">
                <a:moveTo>
                  <a:pt x="432" y="396"/>
                </a:moveTo>
                <a:cubicBezTo>
                  <a:pt x="417" y="276"/>
                  <a:pt x="402" y="156"/>
                  <a:pt x="330" y="90"/>
                </a:cubicBezTo>
                <a:cubicBezTo>
                  <a:pt x="258" y="24"/>
                  <a:pt x="129" y="12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95360" y="6448320"/>
            <a:ext cx="1620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66960" y="6353280"/>
            <a:ext cx="60012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r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62200" y="6372360"/>
            <a:ext cx="1533600" cy="36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610000" y="5029200"/>
            <a:ext cx="0" cy="1352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42840" y="5438880"/>
            <a:ext cx="628920" cy="413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met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kt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95600" y="5391000"/>
            <a:ext cx="847800" cy="413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isimet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kt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24400" y="5715000"/>
            <a:ext cx="114120" cy="13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752480" y="5934240"/>
            <a:ext cx="514440" cy="48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2476080" y="5857920"/>
            <a:ext cx="466920" cy="561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343240" y="5934240"/>
            <a:ext cx="514440" cy="48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2999880" y="5886360"/>
            <a:ext cx="466920" cy="561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762280" y="6351480"/>
            <a:ext cx="2667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38600" y="6458040"/>
            <a:ext cx="161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581200" y="6353280"/>
            <a:ext cx="3049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438280" y="5362560"/>
            <a:ext cx="362160" cy="253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/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Matematikaj rimed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43360" y="704880"/>
            <a:ext cx="4248360" cy="62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876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pecialaj objekt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51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)  e-objek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u antisimetria objek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876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e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ij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51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es  elementoj valoras nur 0, +1, -1  no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51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 lauvolaj du indeksoj ega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51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/  e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ijk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 indeksoj igas paran permut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51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se indeksoj igas neparan permut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51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51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) 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objek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51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to de objektoj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j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st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s miksobjekton je valenco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876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)  KRONECKER-simbolo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fino:       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 i = j , alikaze =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51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 KRONECKER-simboloj valida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876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k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jk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51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j ili permesa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tataui indeksoj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876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876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j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915160" y="2133720"/>
            <a:ext cx="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924520" y="2124000"/>
            <a:ext cx="8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915160" y="298116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4T07:35:16Z</dcterms:created>
  <dc:creator>Rudolf</dc:creator>
  <dc:description/>
  <dc:language>en-US</dc:language>
  <cp:lastModifiedBy>Rudolf</cp:lastModifiedBy>
  <dcterms:modified xsi:type="dcterms:W3CDTF">2004-02-29T17:18:47Z</dcterms:modified>
  <cp:revision>23</cp:revision>
  <dc:subject/>
  <dc:title>Kein Folientitel</dc:title>
</cp:coreProperties>
</file>