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316-27C1-4131-88BB-0F73637B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3D9-5CDF-41BF-BC25-E73C2D65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6C3-EE00-47FD-B4F3-598D42E0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C06-41A3-4B19-A4ED-B6CAED16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477-99E3-4CD8-83F0-DEB838F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8DD-DB5F-47AC-9613-28F4F59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FF3-0CFF-4246-9C59-3BA0A3E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EB6-C51B-49A6-8B65-B5ED120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0CA-06B7-4134-8C15-6F53F897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F29-8C51-45AA-961D-D3E1497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1FB-94BA-45B4-AEBD-B4F369BE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BCC-AF77-4A46-B066-5C3EA345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ADB-E709-42D8-9D18-0B06C660A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esktop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indek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5480" y="914400"/>
            <a:ext cx="218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dolf  Ko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0"/>
            <a:ext cx="2590920" cy="6858000"/>
          </a:xfrm>
          <a:prstGeom prst="rect">
            <a:avLst/>
          </a:prstGeom>
          <a:solidFill>
            <a:srgbClr val="b7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200400"/>
            <a:ext cx="5334120" cy="3124080"/>
          </a:xfrm>
          <a:prstGeom prst="rect">
            <a:avLst/>
          </a:prstGeom>
          <a:solidFill>
            <a:srgbClr val="b7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71840" y="3429000"/>
            <a:ext cx="19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Put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9640" y="3914640"/>
            <a:ext cx="208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sa komercado per op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3371760" y="53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Enh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6200" y="56674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Bazono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2360" y="5648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3333cc"/>
                </a:solidFill>
                <a:latin typeface="Arial"/>
              </a:rPr>
              <a:t>FX </a:t>
            </a: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-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76440" y="5657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3333cc"/>
                </a:solidFill>
                <a:latin typeface="Arial"/>
              </a:rPr>
              <a:t>U -</a:t>
            </a: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86440" y="56577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Futuru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838080"/>
            <a:ext cx="236232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zentata estas nova priskrib-metodo de borsaj strategioj per opcioj, surbaze de kibernetikaj premisoj .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u metodo esence faciligas ekkomprenon kaj studadon de opciaj strategioj same por komencantoj kiel por fakuloj.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Ĝi ebligas komplekse analizi opciostrukturon sen trouzado da verbaj klarigoj, kaj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rafike sekvi ĉiujn aspektoj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 - altigi kvaliton de instru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876920"/>
            <a:ext cx="236232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Indikoj por uzan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iuj modjuloj estas provizore disponeblaj nur kiel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prezentaĵo, do  platform-depend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onvolu ĉiam elekti la reĝimon "ekran-prezentado"  kiel vidig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2560" y="4295880"/>
            <a:ext cx="95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pen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3238560" y="534348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1143000" y="5715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2371680" y="570564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3648240" y="570564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991040" y="570564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8840" y="29862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MS PowerPoint *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1:41:51Z</dcterms:created>
  <dc:creator>Martin</dc:creator>
  <dc:description/>
  <dc:language>en-US</dc:language>
  <cp:lastModifiedBy>Martin</cp:lastModifiedBy>
  <dcterms:modified xsi:type="dcterms:W3CDTF">2005-12-01T13:57:44Z</dcterms:modified>
  <cp:revision>3</cp:revision>
  <dc:subject/>
  <dc:title>indekso</dc:title>
</cp:coreProperties>
</file>